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1E0-C770-4F68-910A-038E892C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327-98C0-46EE-B8D6-B3430986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0F2-08C9-423B-9419-F640B30C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2D4-535F-4FDB-93D6-6726C05F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A9C-2BF0-4E26-9E7F-995920F5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970-1CA8-4995-A400-2E2F56A3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728-E8DF-4241-8A74-4FE89BEB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DFC-9D54-45C6-ABA7-F6078468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1E0-6F95-403F-8E58-0FE4F6AB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BE4-94CA-4623-A65E-7E9A7542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8AC-B371-4944-9B88-00B2D8B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7E0-04F3-43A9-90D1-78041942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8096-895B-4861-901E-76D0FAA43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pidemiologija transmisivnih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sl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o zar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 borav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u prirodni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. To se na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dogadja izletnicima, turistima, planinarima, ali transmisivne bolesti mogu biti i 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profesionalne bolesti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mara, lovaca, lov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vara, zemljoradnika i st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a, tj. svih onih koji rade na otvorenom prostoru, u prirodni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 transmisivnih bolesti. Ne treba zaboraviti da s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ci nekih transmisivnih zaraznih bolesti i njihovi vektori mogu 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i u gradskoj sredini (u parkovima, na travnjacima), ka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o je to sl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 sa Lajmskom bol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ć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ji j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borelija Burdorgferi, a vektor krpel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retanje uzro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, rezervoara ili vektora mo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se odvijati i u pravcu ljudskih naseobina.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T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eći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hranu divl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i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otinje se mogu veoma pribl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i ljudskim naseljima (na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seoskim), ali i ako se prev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namn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(ili u nedostatku glavnog dom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a) i vektori  u 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m broju mogu da se pojave u naseljima gd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e ljudi. Na taj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se prirodno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e iz “divlje prirode” pribl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 urbanim prostori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Pacovska buva parazitira na pacovima. Kod pojave kuge medju pacovima, s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krv buve se i same inficiraju. Medju obolelim pacovima nastupa pravi pomor, a buve se sele na nove, j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neza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e pacove kojima prenose opaku bolest. Kada se populacija pacova toliko smanji (epizootija kuge medju pacovima), buve t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nove dom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, pa tako prelaze i n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, izazivaj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oboljenja i kod njih (bubonska kuga). Kasnije, medju ljudima, kuga s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ri aerogeno, dovod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do pl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og i sept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g oblika bole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ajčešći vektori transmisivnih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77724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rakteristike epidemija transmisivnih bole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sve epidemije taransmisivnih bolesti su 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sezonskog karakter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i vezane su za najve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aktivnost vekt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roj obolelih, obi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o nije veliki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, mada se mogu javiti i ve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epidemije (malarije, kuge,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te groznice,pegavca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pidemije se obi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o javljaju 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prirodnim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transmisivnih bolest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pojedine epidemije transmisivnih bolesti javljaj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vanrednim situacijam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npr. epidemija pegavog tifusa u ratnim uslovim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jmasovnije epidemije se javljaju u tropskim oblastim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filarijaza, tripanozomijaza, malarij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epidemijama 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bligatno transmisivnih bolesti oboljenje se ne prenosi sa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 na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, madutim kod fakultativno transmisivnih, pored vektora kao putevi preno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uzro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mogu biti i kontakt, voda, vazduh, zemlji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e ili hr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kon zavr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tka epidemija, bolest se u zahv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om podr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ju </a:t>
            </a:r>
            <a:r>
              <a:rPr b="1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demizira</a:t>
            </a:r>
            <a:r>
              <a:rPr b="0" lang="en-US" sz="1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Roman Y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jzn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ije mere usmerene prema vektorima bolesti s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Roman YU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dezinsekcij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Roman YU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su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anje mo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ara i bar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Roman YU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potreba repelenata (sredstava koja odbijaju insek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ransmisivne (vektorske)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i pojedinih zaraznih bolesti se sa obolelog na osetljivu  osobu prenose  i pom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t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 organizama - vektora, koji su iz roda zglavkara (arthropoda), a medju njima su najv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ji iz klase insekata. Na ovaj 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 prenose bolesti od kojih boluju 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otinje i ljudi (antropozoonoze), ali i bolesti od kojih boluje samo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k (antroponoze).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i ovih bolesti su razl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 mikroorganizmi: bakterije, rikecije, virusi ili protozo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eke bolesti koje se prenose vektorima mogu se prenositi i na druge n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 : dodirom, hranom, p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om (tularemija) i one se nazivaju </a:t>
            </a:r>
            <a:r>
              <a:rPr b="1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fakultativnim 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vektorskim (transmisivnim) bolestima. Za razliku od njih, one koje se prenose isklj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 vektorima (malarija, pegavi tifus) nazivaju se </a:t>
            </a:r>
            <a:r>
              <a:rPr b="1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bligatnim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vektorskim bolesti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loga vektora u preno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u zaraznih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ože biti: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biološk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ehan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) Biolo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uloga vektora je mnogo komplikovanija. Ona podrazumeva da s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neko vreme za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 u organizmu vektora, da u njemu sazreva ili da se razmn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, a mehanizam za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nj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 (ili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) m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biti dvoj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okulacijim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: prilikom uboda, kroz rilicu vektora izaziv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 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olesti se inokulira u makroorganizam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ntaminacijom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: vektor sekretuje ili ekskretuj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(fecesom) na k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a, a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u organizam prodire kroz 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na k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(na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nastala nakon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enj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) Mehan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, kada vektor meha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i (na krilima, n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cama, telu) prenosi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e sa obolele na zdravu osobu ili zagadjuje raz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e predmete ili hranu. Tako, na primer,  ob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a 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dom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 muv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M</a:t>
            </a:r>
            <a:r>
              <a:rPr b="0" i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sca domestic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na svome telu m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da prenese raz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e crevnih zaraznih bolesti, da zagadi hranu koja, kasnije, postaje put pren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(ovde se radi o kombinaciji dva raz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a puta pren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ja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)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alska muva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S</a:t>
            </a:r>
            <a:r>
              <a:rPr b="0" i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omoxis calcitrans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na s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n 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m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da prenese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antraksa, ali direktno na k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osetljive osobe. Na ovaj 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 u tropima </a:t>
            </a:r>
            <a:r>
              <a:rPr b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badi 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abanidae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prenose s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 n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u neke bolesti izazvane tripanozoma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ako se vidi, ovde se ne radi o pravim transmisivnim bolestima (jer je uloga vektor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sto meha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a), tj vektor kontaktom prenosi uzr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sa obolele na zdravu osob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d vektorskih (transmisivnih) bolesti ulazno mesto infekcije je nez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na k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 (delovi k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dostupni ubodima zglavkara), a kod fakultativnih transmisivnih bolesti to 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biti i sluzok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 respiratornog (kuga) ili digestivnog trakta (Q groznica, tularemij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Glavni i sporedni domać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Kod mikroorganizama koji u svom razvoju imaju polnu i bespolnu fazu, a parazitiraju i 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u i u vektoru, </a:t>
            </a:r>
            <a:r>
              <a:rPr b="1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glavni dom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je onaj u kome parazit dost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e svoju polnu zrelo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sl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u malarije, komarac je glavni do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 (polna faza razvoja se odigrava u komarcu), a sporedni j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 sl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u filarijaze situacija je obrnut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 je glavni, a komarac sporedni do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Rezervoari agen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ektor se zarazi s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krv neke krupnij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 (koja predstavlja stalni rezervoar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) il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(npr. kod malarije ili pegavog tifus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Medjutim, i sami vektori mogu biti rezervoari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, kada se uzr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 u vektoru prenosi transovarijalno i na njegovo potomstvo, kao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o je to sl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 kod nekih krpelja i grin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Biocenoza i prirodna žariš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prirodnim uslovima sitni glodari predstavljaju rezervoar mnogih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a transmisivnih bolesti. Na njima parazitira veliki broj artropoda hran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se njihovom krvlju, koje prelaz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na drug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e ubodom ili kontaminacijom za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ju i njih. Na taj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,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povezani razl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tim lancima ishran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opstaju i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e mnog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ske vrste (tzv.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iocenoz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 i o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ju s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ci transmisivnih zaraza u svojim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“prirodnim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” (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geografski delovi prostora u kojima se stalno odr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va neka transmisivna zaraz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).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ovek se na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ešće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zarazi bora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 u prirodnim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ima, sl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o, jer postaje deo lanca ishrane, tj. sl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jno stupa u biocenozu koju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 uz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nik, vektor i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i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Roman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Mesta,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otni prostori u kojima se odr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ju prirodn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a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nazivaju se </a:t>
            </a:r>
            <a:r>
              <a:rPr b="1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biotopi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 i to su, uglavnom, 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 geografska podru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ja u jednoj 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i ili cela d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va. Manja mesta (rupe, jazbine, p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ne) u kojim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ive sitni glodari (rezervoari zaraze) nazivaju se “elementarn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ar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Roman YU"/>
                <a:ea typeface="Times New Roman"/>
              </a:rPr>
              <a:t>t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6:50:18Z</dcterms:created>
  <dc:creator>IZJZ</dc:creator>
  <dc:description/>
  <dc:language>en-US</dc:language>
  <cp:lastModifiedBy>IZJZ</cp:lastModifiedBy>
  <dcterms:modified xsi:type="dcterms:W3CDTF">2011-05-11T10:05:03Z</dcterms:modified>
  <cp:revision>3</cp:revision>
  <dc:subject/>
  <dc:title>Epidemiologija transmisivnbih bolesti</dc:title>
</cp:coreProperties>
</file>