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26.jpeg" ContentType="image/jpeg"/>
  <Override PartName="/ppt/media/image22.png" ContentType="image/png"/>
  <Override PartName="/ppt/media/image21.jpeg" ContentType="image/jpeg"/>
  <Override PartName="/ppt/media/image32.wmf" ContentType="image/x-wmf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35.wmf" ContentType="image/x-wmf"/>
  <Override PartName="/ppt/media/image25.jpeg" ContentType="image/jpeg"/>
  <Override PartName="/ppt/media/image2.png" ContentType="image/png"/>
  <Override PartName="/ppt/media/image10.wmf" ContentType="image/x-wmf"/>
  <Override PartName="/ppt/media/image13.jpeg" ContentType="image/jpeg"/>
  <Override PartName="/ppt/media/image23.png" ContentType="image/png"/>
  <Override PartName="/ppt/media/image34.wmf" ContentType="image/x-wmf"/>
  <Override PartName="/ppt/media/image36.wmf" ContentType="image/x-wmf"/>
  <Override PartName="/ppt/media/image4.jpeg" ContentType="image/jpeg"/>
  <Override PartName="/ppt/media/image38.wmf" ContentType="image/x-wmf"/>
  <Override PartName="/ppt/media/image8.wmf" ContentType="image/x-wmf"/>
  <Override PartName="/ppt/media/image9.png" ContentType="image/png"/>
  <Override PartName="/ppt/media/image37.wmf" ContentType="image/x-wmf"/>
  <Override PartName="/ppt/media/image39.wmf" ContentType="image/x-wmf"/>
  <Override PartName="/ppt/media/image12.png" ContentType="image/png"/>
  <Override PartName="/ppt/media/image20.jpeg" ContentType="image/jpeg"/>
  <Override PartName="/ppt/media/image11.wmf" ContentType="image/x-wmf"/>
  <Override PartName="/ppt/media/image40.wmf" ContentType="image/x-wmf"/>
  <Override PartName="/ppt/media/image7.png" ContentType="image/png"/>
  <Override PartName="/ppt/media/image6.jpeg" ContentType="image/jpeg"/>
  <Override PartName="/ppt/media/image5.png" ContentType="image/png"/>
  <Override PartName="/ppt/media/image33.wmf" ContentType="image/x-wmf"/>
  <Override PartName="/ppt/media/image29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F39E-3FE3-4FAE-BA26-21F5A586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D161-0B6F-4DFD-8C8F-DBF35E66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32BA-352F-4C82-A33A-5D36F8CFB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C72C-C1C4-4DF3-B37E-88555888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BB0A-D1BE-4CD1-8911-318887C90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5D68-87CD-4374-AAC2-E1F5546D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04BC-8D2A-41CE-9095-93904B2D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0F92-84BD-4018-879C-72C6EFD2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81BB-5A02-4A9E-904C-5037DF61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7864-78C6-40B1-8BBB-78B3ECD0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0854-E1A0-4850-87FA-0F25C506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3370-EF47-442B-A8AF-7637D5FB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5A09-C651-48E2-AF53-0CDBD909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E576-E7C4-4552-AA7A-EF27E904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CC57-842B-4852-A359-D383A25C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88A3-6020-40AE-9648-C8882565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20D5-8570-4935-8603-D9F142D4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D596-EEEF-4B29-B8B0-AFD77617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92FD-F4F4-46A8-96CF-873519A1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D321-CBC7-4F5F-822B-DF1BC87D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CF74-68EC-47B2-A79D-8424153B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A60D-2DFC-43BC-8525-DAC37417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2C20-D08A-43E7-8705-C013635B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F1B9-9F83-40D2-A8E2-5C707574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EAE6-9345-4156-A286-4629C802458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B8C5-A4CA-467C-B76A-14D5B3C6B4C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1752840" cy="1447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629400" y="685800"/>
            <a:ext cx="1638360" cy="1371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66520" y="2560680"/>
            <a:ext cx="741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PIDEMIOLOŠKE KARAKTERISTIKE RAKA ŽELU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9680" y="564120"/>
            <a:ext cx="718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Kartogram 1: Broj novoobolelih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ukupan broj obolelilih i umrlih od raka želuca u svetu 2005. godine i procene za 2020. godin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0773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429480"/>
            <a:ext cx="76201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Japan i Koreja imaju najviše stope incidencije u svetu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( nastavlja da raste stopa incidencije kancera distalnog dela želuca)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Visoke stope incidencije imaju i zemlje istočne Azije, istočne Evrope, Centralne i Južne Amerik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Niske stope incidencije  utvrđene su u južnoj Aziji, Severnoj i istočnoj Africi, severnoj Americi, Australiji i na Novom Zelandu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Najviša stopa obolevanja 2002. godine od raka želuca zabeležena je u: Japanu 95,5 kod muškaraca i 40,1 kod žena, Koreji 65,9 kod muškaraca i 25,0 kod žena, Kostarici 51,5 kod muškaraca i 22,7 kod žena i Kini 46,5 kod muškaraca i 21,0 kod žena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Najniže stope obolevanja su u: Singapuru 8,7 kod muškaraca i 5,5 kod žena, Indiji 7,7 kod muškaraca i 3,8 kod žena i Tajlandu 7,5 kod muškaraca i 4,9 kod žena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U zemljama Zapadne Evrope registruje se sniženje stopa incidencije od ove bolesti , Nemačka 18,5 kod muškaraca i 9,0 kod žena, Norveška 13,6 kod muškaraca i 6,4 kod žena, Francuska 12,2 kod muškaraca i 4,9 kod žena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20068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Maligne bolesti su drugi uzrok obolevanja i umiranja stanovništva u Srbiji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U 2008. godini u Centralnoj Srbiji rak želuca je kod muškaraca bio na petom mestu po obolevanj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(posle karcinoma pluća, kolorektalnog karcinoma, raka prostate i raka mokraćne bešike) sa učešćem od 4,6%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Kao uzrok umiranja bio je na 4. mestu sa učešćem u strukturi umiranja od svih malignih bolesti sa 6,2%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609480"/>
            <a:ext cx="6629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Epidemiološke karakteristike raka želuca u  Srbij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2438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905120" y="990720"/>
            <a:ext cx="5486400" cy="4876200"/>
            <a:chOff x="1905120" y="990720"/>
            <a:chExt cx="5486400" cy="4876200"/>
          </a:xfrm>
        </p:grpSpPr>
        <p:sp>
          <p:nvSpPr>
            <p:cNvPr id="112" name=""/>
            <p:cNvSpPr/>
            <p:nvPr/>
          </p:nvSpPr>
          <p:spPr>
            <a:xfrm>
              <a:off x="2203920" y="990720"/>
              <a:ext cx="4959000" cy="59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Tahoma"/>
                </a:rPr>
                <a:t>Slika 2. Vodeće lokalizacije u obolevanju od malignih tumora kod muškaraca u 2008. godini, centralna Srbija</a:t>
              </a:r>
              <a:r>
                <a:rPr b="0" lang="pl-PL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700"/>
              </a:br>
              <a:r>
                <a:rPr b="1" lang="en-US" sz="1200" spc="-1" strike="noStrike">
                  <a:solidFill>
                    <a:srgbClr val="0000cc"/>
                  </a:solidFill>
                  <a:latin typeface="Tahoma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Novooboleli (%)</a:t>
              </a:r>
              <a:r>
                <a:rPr b="1" lang="en-US" sz="12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br>
                <a:rPr sz="2500"/>
              </a:b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71720" y="3457440"/>
              <a:ext cx="14176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8440" bIns="2844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ffffff"/>
                  </a:solidFill>
                  <a:latin typeface="Tahoma"/>
                </a:rPr>
                <a:t>Ž</a:t>
              </a: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eludac </a:t>
              </a: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(C16)</a:t>
              </a: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 -  4,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81520" y="3813120"/>
              <a:ext cx="130752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8440" bIns="2844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Larinks </a:t>
              </a: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(C32)</a:t>
              </a: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 – 3,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05120" y="4638600"/>
              <a:ext cx="23986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8440" bIns="2844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000" spc="-1" strike="noStrike">
                  <a:solidFill>
                    <a:srgbClr val="ffffff"/>
                  </a:solidFill>
                  <a:latin typeface="Tahoma"/>
                </a:rPr>
                <a:t>Usna </a:t>
              </a:r>
              <a:r>
                <a:rPr b="1" lang="sr-Latn-CS" sz="1000" spc="-1" strike="noStrike">
                  <a:solidFill>
                    <a:srgbClr val="ffffff"/>
                  </a:solidFill>
                  <a:latin typeface="Tahoma"/>
                </a:rPr>
                <a:t>š</a:t>
              </a:r>
              <a:r>
                <a:rPr b="1" lang="sv-SE" sz="1000" spc="-1" strike="noStrike">
                  <a:solidFill>
                    <a:srgbClr val="ffffff"/>
                  </a:solidFill>
                  <a:latin typeface="Tahoma"/>
                </a:rPr>
                <a:t>upljina/farinks </a:t>
              </a:r>
              <a:r>
                <a:rPr b="0" lang="sv-SE" sz="1000" spc="-1" strike="noStrike">
                  <a:solidFill>
                    <a:srgbClr val="ffffff"/>
                  </a:solidFill>
                  <a:latin typeface="Tahoma"/>
                </a:rPr>
                <a:t>(C00-C10)</a:t>
              </a:r>
              <a:r>
                <a:rPr b="1" lang="sv-SE" sz="1000" spc="-1" strike="noStrike">
                  <a:solidFill>
                    <a:srgbClr val="ffffff"/>
                  </a:solidFill>
                  <a:latin typeface="Tahoma"/>
                </a:rPr>
                <a:t> - 2,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71720" y="4343040"/>
              <a:ext cx="14176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8440" bIns="2844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ankreas </a:t>
              </a: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(C25)</a:t>
              </a: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 -  2,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19400" y="4990680"/>
              <a:ext cx="12002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8440" bIns="2844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Jetra </a:t>
              </a: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(C22)</a:t>
              </a: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 - 2,</a:t>
              </a:r>
              <a:r>
                <a:rPr b="1" lang="sr-Latn-CS" sz="1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35160" y="4049640"/>
              <a:ext cx="12538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8440" bIns="2844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Mozak </a:t>
              </a: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(C71)</a:t>
              </a: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 -  2,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25120" y="5326920"/>
              <a:ext cx="1689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8440" bIns="2844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ruge lokalizacije- 27,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89400" y="2226960"/>
              <a:ext cx="17996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8440" bIns="2844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lu</a:t>
              </a:r>
              <a:r>
                <a:rPr b="1" lang="sr-Latn-CS" sz="1000" spc="-1" strike="noStrike">
                  <a:solidFill>
                    <a:srgbClr val="ffffff"/>
                  </a:solidFill>
                  <a:latin typeface="Times New Roman"/>
                </a:rPr>
                <a:t>ć</a:t>
              </a: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a/bronh </a:t>
              </a: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(C34)</a:t>
              </a: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- 21,3</a:t>
              </a: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89400" y="3108600"/>
              <a:ext cx="179964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8440" bIns="2844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Mokra</a:t>
              </a:r>
              <a:r>
                <a:rPr b="1" lang="sr-Latn-CS" sz="1000" spc="-1" strike="noStrike">
                  <a:solidFill>
                    <a:srgbClr val="ffffff"/>
                  </a:solidFill>
                  <a:latin typeface="Times New Roman"/>
                </a:rPr>
                <a:t>ć</a:t>
              </a: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na be</a:t>
              </a:r>
              <a:r>
                <a:rPr b="1" lang="sr-Latn-CS" sz="1000" spc="-1" strike="noStrike">
                  <a:solidFill>
                    <a:srgbClr val="ffffff"/>
                  </a:solidFill>
                  <a:latin typeface="Tahoma"/>
                </a:rPr>
                <a:t>š</a:t>
              </a: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ika </a:t>
              </a: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(C67)</a:t>
              </a: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 - 6,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08160" y="2519280"/>
              <a:ext cx="21808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8440" bIns="2844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Kolon/rektum </a:t>
              </a: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(C18-C20)</a:t>
              </a: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 - </a:t>
              </a: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14,4</a:t>
              </a: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81520" y="2797200"/>
              <a:ext cx="130752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8440" bIns="2844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stata </a:t>
              </a: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(C61)</a:t>
              </a: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-10,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4529880" y="1518840"/>
              <a:ext cx="553320" cy="43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5486400" y="1289520"/>
              <a:ext cx="1289880" cy="2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8440" bIns="28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Umrli (%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08920" y="1989360"/>
              <a:ext cx="171900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31,3 - Plu</a:t>
              </a:r>
              <a:r>
                <a:rPr b="1" lang="sr-Latn-CS" sz="1000" spc="-1" strike="noStrike">
                  <a:solidFill>
                    <a:srgbClr val="ffffff"/>
                  </a:solidFill>
                  <a:latin typeface="Times New Roman"/>
                </a:rPr>
                <a:t>ć</a:t>
              </a: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a / bronh  </a:t>
              </a: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(C34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23320" y="2935440"/>
              <a:ext cx="13539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23320" y="3233880"/>
              <a:ext cx="171756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4,4 - Pankreas </a:t>
              </a: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(C25)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34120" y="3831120"/>
              <a:ext cx="1478520" cy="2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3,8 - Jetra </a:t>
              </a: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(C22)</a:t>
              </a: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08920" y="2311200"/>
              <a:ext cx="208260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11,5 - Kolon / rektum </a:t>
              </a: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(C18-C20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23320" y="2622240"/>
              <a:ext cx="1249200" cy="6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8,8 - Prostata </a:t>
              </a: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(C61)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6,2 - </a:t>
              </a:r>
              <a:r>
                <a:rPr b="1" lang="sr-Latn-CS" sz="1000" spc="-1" strike="noStrike">
                  <a:solidFill>
                    <a:srgbClr val="ffffff"/>
                  </a:solidFill>
                  <a:latin typeface="Tahoma"/>
                </a:rPr>
                <a:t>Ž</a:t>
              </a: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eludac </a:t>
              </a: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(C16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23320" y="3575160"/>
              <a:ext cx="1898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4,1 - Mokra</a:t>
              </a:r>
              <a:r>
                <a:rPr b="1" lang="sr-Latn-CS" sz="1000" spc="-1" strike="noStrike">
                  <a:solidFill>
                    <a:srgbClr val="ffffff"/>
                  </a:solidFill>
                  <a:latin typeface="Times New Roman"/>
                </a:rPr>
                <a:t>ć</a:t>
              </a: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na be</a:t>
              </a:r>
              <a:r>
                <a:rPr b="1" lang="sr-Latn-CS" sz="1000" spc="-1" strike="noStrike">
                  <a:solidFill>
                    <a:srgbClr val="ffffff"/>
                  </a:solidFill>
                  <a:latin typeface="Tahoma"/>
                </a:rPr>
                <a:t>š</a:t>
              </a: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ika </a:t>
              </a: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(C67)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23320" y="4491000"/>
              <a:ext cx="155232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3,6 - Mozak </a:t>
              </a: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(C71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23320" y="4791240"/>
              <a:ext cx="180000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3,0 - Leukemije </a:t>
              </a: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(C91-C95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08920" y="5362560"/>
              <a:ext cx="161280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ruge lokalizacije-19,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23320" y="4167000"/>
              <a:ext cx="190296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8440" bIns="28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3,3 - Larinks </a:t>
              </a: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(C32)</a:t>
              </a: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1752480" y="1993680"/>
            <a:ext cx="6337800" cy="3953880"/>
            <a:chOff x="1752480" y="1993680"/>
            <a:chExt cx="6337800" cy="3953880"/>
          </a:xfrm>
        </p:grpSpPr>
        <p:sp>
          <p:nvSpPr>
            <p:cNvPr id="138" name=""/>
            <p:cNvSpPr/>
            <p:nvPr/>
          </p:nvSpPr>
          <p:spPr>
            <a:xfrm>
              <a:off x="2506680" y="2051280"/>
              <a:ext cx="1765440" cy="4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Novoobolele (%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53040" y="2577960"/>
              <a:ext cx="18320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Dojka 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(C50)</a:t>
              </a: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 - 24,0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022120" y="3460680"/>
              <a:ext cx="226548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Tahoma"/>
                </a:rPr>
                <a:t>Grli</a:t>
              </a:r>
              <a:r>
                <a:rPr b="1" lang="sr-Latn-CS" sz="1200" spc="-1" strike="noStrike">
                  <a:solidFill>
                    <a:srgbClr val="ffffff"/>
                  </a:solidFill>
                  <a:latin typeface="Times New Roman"/>
                </a:rPr>
                <a:t>ć</a:t>
              </a:r>
              <a:r>
                <a:rPr b="1" lang="pl-PL" sz="1200" spc="-1" strike="noStrike">
                  <a:solidFill>
                    <a:srgbClr val="ffffff"/>
                  </a:solidFill>
                  <a:latin typeface="Tahoma"/>
                </a:rPr>
                <a:t> materice </a:t>
              </a:r>
              <a:r>
                <a:rPr b="0" lang="pl-PL" sz="1200" spc="-1" strike="noStrike">
                  <a:solidFill>
                    <a:srgbClr val="ffffff"/>
                  </a:solidFill>
                  <a:latin typeface="Tahoma"/>
                </a:rPr>
                <a:t>(C53)</a:t>
              </a:r>
              <a:r>
                <a:rPr b="1" lang="pl-PL" sz="1200" spc="-1" strike="noStrike">
                  <a:solidFill>
                    <a:srgbClr val="ffffff"/>
                  </a:solidFill>
                  <a:latin typeface="Tahoma"/>
                </a:rPr>
                <a:t> – 7,9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22840" y="3753360"/>
              <a:ext cx="22647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Materica 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(C54)</a:t>
              </a: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 - 5,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99840" y="4041360"/>
              <a:ext cx="17856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Ovarijum 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(C56)</a:t>
              </a: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 - 3,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38080" y="4333680"/>
              <a:ext cx="1647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ffffff"/>
                  </a:solidFill>
                  <a:latin typeface="Tahoma"/>
                </a:rPr>
                <a:t>Ž</a:t>
              </a: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eludac 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(C16)</a:t>
              </a: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 - 2,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86920" y="3168360"/>
              <a:ext cx="2197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Tahoma"/>
                </a:rPr>
                <a:t>Plu</a:t>
              </a:r>
              <a:r>
                <a:rPr b="1" lang="sr-Latn-CS" sz="1200" spc="-1" strike="noStrike">
                  <a:solidFill>
                    <a:srgbClr val="ffffff"/>
                  </a:solidFill>
                  <a:latin typeface="Times New Roman"/>
                </a:rPr>
                <a:t>ć</a:t>
              </a:r>
              <a:r>
                <a:rPr b="1" lang="pl-PL" sz="1200" spc="-1" strike="noStrike">
                  <a:solidFill>
                    <a:srgbClr val="ffffff"/>
                  </a:solidFill>
                  <a:latin typeface="Tahoma"/>
                </a:rPr>
                <a:t>a/bronh  </a:t>
              </a:r>
              <a:r>
                <a:rPr b="0" lang="pl-PL" sz="1200" spc="-1" strike="noStrike">
                  <a:solidFill>
                    <a:srgbClr val="ffffff"/>
                  </a:solidFill>
                  <a:latin typeface="Tahoma"/>
                </a:rPr>
                <a:t>(C34)</a:t>
              </a:r>
              <a:r>
                <a:rPr b="1" lang="pl-PL" sz="1200" spc="-1" strike="noStrike">
                  <a:solidFill>
                    <a:srgbClr val="ffffff"/>
                  </a:solidFill>
                  <a:latin typeface="Tahoma"/>
                </a:rPr>
                <a:t> – 8,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52480" y="2871720"/>
              <a:ext cx="25398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Kolon/rektum 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(C18-C20)</a:t>
              </a: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 - 8,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52800" y="4623480"/>
              <a:ext cx="2132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Tahoma"/>
                </a:rPr>
                <a:t>Mokra</a:t>
              </a:r>
              <a:r>
                <a:rPr b="1" lang="sr-Latn-CS" sz="1100" spc="-1" strike="noStrike">
                  <a:solidFill>
                    <a:srgbClr val="ffffff"/>
                  </a:solidFill>
                  <a:latin typeface="Times New Roman"/>
                </a:rPr>
                <a:t>ć</a:t>
              </a:r>
              <a:r>
                <a:rPr b="1" lang="pl-PL" sz="1100" spc="-1" strike="noStrike">
                  <a:solidFill>
                    <a:srgbClr val="ffffff"/>
                  </a:solidFill>
                  <a:latin typeface="Tahoma"/>
                </a:rPr>
                <a:t>na be</a:t>
              </a:r>
              <a:r>
                <a:rPr b="1" lang="sr-Latn-CS" sz="1100" spc="-1" strike="noStrike">
                  <a:solidFill>
                    <a:srgbClr val="ffffff"/>
                  </a:solidFill>
                  <a:latin typeface="Tahoma"/>
                </a:rPr>
                <a:t>š</a:t>
              </a:r>
              <a:r>
                <a:rPr b="1" lang="pl-PL" sz="1100" spc="-1" strike="noStrike">
                  <a:solidFill>
                    <a:srgbClr val="ffffff"/>
                  </a:solidFill>
                  <a:latin typeface="Tahoma"/>
                </a:rPr>
                <a:t>ika (</a:t>
              </a:r>
              <a:r>
                <a:rPr b="0" lang="pl-PL" sz="1100" spc="-1" strike="noStrike">
                  <a:solidFill>
                    <a:srgbClr val="ffffff"/>
                  </a:solidFill>
                  <a:latin typeface="Tahoma"/>
                </a:rPr>
                <a:t>C67</a:t>
              </a:r>
              <a:r>
                <a:rPr b="0" lang="pl-PL" sz="1000" spc="-1" strike="noStrike">
                  <a:solidFill>
                    <a:srgbClr val="ffffff"/>
                  </a:solidFill>
                  <a:latin typeface="Tahoma"/>
                </a:rPr>
                <a:t>)</a:t>
              </a:r>
              <a:r>
                <a:rPr b="1" lang="pl-PL" sz="1100" spc="-1" strike="noStrike">
                  <a:solidFill>
                    <a:srgbClr val="ffffff"/>
                  </a:solidFill>
                  <a:latin typeface="Tahoma"/>
                </a:rPr>
                <a:t> - 2,2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Tahoma"/>
                </a:rPr>
                <a:t>Mozak </a:t>
              </a:r>
              <a:r>
                <a:rPr b="0" lang="pl-PL" sz="1100" spc="-1" strike="noStrike">
                  <a:solidFill>
                    <a:srgbClr val="ffffff"/>
                  </a:solidFill>
                  <a:latin typeface="Tahoma"/>
                </a:rPr>
                <a:t>(C71)</a:t>
              </a:r>
              <a:r>
                <a:rPr b="1" lang="pl-PL" sz="1100" spc="-1" strike="noStrike">
                  <a:solidFill>
                    <a:srgbClr val="ffffff"/>
                  </a:solidFill>
                  <a:latin typeface="Tahoma"/>
                </a:rPr>
                <a:t> - 2,1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71040" y="5313600"/>
              <a:ext cx="1814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Pankreas 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(C25)</a:t>
              </a: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 - 2,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59400" y="4902840"/>
              <a:ext cx="245988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4120" y="5706360"/>
              <a:ext cx="2125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Druge lokalizacije – 31,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4696560" y="1993680"/>
              <a:ext cx="627120" cy="395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989680" y="2046240"/>
              <a:ext cx="15447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92929"/>
                  </a:solidFill>
                  <a:latin typeface="Tahoma"/>
                </a:rPr>
                <a:t>Umrle (%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558760" y="2360880"/>
              <a:ext cx="20426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292929"/>
                  </a:solidFill>
                  <a:latin typeface="Tahoma"/>
                </a:rPr>
                <a:t>18,4 - Dojka  </a:t>
              </a:r>
              <a:r>
                <a:rPr b="0" lang="en-US" sz="1100" spc="-1" strike="noStrike">
                  <a:solidFill>
                    <a:srgbClr val="292929"/>
                  </a:solidFill>
                  <a:latin typeface="Tahoma"/>
                </a:rPr>
                <a:t>(C50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16360" y="3241800"/>
              <a:ext cx="20430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292929"/>
                  </a:solidFill>
                  <a:latin typeface="Tahoma"/>
                </a:rPr>
                <a:t>6,3 -Grli</a:t>
              </a:r>
              <a:r>
                <a:rPr b="1" lang="sr-Latn-CS" sz="1100" spc="-1" strike="noStrike">
                  <a:solidFill>
                    <a:srgbClr val="292929"/>
                  </a:solidFill>
                  <a:latin typeface="Times New Roman"/>
                </a:rPr>
                <a:t>ć</a:t>
              </a:r>
              <a:r>
                <a:rPr b="1" lang="en-US" sz="1100" spc="-1" strike="noStrike">
                  <a:solidFill>
                    <a:srgbClr val="292929"/>
                  </a:solidFill>
                  <a:latin typeface="Tahoma"/>
                </a:rPr>
                <a:t> materice ( C</a:t>
              </a:r>
              <a:r>
                <a:rPr b="0" lang="en-US" sz="1100" spc="-1" strike="noStrike">
                  <a:solidFill>
                    <a:srgbClr val="292929"/>
                  </a:solidFill>
                  <a:latin typeface="Tahoma"/>
                </a:rPr>
                <a:t>53)</a:t>
              </a:r>
              <a:r>
                <a:rPr b="1" lang="en-US" sz="1100" spc="-1" strike="noStrike">
                  <a:solidFill>
                    <a:srgbClr val="292929"/>
                  </a:solidFill>
                  <a:latin typeface="Tahoma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15640" y="3534120"/>
              <a:ext cx="2043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92929"/>
                  </a:solidFill>
                  <a:latin typeface="Tahoma"/>
                </a:rPr>
                <a:t>5,8 - Pankreas </a:t>
              </a:r>
              <a:r>
                <a:rPr b="0" lang="en-US" sz="1200" spc="-1" strike="noStrike">
                  <a:solidFill>
                    <a:srgbClr val="292929"/>
                  </a:solidFill>
                  <a:latin typeface="Tahoma"/>
                </a:rPr>
                <a:t>(C25)</a:t>
              </a:r>
              <a:r>
                <a:rPr b="1" lang="en-US" sz="1200" spc="-1" strike="noStrike">
                  <a:solidFill>
                    <a:srgbClr val="292929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92929"/>
                  </a:solidFill>
                  <a:latin typeface="Tahoma"/>
                </a:rPr>
                <a:t>4,9 - </a:t>
              </a:r>
              <a:r>
                <a:rPr b="1" lang="sr-Latn-CS" sz="1200" spc="-1" strike="noStrike">
                  <a:solidFill>
                    <a:srgbClr val="292929"/>
                  </a:solidFill>
                  <a:latin typeface="Tahoma"/>
                </a:rPr>
                <a:t>Ž</a:t>
              </a:r>
              <a:r>
                <a:rPr b="1" lang="en-US" sz="1200" spc="-1" strike="noStrike">
                  <a:solidFill>
                    <a:srgbClr val="292929"/>
                  </a:solidFill>
                  <a:latin typeface="Tahoma"/>
                </a:rPr>
                <a:t>eludac </a:t>
              </a:r>
              <a:r>
                <a:rPr b="0" lang="en-US" sz="1200" spc="-1" strike="noStrike">
                  <a:solidFill>
                    <a:srgbClr val="292929"/>
                  </a:solidFill>
                  <a:latin typeface="Tahoma"/>
                </a:rPr>
                <a:t>(16)</a:t>
              </a:r>
              <a:r>
                <a:rPr b="1" lang="en-US" sz="1200" spc="-1" strike="noStrike">
                  <a:solidFill>
                    <a:srgbClr val="292929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613840" y="3804120"/>
              <a:ext cx="18554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13840" y="4075560"/>
              <a:ext cx="2476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92929"/>
                  </a:solidFill>
                  <a:latin typeface="Tahoma"/>
                </a:rPr>
                <a:t>4,8 - Ovarijum </a:t>
              </a:r>
              <a:r>
                <a:rPr b="0" lang="en-US" sz="1200" spc="-1" strike="noStrike">
                  <a:solidFill>
                    <a:srgbClr val="292929"/>
                  </a:solidFill>
                  <a:latin typeface="Tahoma"/>
                </a:rPr>
                <a:t>(C56)</a:t>
              </a:r>
              <a:r>
                <a:rPr b="1" lang="en-US" sz="1200" spc="-1" strike="noStrike">
                  <a:solidFill>
                    <a:srgbClr val="292929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60920" y="2940120"/>
              <a:ext cx="24782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292929"/>
                  </a:solidFill>
                  <a:latin typeface="Tahoma"/>
                </a:rPr>
                <a:t>11,0 - Kolon / rektum </a:t>
              </a:r>
              <a:r>
                <a:rPr b="0" lang="en-US" sz="1100" spc="-1" strike="noStrike">
                  <a:solidFill>
                    <a:srgbClr val="292929"/>
                  </a:solidFill>
                  <a:latin typeface="Tahoma"/>
                </a:rPr>
                <a:t>(C18-C20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54800" y="2661120"/>
              <a:ext cx="21045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292929"/>
                  </a:solidFill>
                  <a:latin typeface="Tahoma"/>
                </a:rPr>
                <a:t>12,1 - Plu</a:t>
              </a:r>
              <a:r>
                <a:rPr b="1" lang="sr-Latn-CS" sz="1100" spc="-1" strike="noStrike">
                  <a:solidFill>
                    <a:srgbClr val="292929"/>
                  </a:solidFill>
                  <a:latin typeface="Times New Roman"/>
                </a:rPr>
                <a:t>ć</a:t>
              </a:r>
              <a:r>
                <a:rPr b="1" lang="en-US" sz="1100" spc="-1" strike="noStrike">
                  <a:solidFill>
                    <a:srgbClr val="292929"/>
                  </a:solidFill>
                  <a:latin typeface="Tahoma"/>
                </a:rPr>
                <a:t>a / bronh  </a:t>
              </a:r>
              <a:r>
                <a:rPr b="0" lang="en-US" sz="1100" spc="-1" strike="noStrike">
                  <a:solidFill>
                    <a:srgbClr val="292929"/>
                  </a:solidFill>
                  <a:latin typeface="Tahoma"/>
                </a:rPr>
                <a:t>(C34)</a:t>
              </a:r>
              <a:r>
                <a:rPr b="1" lang="en-US" sz="1100" spc="-1" strike="noStrike">
                  <a:solidFill>
                    <a:srgbClr val="292929"/>
                  </a:solidFill>
                  <a:latin typeface="Tahoma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18160" y="4737600"/>
              <a:ext cx="20426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95840" y="5065920"/>
              <a:ext cx="2292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92929"/>
                  </a:solidFill>
                  <a:latin typeface="Tahoma"/>
                </a:rPr>
                <a:t>2,7 - Leukemije </a:t>
              </a:r>
              <a:r>
                <a:rPr b="0" lang="en-US" sz="1200" spc="-1" strike="noStrike">
                  <a:solidFill>
                    <a:srgbClr val="292929"/>
                  </a:solidFill>
                  <a:latin typeface="Tahoma"/>
                </a:rPr>
                <a:t>(C91-C95</a:t>
              </a:r>
              <a:r>
                <a:rPr b="0" lang="en-US" sz="1000" spc="-1" strike="noStrike">
                  <a:solidFill>
                    <a:srgbClr val="292929"/>
                  </a:solidFill>
                  <a:latin typeface="Arial"/>
                </a:rPr>
                <a:t>)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13480" y="5614200"/>
              <a:ext cx="19184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Druge  lokalizacije-25,1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13840" y="4396320"/>
              <a:ext cx="24764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92929"/>
                  </a:solidFill>
                  <a:latin typeface="Tahoma"/>
                </a:rPr>
                <a:t>3,4 - Mozak </a:t>
              </a:r>
              <a:r>
                <a:rPr b="0" lang="en-US" sz="1200" spc="-1" strike="noStrike">
                  <a:solidFill>
                    <a:srgbClr val="292929"/>
                  </a:solidFill>
                  <a:latin typeface="Tahoma"/>
                </a:rPr>
                <a:t>(C71)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92929"/>
                  </a:solidFill>
                  <a:latin typeface="Tahoma"/>
                </a:rPr>
                <a:t>3,2 - Jetra </a:t>
              </a:r>
              <a:r>
                <a:rPr b="0" lang="en-US" sz="1200" spc="-1" strike="noStrike">
                  <a:solidFill>
                    <a:srgbClr val="292929"/>
                  </a:solidFill>
                  <a:latin typeface="Tahoma"/>
                </a:rPr>
                <a:t>(C22)</a:t>
              </a:r>
              <a:r>
                <a:rPr b="1" lang="en-US" sz="1200" spc="-1" strike="noStrike">
                  <a:solidFill>
                    <a:srgbClr val="292929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3680" y="614880"/>
            <a:ext cx="695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Tahoma"/>
              </a:rPr>
              <a:t>Vodeće lokalizacije u obolevanju i umiranju kod žena u 2008. godini, centralna Srbija</a:t>
            </a: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838080" y="540360"/>
            <a:ext cx="784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Standardizovana stopa incidencije u centralnoj Srbiji za rak želuca kod muškaraca u 2008. godini iznosila je 12,5, a kod žena 5,7. Stopa incidencije bila je 2,2 puta viša nego kod žena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Standardizovana stopa incidencije kod muškaraca u Nišavskom okrugu bila je nešto  niža od prosečne stope u centralnoj Srbiji (12,1 vs 12,5)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Nišavski okrug bio je na 10. mestu u Srbiji prema visini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andardizovane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stope incidencije kod muškaraca u 2008. godini .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3413160"/>
            <a:ext cx="8229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Na teritoriji Nišavskog okruga kod žena zabeležena je viša standardizova stopa incidencije za rak želuca u 2008. godini u odnosu na standardizovanu stopu incidencije kod žena u centralnoj Srbiji (6,2 vs 5,7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Nišavski okrug bio je n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. mestu u Srbiji prema visini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andardizovane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stope incidencije kod žena u 2008. godini .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09480" y="441720"/>
            <a:ext cx="73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Standardizovana stopa mortaliteta od raka želuca kod muškaraca u Nišavskom okrugu u 2008.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godini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 iznosila je 10,6 i bila je viša od standardizovane stope mortaliteta u Srbiji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Standardizovana stopa motraliteta od raka želuca u 2008. godini na teritoriji Nišavskog okruga kod muškaraca bila je 2,5 puta viša od standardizovane stope mortaliteta kod žena (10,6 vs 4,2).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Prema visini standardizovane stope mortaliteta od raka želuca kod muškaraca, Nišavski okrug je u 2008. godini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bio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 na 5. mestu u Srbij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3384720"/>
            <a:ext cx="8001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Standardizovana stopa mortaliteta od raka želuca u 2008. godini na teritoriji Nišavskog okruga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kod žena u Nišavskom okrugu iznosila je 4,2 i bila je približna standardizovanoj stopi mortaliteta za centralnu Srbiju (4,3 vs 4,4) u 2008. godini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ma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 visini standardizovane stope mortalitet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d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 ra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 želuca kod žena, Nišavski okrug je u 2008. godini bio na 11. mestu u Srbij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14400" y="902880"/>
            <a:ext cx="6575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Petogodišnje preživljavan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Petogodišnje preživljavanje od raka želuca u evropskim zemljama kreće se od 10% do 27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Najbolje rezultate u petogodišnjem preživljavanju imaju u Japanu (52%) zahvaljujući sprovodjenju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SKRININGA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U Severnoj Americi preživljavanje se kreće od 21% do 40%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U zemljama subsaharske Afrike preživljavanje je nisko  oko 6%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105520" y="4724280"/>
            <a:ext cx="323856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79360" y="577800"/>
            <a:ext cx="863604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                                            </a:t>
            </a:r>
            <a:r>
              <a:rPr b="1" lang="pl-PL" sz="2000" spc="-1" strike="noStrike">
                <a:solidFill>
                  <a:srgbClr val="ffffff"/>
                </a:solidFill>
                <a:latin typeface="Tahoma"/>
              </a:rPr>
              <a:t>Faktori rizi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Rak želuca je multifaktorijelno obolenje, koje podrazumeva interakciju genetske predispozicije sa faktorima sredine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Učestalost obolijevanja od karcinoma želuca znatno je veća u nekim zemljama (Japan, Čile, Irska i Finska), što upućuje na postojanje nekoliko etioloških uzroka u tim sredinama koji su povezani sa  nastankom bolesti .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413028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Faktori rizika za nastanak karcinoma u 2000. godini bili su odgovorni za smrtnost 2,7 miliona ljudi odnosno imali su učešće od 43% novo otkrivenih sličajeva oboleli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4920" y="268920"/>
            <a:ext cx="8458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544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Poznati faktori  rizika za razvoj karcinoma želuca s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arost (rizik od razvoja karcinoma želuca raste sa pove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ćanjem godina ,vi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š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e od 55 godina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Hronični gastritis izazvan bakterijom Helycobacter pylo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shrana sa povećanim unosom dimljene i slane hrane, konzervisane hrane sa dosta nitrata, smanjen unos svežeg voća i povrća i mle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ušenje cigaret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denomatozni želudačani polip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Hronični atrofični gastrit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Genetska predispozici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Hronični gastritis izazvan Epstein-Barr virusom (EB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Voda u kojoj ima dosta nitr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rniciozna anemi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Ranije hirurške intervencije na želu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Izlaganje radijac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63520" y="1137240"/>
            <a:ext cx="8651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1.UV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Rak želuca predstavlja četvrti uzrok obolevanja i drugi uzrok umiranja od svih malignih bolesti stanovništva u svetu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Svake godine registruje se oko 870 000 novoobolelih od raka želuca, a  godišnje umre preko 650 000 obolelih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Muškarci oboljevaju mnogo češće od raka želuca nego žene, a svetu se godišnje registruje 558 000 ( 5,5% ) novoobolelih muškarac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i 317 000 ( 3,1% ) novoobolelih žena.</a:t>
            </a:r>
            <a:r>
              <a:rPr b="0" lang="sl-SI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62120" y="174600"/>
            <a:ext cx="7524720" cy="56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i="1" lang="pl-PL" sz="1800" spc="-1" strike="noStrike">
                <a:solidFill>
                  <a:srgbClr val="ffffff"/>
                </a:solidFill>
                <a:latin typeface="Tahoma"/>
              </a:rPr>
              <a:t>Ra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Prema podacima novijih istraživanja, rak želuca češće se javlja kod pripadnika crne r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Tahoma"/>
              </a:rPr>
              <a:t>P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Širom sveta muškarci imaju stope incidencije za rak želuca približno dva puta veće u odnosu na žene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i="1" lang="pl-PL" sz="1800" spc="-1" strike="noStrike">
                <a:solidFill>
                  <a:srgbClr val="ffffff"/>
                </a:solidFill>
                <a:latin typeface="Tahoma"/>
              </a:rPr>
              <a:t>Uzr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Rak želuca retko se javlja pre 30. godine života, a najčešće se javlja u šestoj deceniji života .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37339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43000" y="-73800"/>
            <a:ext cx="7315200" cy="70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Faktori sredine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shran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gojaznos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u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š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nj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hronična infekcija Helicobacter pylori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hronična infekcija EBV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ranije hirurške intervencije na želucu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perniciozna anemij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asledni faktori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adenomatozni polipi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krvna grupa  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hronični atrofični gastriti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ekspozicija radijacij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154800"/>
            <a:ext cx="6838920" cy="65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1" i="1" lang="pl-PL" sz="1800" spc="-1" strike="noStrike">
                <a:solidFill>
                  <a:srgbClr val="ffffff"/>
                </a:solidFill>
                <a:latin typeface="Tahoma"/>
              </a:rPr>
              <a:t>Ishr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Ishrana  je značajan faktor u nastanku raka želuca zbog toga što može da sadrži kancerogene materij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visok unos dimljene hrane, prženo meso i riba (kancerogeni policiklični aromatični ugljovodonici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slana  ishrana (ukiseljeno i fermentizovano povrće,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so dovodi do oštećenja mukoz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konzervisana hrana (nitrati i nitriti od kojih mogu da se formiraju N-nitrozo jedinjenja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visok unos ugljenih hidrata a mali unos svežeg voća i povrća, mlek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konzumiranjem veće količine rafiniranih cerealija (pirinča i testenine, jednolična i deficitarna ishran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- jaki začini (ljuta paprika, sirće,biber), imaju iritirajuće dejstvo na želudačnu sluzokožu. </a:t>
            </a:r>
            <a:r>
              <a:rPr b="1" lang="sv-SE" sz="1800" spc="-1" strike="noStrike">
                <a:solidFill>
                  <a:srgbClr val="ffffff"/>
                </a:solidFill>
                <a:latin typeface="Tahoma"/>
              </a:rPr>
              <a:t>Smatra se da je kapsaicin, ljuta komponenta, ljutog bibera, kanceroge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238880" y="304812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162920" y="152280"/>
            <a:ext cx="1981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28600" y="-223560"/>
            <a:ext cx="8686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Tahoma"/>
              </a:rPr>
              <a:t>Gojazn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povećava rizik od nastanka raka kardije želu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ffffff"/>
                </a:solidFill>
                <a:latin typeface="Tahoma"/>
              </a:rPr>
              <a:t>Pušen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Tahoma"/>
              </a:rPr>
              <a:t>Prema podacima evropske prospektivne studije EPIC, oko 18% rizika za rak želuca pripisuje se pušenju . Pušenje je udruženo sa povećanom incidencijom raka želuca u zavisnosti od dužine pušačkog staža kao i od broja dnevno popušenih cigareta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819520" y="4724280"/>
            <a:ext cx="2857320" cy="16002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62120" y="1371600"/>
            <a:ext cx="28191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09480" y="366120"/>
            <a:ext cx="7467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1" i="1" lang="sv-SE" sz="1800" spc="-1" strike="noStrike">
                <a:solidFill>
                  <a:srgbClr val="ffffff"/>
                </a:solidFill>
                <a:latin typeface="Tahoma"/>
              </a:rPr>
              <a:t>Helicobacter  pylo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Tahoma"/>
              </a:rPr>
              <a:t>Infekcija ovom bakterijom dešava se uglavnom još u detinjstvu i mnogo je češća u porodicama niže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Tahoma"/>
              </a:rPr>
              <a:t>socijalno-ekonomskog stanja. Svetska zdravstvena organizacija (SZO) klasifikovala je Helicobacter  pylori u prvu grupu kancerogena. Kod najvećeg broja inficiranih ima oblik hroničnog gastritisa i povezana je sa atrofijom gastrične sluznice i intestinalnom metaplazijom. Pacijenti sa hroničnim gastritisom imaju šest puta veći rizik za nastanak raka želuca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3216960"/>
            <a:ext cx="6096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1" i="1" lang="sv-SE" sz="1800" spc="-1" strike="noStrike">
                <a:solidFill>
                  <a:srgbClr val="ffffff"/>
                </a:solidFill>
                <a:latin typeface="Tahoma"/>
              </a:rPr>
              <a:t>Infekcije Epstein-Barr virus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Tahoma"/>
              </a:rPr>
              <a:t>Epstein-Barr virus (EBV) je prema klasifikaciji SZO i IARC u prvoj grupi kancerogena. Povezan je sa nastankom Burkitovog limfoma, Hodgikove bolesti, nazofaringealnim karcinoma . Rasprostarnjen je u celom svetu ali je tri do četiri puta češće izolovan kod stanovništva Japana nego kod stanovništva Severne Amerike. Infekcija EBV povezana je sa nastankom kako difuznog tako i intestinalnog tipa raka želuca i češća je kod muškaraca nego kod žena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086600" y="152280"/>
            <a:ext cx="1876320" cy="1143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7924680" y="1447920"/>
            <a:ext cx="1219320" cy="17524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781680" y="4114800"/>
            <a:ext cx="217188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33520" y="244800"/>
            <a:ext cx="8048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ffffff"/>
                </a:solidFill>
                <a:latin typeface="Tahoma"/>
              </a:rPr>
              <a:t>Adenomi želu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Tahoma"/>
              </a:rPr>
              <a:t>Tubularni ili vilozni adenomi želuca predstavljaju intraepitelijalne benigne neoplazije želuca. Želudačni adenomi su retki u zapadnoj populaciji i čine samo 10% svih želudačnih polip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Tahoma"/>
              </a:rPr>
              <a:t>Maligna alteracija je moguća i zavisi od veličine i histološke građe adenoma, a dešava se u 2% svih lezija manjih od 2 cm i u 40-50% lezija većih od 2 cm i češća je kod ravnih adeno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3384360"/>
            <a:ext cx="655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1" i="1" lang="sv-SE" sz="1800" spc="-1" strike="noStrike">
                <a:solidFill>
                  <a:srgbClr val="ffffff"/>
                </a:solidFill>
                <a:latin typeface="Tahoma"/>
              </a:rPr>
              <a:t>Polipi želu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Tahoma"/>
              </a:rPr>
              <a:t>Hiperplastični želudačni polipi se tipično nalaze u antrumu želuca u prisustvu gastritisa izavzanog Helicobacter pylori, ali maligno alterišu u malom broju slučajev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v-SE" sz="1800" spc="-1" strike="noStrike">
                <a:solidFill>
                  <a:srgbClr val="ffffff"/>
                </a:solidFill>
                <a:latin typeface="Tahoma"/>
              </a:rPr>
              <a:t>Polipi u predelu fundusa želuca mnogo su češći kod populacije Severne Amerike i zapadne Evrope, ali oni se razvijaju bez prisustva infekcije Helicobacter pylor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629400" y="236232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09480" y="2666880"/>
            <a:ext cx="17528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8600" y="244440"/>
            <a:ext cx="8589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ffffff"/>
                </a:solidFill>
                <a:latin typeface="Tahoma"/>
              </a:rPr>
              <a:t>Nasledni fakto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Smatra se da je 8-10% raka želuca ima genetsku predispoziciju. Rizik za obolevanje od raka želuca tri puta je veći kod osoba sa pozitivnom porodičnom anamnezoma, ali je od presudnog značaja interakcija sa faktorima rizik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2038320"/>
            <a:ext cx="815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ffffff"/>
                </a:solidFill>
                <a:latin typeface="Tahoma"/>
              </a:rPr>
              <a:t>Ranije hirurške intervencije na želucu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Tahoma"/>
              </a:rPr>
              <a:t>Može doći do poremećaja normalne PH sredine želuca, što može dovesti do metaplastičnih i displastičnih promena ćelija sluznice želuca.Perniciozna anemija udružena sa atrofičnim gastritisom može dovesti do raka želu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2960" y="3523320"/>
            <a:ext cx="8237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ffffff"/>
                </a:solidFill>
                <a:latin typeface="Tahoma"/>
              </a:rPr>
              <a:t>Krvna grupa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Tahoma"/>
              </a:rPr>
              <a:t>Povećano obolevanje od raka želuca registovano je kod osoba sa krvnom grupom A, što se objašnjava interakcijom između Lewis krne grupe i antigena Helicobacter pylori. Veća učestalost je kod muškaraca sa ovom krvnog grupom ( difuzni tip adenokarcinoma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Tahoma"/>
              </a:rPr>
              <a:t>Ekspozicija radijac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Utvrđeno je da su preživeli udar atomske bombe imali povećan rizik od raka želuca, zbog povećane ekspozcije radijacij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600200" y="755280"/>
            <a:ext cx="617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ere prevencije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kod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raka želuc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Pod pojmom prevencija, u medicini, podrazumevaju se aktivnosti i mere vezane za unapređenje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dravlja, očuvanje zdravlja, uspostavljanje zdravlja koje je narušeno i sprečavanje ili odlaganje nepovoljnog toka i ishoda ireverzibilnih poremećaja zdravlj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Prevencij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kod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raka želuc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se deli na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primarnu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sekundarnu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tercijarn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0" y="3657600"/>
            <a:ext cx="4114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57200" y="245520"/>
            <a:ext cx="6400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Primarna prevencija raka želu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Primarna prevencija obuhvata postupke koji se preduzimaju pre pojave bolesti i povreda, kako do njih uopšte ne bi došlo, a u uslovima kada su rizici u životnoj sredini već rasprostranjen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Epidemiološke studije pokazuju da češći unos voća i povrća mogu da smanje rizik od nastanka raka želuca. Preporuka iz European Prospective Investigation into Cancer and Nutrition (EPIC) je da se dnevno unosi 500 gr voća i povrća i da se na taj način može  smanji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i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stopa incidencije za 25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5333400"/>
            <a:ext cx="83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Najbolja prevencija je redovna poseta lekaru i pravilna edukacija u prepoznavanju faktora rizika u svom načinu života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629400" y="3048120"/>
            <a:ext cx="2286000" cy="2306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990720" y="3962520"/>
            <a:ext cx="29048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- Voće i povrće ima protektivnu ulogu jer sadrže manje ili veće količine vitamina  minerala  i bioaktivnih jedinjenja, kao što su flavonoidi i biljni steroli. Vitamini C i E inhibišu stvaranje kancerogenih nitrozam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- Konzumiranje crnog hleba ili hleba od celog zrna. Ove namimice bogate su dijetetskim vlaknima, a ona imaju važnu ulogu u prevenciji raka želuc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- Biljne masti deluju protektivno (maslinovo uije, jer sadriži antioksidanse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2686320" cy="17049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666880" y="4648320"/>
            <a:ext cx="3962520" cy="19810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7315200" y="4724280"/>
            <a:ext cx="13716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0880" y="1843560"/>
            <a:ext cx="8153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Stope incidencije i mortaliteta za rak želuca značajno su opale u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poslednje tri decenije i to u najrazvijenim zemljama sveta, u Sjedinjenim Američkim Državama (SAD), Kanadi, Australiji, na Novom Zelandu i u razvijenim zemljama Evrope i u Japan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Rak želuca se vrlo retko registruje kod osoba mlađih od 30 godina, ali sa starenjem se stope incidencije značajno uvećavaju dostižući najveće vrednosti kod starijih od 55 godi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971800" y="4572000"/>
            <a:ext cx="3429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04920" y="368640"/>
            <a:ext cx="6324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Sekundarna prevencija raka želu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Sekundarnu prevenciju čine mere koje se primenjuju radi što ranijeg otkrivanja već nastalih poremećaja zdravlj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Obuhvata skrining, rano otkrivanje i lečenje obolelih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U Japanu je poboljšano petogodišnje preživljavanje pacijenata i smanjen mortalitet upravo masovnom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KRININGU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 populacij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Endoskopija se smatra najsenzitivnijom i najspecifičnijom dijagnostičkom metodo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Lečenje raka želuca obuhvata hirurško lečenje, hemioterapiju i radioterapiju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324480" y="3276720"/>
            <a:ext cx="24386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762120" y="642600"/>
            <a:ext cx="7543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Tercijarna pevencija raka želu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Mere tercijarne prevncije podrazumevaju mere koje se svode na ograničenje oštećenja i nesposobnosti i mere rehabilitacije, uključujući navikavanje pacijenta na nastalo stan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Tercijarna prevencija obuhvata lečenje komplikacija raka želuca, psihološku podršku pacijentu i članovima njegove porodi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267080" y="3581280"/>
            <a:ext cx="4448160" cy="30481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33520" y="4038480"/>
            <a:ext cx="26193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80880" y="1237680"/>
            <a:ext cx="8498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2. CILJ  R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Rad je imao za cilj da prikaže epidemiološke karakteristike raka želuca na teritoriji Nišavskog okruga u periodu 1999-2008. godin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Analizirane su osovne epidemioloških karakteristika obolelih od karcinoma želuca prema polu, uzrastu, lokalizacija na želucu i patihistološkoj diferencijacij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Prikazana je i distribucija obolelih i umrlih u opštinama Nišavskog okrug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352680" y="4038480"/>
            <a:ext cx="40388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762120" y="513000"/>
            <a:ext cx="76644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3. MATERIJAL I MET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Izvor podataka bile su zvanične publikacije o incidenciji i mortalitetu od raka u Centralnoj Srbiji u periodu 1999-2008.godine. Analizirani su podaci o novoobolelima i umrlima od raka želuca, sa teritorije Nišavskog okruga (šifra C16 prem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10. Međunarodnoj klasifikaciji-MKB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Primenjen je deskriptivni epidemiološki meto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Izračunavane su nestandardizovane stope incidencije i mortaliteta na 100 000 stanovnika (procenjen popis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Primenjen je metod direktne standardizacije stopa prema svetskoj populaciji kao standard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Izračunavan je linerani tre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914400" y="1372680"/>
            <a:ext cx="754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4. REZULTAT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U periodu od 1999 do 2008. godine ukupno su  registrovane 827 novobolele osobe od raka želuca (497 muškaraca i 330 žena) na teritoriji Nišavskog okrug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Prosečna godišnja nestandardizovana stopa incidencije u populaciji Nišavskog okruga iznosila je 21,7 /100 000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Prosečna godišnja nestandardizovana stopa incidencije kod muškaraca iznosila je 26,5/100 000 i 17,01/100 000 že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Muškarci su obolevali u proseku 1,6 puta više od že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914400" y="883080"/>
            <a:ext cx="77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Grafikon 1. Distribucija novoobolelih od raka želuca prema polu i uzrastu na teritoriji Nišavskog okruga u periodu 1999-2008. god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0866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5800" y="44928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ojedinačni slučajevi obolevanja od raka želuca zabeleženi su kod muškaraca i žena mlađih od 25 godi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eće obolevanje  registrovano je posle 35. godine kod žena i posle 40. godine kod muškara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Kod muškaraca stope incidencije pokazju kontinuirani porast sa starenjem, dok kod žena stopa incidencije pokazuje veliku varijabilno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Kod muškaraca posle 74. godine života zabeležen je nagli pad obolevanja, dok je kod žena najviša uzrasno specifična stopa zabeležena kod starijih od 75 godina živo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ajviša uzrasno specifična stopa kod muškaraca u posmatranom periodu registrovana je u starosnoj grupi 70-74 i iznosila je 1213,98, a najniža stopa bila je u starosnoj grupi 20-24, 7,84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ajviša uzrasno specifična stopa kod žena registrovana je u starosnoj grupi preko 75 godina i iznosila je 537,68 a najniža u starosnoj grupi 5-9, 10,58.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52876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Najučestalija lokalizacija malignog procesa na želucu bila je kardija.  Patohistološkom diferencijacijom preovlađuje adenokarcinoma i to kod 77% obolelih, 1% imao je sarkom a kod 22% nije bio označen patohistološki tip raka želuca.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80880" y="181800"/>
            <a:ext cx="817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Grafikon 2. Trend incidencije nestandardizovanih stopa kod muškaraca i žena u periodu 1999-2008. god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8763120" cy="32004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80880" y="4138200"/>
            <a:ext cx="8229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rend incidencije nestandardizovanih stopa pokazuje blagi porast kod muškaraca (y=0,4261x +24,787, R2=0,0976). Kod žena trend incidencije ima negativnu vrednost (y=-0,4758x+17,367 i R2=0,0692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Godišnje stope incidencije za rak želuca kod muškaraca kretale su se od 19,6/100000 (2000) do 33,4/100 000 (2007).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Stopa incidencije 2007. godine bila je 1,7 puta viša u odnosu na 1999. godinu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Najniža godišnja stopa incidencije za rak želuca kod žena registrovana je 2007. i iznosila je 1,1/100 000 a najviša je zabeležena 2004. godine 20,2/ 100 00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51000" y="304200"/>
            <a:ext cx="602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Grafikon 3. Trend incidencije standardizovanih stopa kod muškaraca i žena 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periodu 1999-2008. godine na teritoriji Nišavskog okrug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5143680" cy="2914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04920" y="3745800"/>
            <a:ext cx="76197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Trend pokazuje blagi porast incidencije kod muškaraca (y=0,0333x i 13,427, R2= 0,0021) i blagi pad kod ž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(y=-0,0248x i 7,6667, R2=0,0018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Najniža standardizovana godišnja stopa incidenije kod muškaraca zabeležena je 2000. godine i iznosila je 10,5 a najviša je zabeležena 2007. godine je iznosila 17,9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Kod žena je 2003. godine zabeležena najniža standardizovana godišnja stopa incidencije 5,3 a najviša je 2004.godine i iznosila 11,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25880" y="197280"/>
            <a:ext cx="5529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Grafikon 4. Distribucija novoobolelih od raka želuca prema opštinam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Nišavskog okruga u periodu 1999-2008.  god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7620120" cy="28954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-147600" y="523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4173480"/>
            <a:ext cx="8610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Najviša prosečna godišnja nestandardizovana stopa incidencije za rak želuca kod muškaraca u periodu 1999-2008. godine registrovana je u opštinama Merošina i Gadžin Han 343,51 vs 304,30 a najniža u opštini Svrljig, od 115,8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Najviša prosečna godišnja nestadardizovana stopa incidencije kod žena koje su obolele od raka želuca u istom periodu, registrovana je u opštini Gadžin Han 211,29 a najniža u opštini Ražanj 68,95.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62120" y="105192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Oko 90% utvrđenih kancera želuca su adnokarcinom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Glavne dve lokalizacije adenokarcinoma su proksimalni deo želuca (kardija) i distalni deo (piloru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Prema patohispološkoj podeli adenokarcinoma želuca, postoje dva tipa i to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dobro diferentovan tip (intestinalni tip, ima veću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arijabilnost)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nediferentovan (difuzni tip, ima manju varijabilnost 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Inestinalni tip je češći kod muškaraca, među crnim stanovništvom i starijim dobnim grupama, u geografskim oblastima istočne Azije, istočne Evrope, centralnoj i južnoj Americ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Difuzni tip javlja gotovo podjednako i kod muškaraca i kod žena, a zabeleženo je njegovo češće javljanje ko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mlađih osoba.</a:t>
            </a:r>
            <a:r>
              <a:rPr b="0" lang="sl-SI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04920" y="1033200"/>
            <a:ext cx="8305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U posmatranom periodu ukupno je umrlo od raka želuca 625 pacijenata (387 muškaraca i 238 žena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Prosečna godišnja nestandardizovana stopa mortaliteta od raka želuca iznosila je 16,4/100 000 stanovnika Nišavskog okrug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Prosečna godišnja nestandardizovana stopa mortaliteta od raka želuca kod muškaraca iznosila je 20,6/100 000 muškaraca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kod žena 12,3/100 000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U posmatranom desetogodišnjem periodu registrovano je u proseku 1,7 puta više umrlih muškaraca nego že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Prosečna starost umrlih uškaraca bila je 67,9±10,8 godina (34-90), a žena 68,6 ±12.2 (35-90).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457200" y="2500200"/>
          <a:ext cx="4038480" cy="26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00200"/>
                    <a:ext cx="403848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28600" y="273600"/>
            <a:ext cx="8707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Grafikon 5. Trend mortaliteta nestandardizovanih stopa kod muškaraca i kod žena u periodu 1999-2008. godine na teritoriji Nišavskog okruga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229600" cy="31431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-893880" y="527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3810600"/>
            <a:ext cx="8076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Trend nestandardizovanih stopa mortaliteta kod muškaraca pokazuje blagi porast (y=0,1594x +19,593, R2=0,0185). Najniža nestandardizovana godišnja stopa mortaliteta zabeležena je kod muškaraca 2006. godine i iznosila je 14,5. Najviša je zabeležena 2007. (27,5). Porast stope mortaliteta 2007. godine bio je 1,9 puta u odnosu na 2006. godin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Kod žena je u posmatranom periodu zabeležen blagi porast trenda mortaliteta (y=0,5448x + 8,5133, R2=0,2331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Godišnje nestandardizovane stope mortaliteta kretale su se od 6,1 (1999.) do 16,2 (2007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45000"/>
            <a:ext cx="7929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Grafikon 6. Trend standardizovanih stopa mortaliteta od raka želuca na teritoriji Nišavskog okrug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pl-PL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u periodu 1999-2008. god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839080" cy="27050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533520" y="3062880"/>
            <a:ext cx="8213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rend standardizovanih stopa mortaliteta kod muškaraca ima negativnu vredn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y=-0,0867x +10,667 i R2=0,0281) što pokazuje da je došlo do smanjenja umiranja muškaraca od raka želuca, u periodu 1999-2008. godina na teritoriji Nišavskog okrug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ajviša godišnja standardizovana stopa mortaliteta kod muškaraca zabeležena je 1999. godine (12,2), a najniža 2006. godine  (7,8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rema vrednosti trenda standardizovanih stopa mortaliteta kod žena, došlo je do porasta u ondosu na 1999. godinu,  (y=0,1582x + 4,24 i R2=0,1002), ali nema statističke značajnosti. Najniža standardizovana godišnja stopa mortaliteta kod žena iznosila je 2,7 (1999. godine) a najviša je zabeležena 2004. godine (7,2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169720" y="486720"/>
            <a:ext cx="541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Grafikon 7. Struktura umrlih od raka želuca prema starost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6095880" cy="34574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855720" y="4754520"/>
            <a:ext cx="749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Stariji od 65 godina umirali su od raka želuca dvostruko više nego mlađ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od 65 godina (68% vs 32%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54160" y="197280"/>
            <a:ext cx="7774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Prosečna godišnja nestandardizovana stopa mortaliteta kod muškaraca i žena po polu u opštinam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Nišavskog okrug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133720" y="533520"/>
            <a:ext cx="6858000" cy="27432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80880" y="3242880"/>
            <a:ext cx="86108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rosečna godišnja nestandardizovana stopa mortaliteta kod muškaraca i žena po polu u opštinama Nišavskog okruga u periodu 1999-2008. godine kretala se: Aleksinac (25,4 vs 14,7), Gadžin Han (36,1 vs 21,1), Doljevac (26,9 vs 16,8), Merošina (36,7 vs 17,9), Niš (26 vs 13,4), Ražanj (23,3 vs 20,7) i Svrljig (19,7 vs 16,2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 svim opštinama prosečne godišnje nestandardizovane stope mortaliteta bile su više kod muškaraca nego kod žena. Najveća prosečna razlika u umiranju od raka želuca između muškaraca i žena registrovana je u opštini Merošina (2,1 puta su muškarci više umirali od žena) a najmanja razlika u opštinama Ražanj (1,1 puta viša stopa kod muškaraca) i Svrljig (1,2, puta viša stopa kod muškaraca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04920" y="62280"/>
            <a:ext cx="8686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5. DISKUSI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 periodu 1999-2008. godine na teritoriji Nišavskog okruga u</a:t>
            </a: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češće u obolevanju od karcinoma želuca kod muškaraca od 6% i kod žena od 3%. Muškarci su obolevali u proseku 1,6 puta češće od žen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Razlika u obolevanju od raka želuca neznatno se smanjila u odnosu na period 1996-2005. godina kada su muškarci 1,7 puta više u proseku obolevali  od žen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U centralnoj Srbiji u 2008. godini prema publikovanim podacima Instituta za javno zdravlje Srbije, muškarci su obolevali 2,5 puta više od že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U Vojvodini su muškarci 1,7 puta u proseku više obolevali od že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U Niškom regionu (teritorija Nišavskog, Topličkog i Pirotskog okruga) u 1986. godini muškarci su obolevali 2,7 puta češće nego žene .</a:t>
            </a:r>
            <a:r>
              <a:rPr b="0" lang="sl-SI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3992400"/>
            <a:ext cx="8610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U posmatranom periodu zabeleženi su samo pojedinačni slučajevi obolevanja pre 25. godine života. Obolevanje je registrovano posle 35. godine kod žena i posle 40. godine kod muškaraca u kontinuitetu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Stope incidencije povećavale su se sa starenjem  (maksimum kod muškaraca izmedju 70-74. godine,  kod žena starijh od 75 godina).</a:t>
            </a:r>
            <a:r>
              <a:rPr b="0" lang="sl-SI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884160"/>
            <a:ext cx="7620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Stopa incidenije kod muškaraca imala je kontinuirani porast od 40 do 74. godina a zatim je registrovan nagli pad, što se može objasniti manjim broj stanovnika muškog pola u ovoj starosnoj grup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Stopa incidencije kod žena pokazivala je mnogo više varijabilnosti i oscilacija. Najviše obolevanje žena  starosti 75 i više godina može se objasniti da žena ima više od muškaraca ove starosti u populacij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Najučestalija lokalizacija malignog procesa na želucu bila je kardija.  Patohistološkom diferencijacijom preovlađuje adenokarcinoma i to kod 77% obolelih, 1% imao je sarkom a kod 22% nije bio označen patohistološki tip raka želuca.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723240"/>
            <a:ext cx="8007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Trendovi nestandardizovani i standardizovanih stopa incidencije kod muškaraca i kod žena pokazuju blagi pora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Godišnje nestandardizovane stope incidencije za rak želuca kod muškaraca kretale su se od 19,6/100000 (2000) do 33,4/100 000 (2007). Stopa incidencije 2007. godine bila je 1,7 puta viša u odnosu na 1999. godin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Najviša godišnja stopa incidencije za rak želuca kod žena zabeležena je 2004. godine 20,2/ 100 000, a najniža je bila 2007. i iznosila je 1,1/100 000. Razlika 2007. u odnosu na 2004. bila je 18, 4 puta manja. Ovaj podatak može se objasniti podregistracijom že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Godišnje nestandardizovane stope incidencije kod muškaraca imaju manje oscilacija i naglih skokova i padova, nego kod žena. Ovi rezultati mogu se objasniti većom učestalošću ovog malignoma kod muškaraca nego kod žena, kao i činjenicom da se žene neredovnije javljaju lekaru i kod postojanja simptoma obolenja, pa je i njihova registracija vrlo različi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0880" y="625680"/>
            <a:ext cx="853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Trend nestandardizovanih stopa mortaliteta kod muškaraca i kod žena pokazuje blagi pora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Najniža nestandardizovana godišnja stopa mortaliteta zabeležena je kod muškaraca 2006. godine i iznosila je 14,5, a najviša je zabeležena 2007. (27,5). Porast stope mortaliteta 2007. godine bio je 1,9 puta u odnosu na 2006. godinu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Kod žena godišnje nestandardizovane stope mortaliteta kretale su se od 6,1 (1999.) do 16,2 (2007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289656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Trend standardizovanih stopa mortaliteta kod muškaraca ima negativnu vrednost što pokazuje da je došlo do smanjenja umiranja muškaraca od raka želuca, u periodu 1999-2008. godina na teritoriji Nišavskog okrug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Najviša godišnja standardizovana stopa mortaliteta kod muškaraca zabeležena je 1999. godine (12,2), a najniža 2006. godine  (7,8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Prema vrednosti trenda standardizovanih stopa mortaliteta kod žena, došlo je do porasta u odnosu na 1999. godinu. Standardizovana godišnja stopa mortaliteta kod žena kretala se od 2,7 (1999. godine) do 7,2 (2004. godine). Ovi nekonzistentni rezultati mogu se objasniti podregistracijom obolelih i umrlih od raka želu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533520" y="338400"/>
            <a:ext cx="8076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Prema prikazanim rezultatima u svim opštinama na teritoriji Nišavskog okruga, osim opštine Svrljig, muškarci su više obolevali od žena i to u proseku 1,6 puta više.  U opštini Svrljig žene su imale višu prosečnu godišnju nestandardizovanu stopu incidencije i to od muškaraca (138,7 vs 115,8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Opština Svrljig karakteristična po staroj populaciji i većem broju žen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Muškarci su 1,7 puta više umirali od raka želuca na teritoriji Nišavskog okruga od žena u periodu 1999-2008. godin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Umrle žene bile su u proseku 1 godinu starije od muškaraca. Registrovan je dva puta veći broj umrlih od raka želuca koji su bili stariji od 65 godi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U Beogradu, muškarci su u poređenju sa ženama prosečno 1,7 puta češće umirali od raka želu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Stope mortaliteta za rak želuca povećavale su se godinama starosti i bile su najveće kod obolelih starih 70 i više godina.</a:t>
            </a:r>
            <a:r>
              <a:rPr b="0" lang="sl-SI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09480" y="867240"/>
            <a:ext cx="6400800" cy="42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Tridesetih godina XX veka rak želuca bio je najčešći uzrok umiranja u SAD i Evropi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Šezdesetih godina XX veka došlo je do značajnog opadanja stope mortaliteta od raka želuca i to prvo u najrazvijenijim zemljama sveta, uglavnom zahvaljujuć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58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širokoj upotrebi frižidera i zamrzivača u domaćinstvima,  smanjilo upotrebu konzervirane hrane ( smanjila se i bakterijska kontaminacija hrane i stvaranje kancerogenih materija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58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-      Smanj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na </a:t>
            </a: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je stope hronične infekcije sluznice želuca bakterijom Helicobacter pylori (poboljšanje lične i opšte higijene, upotreba antibiotika, sprovodjenje skrininga)</a:t>
            </a:r>
            <a:r>
              <a:rPr b="0" lang="sl-SI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58000" y="1828800"/>
            <a:ext cx="21337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783000"/>
            <a:ext cx="8823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Na teritoriji Nišavskog okruga, najveća razlika u umiranju između muškaraca i žena zabeležena je u opštini Merošina (2,1 vs 1), a najmanja u opštinama Ražanj (1,1 vs 1) i Svrljig (1,2 vs 1) gde je bio gotovo podjednak broj umrlih muškaraca i žen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Prijavljivanje novoobolelih je nedovoljno i diskontinuirano, a jedini izvor podataka o obolelima su zvanične potvrde smrti od raka želuc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3064320"/>
            <a:ext cx="8453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Od 1999. godine uvođenjem komjuterskog softvera CanReg 3 a kasnije i CanReg 4, aktivnijim pronalaženju novoobolelih pacijenata (uključujući i one koji se u ranijim godinama bili subregistrovani) i boljim prijavljivanjem od strane zdravstvenih ustanova koje se bave dijagnostikom, lečenjem i rehabilitacijom obolelih, incidencija ovog malignoma značajno rast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To je najverovatnije i objašnjenje porasta broja umrlih u pomenutim godinama, mada razlog može da bude i posledica kraćeg preživljavanja, zbog otkrivanja bolesti u odmakloj fazi kada su mogućnosti lečenja vrlo skrom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990720" y="687600"/>
            <a:ext cx="685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6. Z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KLJU</a:t>
            </a: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Prema prikazanim podacima u periodu 1999-2008. godine zabeležen je blagi porast trendova incidencije i mortaliteta od raka želuca na teritoriji Nišavskog okrug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Muškarci su u proseku više obolevali i više umirali od že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Najviše uzrasno specifične stope registrovane su kod starijih od 70 godin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Najviše stope incidencije i mortaliteta zabeležene su u opštinama Merošina i Gadžin Han, a najniže u opštinama Ražanj i Svrlji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Uočeno je postojanje nedovoljno prijavljivanje obolelih i umrlih od raka želuca, što se odrazilo na kvalitet podataka u registr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Neophodno je povećati prijavljivanje obolelih i umrlih i primenjivati mere primarne i sekundarne prevenci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724680" y="2894400"/>
            <a:ext cx="56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ahoma"/>
              </a:rPr>
              <a:t>                                     </a:t>
            </a:r>
            <a:r>
              <a:rPr b="1" lang="sl-SI" sz="2400" spc="-1" strike="noStrike">
                <a:solidFill>
                  <a:srgbClr val="ffffff"/>
                </a:solidFill>
                <a:latin typeface="Tahoma"/>
              </a:rPr>
              <a:t>HVALA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sl-SI" sz="2400" spc="-1" strike="noStrike">
                <a:solidFill>
                  <a:srgbClr val="ffffff"/>
                </a:solidFill>
                <a:latin typeface="Tahoma"/>
              </a:rPr>
              <a:t>NA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sl-SI" sz="2400" spc="-1" strike="noStrike">
                <a:solidFill>
                  <a:srgbClr val="ffffff"/>
                </a:solidFill>
                <a:latin typeface="Tahoma"/>
              </a:rPr>
              <a:t>PA</a:t>
            </a:r>
            <a:r>
              <a:rPr b="1" lang="pl-PL" sz="2400" spc="-1" strike="noStrike">
                <a:solidFill>
                  <a:srgbClr val="ffffff"/>
                </a:solidFill>
                <a:latin typeface="Tahoma"/>
              </a:rPr>
              <a:t>ŽN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2005920"/>
            <a:ext cx="815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Rak želuca se teško leči i ima nepovoljnu prognozu i u najrazvijenijim zemljama sveta (zapadne Evrope i Severne Amerike) jer se pacijenti javljaju u vreme kada je bolest već uznapredovala kod 90% pacije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Čak i kada se pacijenti podvrgnu hirurškom lečenju često ne žive dugo i umiru zbog različitih komplikacija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30564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Anatomske karakteristike želu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Želudac počinje kod gastroezofagealne krivine i završava se kod duodenuma. Želudac ima tri dela: gornji deo-kardiju, središnji i najveći deo telo ili fundus želuca i distalni deo–pilorus, koji se spaja sa duodenumom. Kardija se najvećim delom sastoji od ćelija koje sekretuju mucin. Fundus ima mukoidne ćelije, glavne ćelije i parijetalne ćelije. Pilorus je sastavljen od ćelija koje sekretuju mucin i od endokrinih ćelija. Zid želuca se sastoji od pet omotača. Od lumena prema spolja to su mukoza, submukoza, mišićni sloj, subserozni omotač i serozni omotač (sluznica). Spoj između ezofagusa i želuca ima malo ili nema serozni omotač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81080" y="3505320"/>
            <a:ext cx="556272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3880" y="366480"/>
            <a:ext cx="571500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okalizacija raka želuca vrši se na osnovu njegove veze za dužom osom želuc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ribližno 40% kancera lokalizuje se na donjem delu želuc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ko 40% u središnjem delu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5% je u gornjem delu želuc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 10% zauzima više od jednog dela želuca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181480" y="3886200"/>
            <a:ext cx="3353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52480" y="2119680"/>
            <a:ext cx="6172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U svetu je 2002. godine od karcinoma želuca obolelo oko 930 000 ljudi a umrlo oko 700 000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Učešće u obolevanju i umiranju od ove maligne neoplazme u odnosu na tumore drugih lokalizacija u svetu je oko 10 %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Stope incidencije za rak želuca dosta variraju između zemalja sveta, čak i do 10 puta .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22880" y="685800"/>
            <a:ext cx="58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Epidemiološke karakteristike u svetu i u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Evrop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19520" y="4724280"/>
            <a:ext cx="42670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11:52:17Z</dcterms:created>
  <dc:creator>Computer</dc:creator>
  <dc:description/>
  <dc:language>en-US</dc:language>
  <cp:lastModifiedBy>parazitologija1n</cp:lastModifiedBy>
  <dcterms:modified xsi:type="dcterms:W3CDTF">2012-02-25T08:29:35Z</dcterms:modified>
  <cp:revision>10</cp:revision>
  <dc:subject/>
  <dc:title>Slide 1</dc:title>
</cp:coreProperties>
</file>