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5A4-4848-4EFC-BC6C-B3D97329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2AB-394C-4D11-A016-75DC82E9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923B-12C3-48B1-9A7A-275EEB7B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7D9-E859-4218-9D72-AE85D7B0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C486-0E20-4FFC-A0C9-E63AD3BC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1246-11EC-42B8-97C0-74FED3F3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0B54-3D18-48FA-9891-5D42E504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4647-13E8-4009-83F1-5890D394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E1DD-F0AA-4146-9BFE-6705C824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3FE4-1596-4858-AE10-A5B5EF03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5EBB-6D4D-4D18-824C-74D16DC3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06C-C968-46B2-942A-6AB49E23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130D-3EA5-492B-9187-ECBFF3A4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C7E4-82C0-404F-B6F2-AE3C2180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6C45-9050-49C9-8DE4-237AD312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7720-479A-48DD-9D01-DC467E0E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AD26-2AD5-4BD3-A6D8-335318B1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82ED4-B3C7-42F5-963D-30603A45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DD344-B96A-4863-A414-45E3E419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031BF-7484-4159-BBF8-203CA2BF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95410-2491-49E0-8229-CD5039C3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79294-F318-4D44-B331-ED737E63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DBA-D632-489D-A686-473A9E17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428D4-1499-43C4-8DEA-3BFDB4D8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0A9EF-3400-49AC-AF0C-4828DA3C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C886A-1C7E-4EDB-AA08-61478EAB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A2EB9-B9EF-432D-8158-C117BBB9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79D66-F52F-4ED1-AD21-AC85C9F6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43D02-89A8-4790-BE7F-2A46A5D2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0517F-9DE0-4032-B717-AD3D7D82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EFAA8-3148-482C-8CA8-DD8821BF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6FF71-F65C-4332-A8F6-2C05A54E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307DC-D84F-4F11-8830-B293D4EE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1D7E-AF62-4F97-87CA-36F95E39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06B37-91DB-4F98-8D1A-AC189FCA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4D185-5A31-4CA5-8573-772DFF29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80128-20CF-480C-9701-B635C7AE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DE722-DA41-4D0E-BA7D-37335BBD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62246-5317-418E-88C0-0A52D9F2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D41F9-7B5F-4D61-80E4-23BF701E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2746B-0253-4BC7-9DB4-3365298E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2B7CA-EF12-41CB-B3D9-D0A90C90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8D945-AF30-4783-9B50-74239802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20825-A48B-4506-9957-92214005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B65-B6DD-4CEA-B27C-AC6FC0C4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3C43F-F32C-4300-A8CE-4DCBC8F1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CB0EC-6875-404F-B229-4CADBA32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208A1-4579-4A46-A8FE-E73CBEB0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6D03A-2749-4D7B-897F-DCC3D1AA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277F6-18C9-45CF-A47A-C7C1BDDF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65E07-E7C6-46FC-9CB3-9211C4F4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D7EB7-EE8F-49B7-AADF-A365132E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CD80C-3940-4873-B49A-B344D6BC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B5C90-64AC-4503-AAA8-BBD806A7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702FD-A804-4F96-A517-9FDE47BC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2C1-7C3A-4494-94DD-54DEC2CC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D9421-3DC8-4DAB-82DB-5FBDB24F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CB7AD-BD54-41A0-ABEA-97CDA427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5034F-14F4-4BE9-89CF-A3DE9B32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0B80F-1ADE-4D2B-BEA1-0EE27A24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9BC59-E170-4108-A0F5-C7A389A7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55F68-78A2-4D34-8F66-9406883F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C9D0A-4205-47CD-AD74-3655D17D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D7BA8-C7F9-416B-AB02-1E6F8BB0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3F446-38AA-4219-B351-6B4577A9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953E8-575A-44AC-813A-22FBF80C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5CC-38CF-4C1A-9DFA-E2B3B8AD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88659-8B3B-45DF-9EB4-012A2C32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5BCFB-794D-41F7-8A20-8022EF01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D4DE7-431D-4A3B-B70F-5170433D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E5BF0-2BD6-4A3D-8F15-BFEC9CF2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35981-12FC-457D-AC4A-924C94CE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47111-F2AF-4F3D-9832-83A09F34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EAF4F-8BA4-4F65-8A45-D25E44FC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5DE95-95D0-41DC-8AD1-79398F20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D78E1-D630-4311-9F7D-AA2DEE26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76EBC-E0DB-46CF-A224-9F865D60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E64-7FED-4C51-A90E-FEB5A1C8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F2A46-31E9-4DD7-B025-E9FB556C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A4407-9661-4BA9-89B8-A03CA5CD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28C50-0C55-4813-B62C-85D9509F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2C580-A63F-485D-AEAC-C90F084F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CBC23-FCC0-4817-A537-85BE5E5B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8BCB5-3CFD-444C-B8BB-C5B56887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E5D68-D5EE-43C9-A6C2-C9B1576F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837A0-6DE2-4E7C-8E95-E6E7E95D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3A9BE-E595-4EC0-8AC7-4E7FF768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B5A61-E187-4464-A3B3-BC6CF301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7F9-D7D5-4711-A6F7-91A95DEB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CEBF7-0264-48E9-89E7-624A8F3A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85D0D-E98B-4785-AA22-FD0CB761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A9A29-37E2-40C9-A549-922C77D8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98256-42EF-4DB3-BE61-6488EBC8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160D5-0D16-4599-A22B-1CFD9FD8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66ED5-6CD0-475D-9FC1-4EF55D55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3DD7C-D3E1-41F7-832A-9C60C949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65B7-B19A-4909-B262-47225B871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7DFB-A277-471B-812A-67C60E7D6B0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E688-C4B5-4629-A6DB-D8C369CE0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A914-CE6F-42CF-9212-98E02DB489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486C-A0F4-4EB7-9FAF-15D6ED826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5074-9A22-4F7A-8C4F-AC58017D5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B674-30E7-45C7-AC7A-4D6E5638319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2115-F6D8-469D-8586-397113C6150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secernabolest.rs/gojaznost.html" TargetMode="Externa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cernabolest.rs/ishrana.html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755640" y="1438200"/>
            <a:ext cx="12887280" cy="1463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530280" y="-6480"/>
            <a:ext cx="8163000" cy="8542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228240" y="7621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eventivne mere su usmerene na stanje pre-dijabetesa. Pre-dijabetes je vodeći faktor rizika za manifestni dijabetes tip 2. U ovoj fazi ne postoje simptomi bolesti, ali postoji niz faktora rizika kao što su gojaznost, fizička neaktivnost, povišen krvni pritisak, pušenje, i dr.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ez tretmana svaka treća osoba sa pre-dijabetesom oboleće od šećerne bolesti. Najvažniji "lek" u pre-dijabetesu je promena životnih navika. 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REDUKCIJA TELESNE MASE.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 Gubitkom telesne mase organizam postaje osetljiviji na insulin, a glukoza se efikasnije koristi da obezbedi enegriju organizmu.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088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FIZIČKA AKTIVNOST.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 Umerena, rekreativna fizička aktivnost pomoći će vam da smanjite telesnu masu, redukovaće vam nivo glukoze u krvi i blago će uticati na sniženje krvnog pritiska. </a:t>
            </a:r>
            <a:br>
              <a:rPr sz="2300"/>
            </a:br>
            <a:br>
              <a:rPr sz="2300"/>
            </a:br>
            <a:r>
              <a:rPr b="0" lang="en-US" sz="23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PRIMENJUJTE IZBALANSIRANU ISHRANU.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 Potrebna vam je raznovrsna ishrana bogata povrćem, biljnim vlaknima, voćem. Takođe, morate u ishrani da imate zastupljeno meso, ribu i masti. 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PRESTANITE DA PUŠITE.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 Pušenje utiče na insulinsku rezistenciju i povećava rizik za oboljevanje od bolesti srca i krvnih sudova. 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KONTROLIŠITE REDOVNO KRVNI PRITISAK, HOLESTEROL I TRIGLICERIDE.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5367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304560" y="5331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34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entury Gothic"/>
              </a:rPr>
              <a:t>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Da bi se postavila dijagnoza šećerne bolesti obavljaju se sledeće analiz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Šećer u krv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Šecer u mokrać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Aceton u mokraći(odredjuje se pomoću test trakica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Ogtt tes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entury Gothic"/>
              </a:rPr>
              <a:t>Ispitivanje sekrecije insulin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sobe koje pripadaju rizičnim grupama za oboljevanje od dijabetesa tip 2 mogu da odlože ili izbegnu bolest promenom stila života na prvom mestu. Za prevenciju šećerne bolesti najvažnije je periodično raditi skrining testove. Dve najčešće metode su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određivanje jutarnje glikemije (IGF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OGTT (oralni test tolerancije na glukozu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dređivanje jutarnje glikemije (nivo glukoze u krvi) vrši se natašte nakon gladovanja od najmanje 8h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OGT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 (oralni test tolerancije na glukozu) je senzitivniji od merenja glikemije natašt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zvodi se tako što se posle 8h gladovanja izmeri vrednost glukoze u krvi, a zatim se popije rastvor glukoze (75g glukoze) i meri se glikemija nakon 2h. 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927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hr-HR" sz="2000" spc="-1" strike="noStrike">
                <a:solidFill>
                  <a:srgbClr val="ffffff"/>
                </a:solidFill>
                <a:latin typeface="Century Gothic"/>
              </a:rPr>
              <a:t>Lečenje šećerne bolseti sastoji se u pripremanju opštih mera:u terapiji ishranom,u terapiji fizičkom aktivnošću i medikamentnom lečenju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0" y="2209680"/>
            <a:ext cx="883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Dijet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lavni cilj terapije diabetesa je održavati nivo šećera u krvi što je moguće bliže normalnim vrednostima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EDIKAMENTNO LECENJE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ralni antihiperglikemici(preparati sulfonil ureje,meglitinidi,oni koji inhibisu apsorpciju glikoze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suli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Kombinovana terapij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ransplatacija pankreas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8049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0456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U prevalenciji IZDM zapažene su značajne geografsk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i etničke razlike.U nekim populacionim grupama ovo oboljenje je vrlo retko ili čak nepoznato. Zemlja sa neočekivano najnižom stopom incidence insulin-zavisnog dijabetesa tzv. "hladna tačka Evrope" je </a:t>
            </a:r>
            <a:r>
              <a:rPr b="1" lang="hr-HR" sz="2600" spc="-1" strike="noStrike">
                <a:solidFill>
                  <a:srgbClr val="ffffff"/>
                </a:solidFill>
                <a:latin typeface="Century Gothic"/>
              </a:rPr>
              <a:t>Makedonija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Podaci o incidenciji IZDM pokazuju da se bolest klinički manifestuje oko pete godine i još više između desete i trinaeste godine, dok </a:t>
            </a:r>
            <a:r>
              <a:rPr b="1" lang="hr-HR" sz="2600" spc="-1" strike="noStrike">
                <a:solidFill>
                  <a:srgbClr val="ffffff"/>
                </a:solidFill>
                <a:latin typeface="Century Gothic"/>
              </a:rPr>
              <a:t>razlike među polovima nisu uočene</a:t>
            </a: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.Ovo se može objasniti pojavom hormon rasta i polnih hormona koji imaju dejstvo suprotno insulinu te se kod insuficijencije pankreasa klinički manifestuje boles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33520" y="1294920"/>
            <a:ext cx="8153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ffffff"/>
                </a:solidFill>
                <a:latin typeface="Century Gothic"/>
              </a:rPr>
              <a:t>Najviša stopa incidence za insulin-zavisni dijabetes je u Finskoj koja ima najvišu stopu incidence na svetu (35-40</a:t>
            </a:r>
            <a:r>
              <a:rPr b="1" lang="hr-HR" sz="2300" spc="-1" strike="noStrike" baseline="30000">
                <a:solidFill>
                  <a:srgbClr val="ffffff"/>
                </a:solidFill>
                <a:latin typeface="Century Gothic"/>
              </a:rPr>
              <a:t>o</a:t>
            </a:r>
            <a:r>
              <a:rPr b="1" lang="hr-HR" sz="23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1" lang="hr-HR" sz="2300" spc="-1" strike="noStrike" baseline="-25000">
                <a:solidFill>
                  <a:srgbClr val="ffffff"/>
                </a:solidFill>
                <a:latin typeface="Century Gothic"/>
              </a:rPr>
              <a:t>oooo</a:t>
            </a:r>
            <a:r>
              <a:rPr b="1" lang="hr-HR" sz="2300" spc="-1" strike="noStrike">
                <a:solidFill>
                  <a:srgbClr val="ffffff"/>
                </a:solidFill>
                <a:latin typeface="Century Gothic"/>
              </a:rPr>
              <a:t>).Na drugom mestu je Sardinija</a:t>
            </a:r>
            <a:r>
              <a:rPr b="0" lang="hr-HR" sz="2300" spc="-1" strike="noStrike">
                <a:solidFill>
                  <a:srgbClr val="ffffff"/>
                </a:solidFill>
                <a:latin typeface="Century Gothic"/>
              </a:rPr>
              <a:t>.Objašnjenje za Sardiniju i Maltu, koja takođe ima visoku stopu incidence, možda leži u izolovanosti i genetske selekcije stanovništva zbog malarije koja je bila vodeći uzrok smrti na tim prostorima.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ffffff"/>
                </a:solidFill>
                <a:latin typeface="Century Gothic"/>
              </a:rPr>
              <a:t>Najmanja stopa incidence je u Japanu</a:t>
            </a:r>
            <a:r>
              <a:rPr b="0" lang="hr-HR" sz="23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ffffff"/>
                </a:solidFill>
                <a:latin typeface="Century Gothic"/>
              </a:rPr>
              <a:t>Nije jasno zašto postoji velika razlika među skandinavskim zemljama koje su geografski,ekonomski i kulturno vrlo bliske.Sličan slučaj je i sa Izraelom gde Jevreji imaju pet puta veće stope incidencije od Arapa koji žive na istoj teritoriji.</a:t>
            </a: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revalenciji INDM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Latn-CS" sz="2300" spc="-1" strike="noStrike">
                <a:solidFill>
                  <a:srgbClr val="ffffff"/>
                </a:solidFill>
                <a:latin typeface="Century Gothic"/>
              </a:rPr>
              <a:t>se kreće </a:t>
            </a: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0 do skoro 40%.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ffffff"/>
                </a:solidFill>
                <a:latin typeface="Century Gothic"/>
              </a:rPr>
              <a:t>Kod </a:t>
            </a:r>
            <a:r>
              <a:rPr b="1" lang="hr-HR" sz="2300" spc="-1" strike="noStrike">
                <a:solidFill>
                  <a:srgbClr val="ffffff"/>
                </a:solidFill>
                <a:latin typeface="Century Gothic"/>
              </a:rPr>
              <a:t>Papua Indijanaca (Nova Gvineja) prevalenca je približno 0,0%.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Kod </a:t>
            </a: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Pima 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Indijanaca u Severnoj Americi, kao i </a:t>
            </a: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Aboridžina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 u Australiji iznosi i do </a:t>
            </a: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40%.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Smatra se da je </a:t>
            </a: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svetski prosek od 2-5%.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U većini visoko razvijenih zemalja,uključujući </a:t>
            </a: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SAD,prosek je 5-12%.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U državama sa naglom industrijalizacijom,gde se prelazi na moderan način ishrane i života uopšte,taj procenat je veći.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Niske stope</a:t>
            </a: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 su nađene kod Eskima-manje od 2%,Aljasci,Indijskom poluostrvu (1,2-2%),Dalekom istoku (1-1,6%),Australiji (2,3%) i Novom Zelandu (2,8%).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Arial"/>
              <a:ea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ffffff"/>
                </a:solidFill>
                <a:latin typeface="Century Gothic"/>
              </a:rPr>
              <a:t>Procene su da se prevalenca u </a:t>
            </a:r>
            <a:r>
              <a:rPr b="1" lang="hr-HR" sz="2300" spc="-1" strike="noStrike">
                <a:solidFill>
                  <a:srgbClr val="ffffff"/>
                </a:solidFill>
                <a:latin typeface="Century Gothic"/>
              </a:rPr>
              <a:t>Evropi kreće u granicama 0,5-3%.</a:t>
            </a:r>
            <a:r>
              <a:rPr b="0" lang="hr-HR" sz="2300" spc="-1" strike="noStrike">
                <a:solidFill>
                  <a:srgbClr val="ffffff"/>
                </a:solidFill>
                <a:latin typeface="Century Gothic"/>
              </a:rPr>
              <a:t> Prema aktuelnim </a:t>
            </a:r>
            <a:r>
              <a:rPr b="0" lang="hr-HR" sz="2300" spc="-1" strike="noStrike">
                <a:solidFill>
                  <a:srgbClr val="ffffff"/>
                </a:solidFill>
                <a:latin typeface="Arial Black"/>
              </a:rPr>
              <a:t>podacima</a:t>
            </a:r>
            <a:r>
              <a:rPr b="0" lang="hr-HR" sz="2300" spc="-1" strike="noStrike">
                <a:solidFill>
                  <a:srgbClr val="ffffff"/>
                </a:solidFill>
                <a:latin typeface="Century Gothic"/>
              </a:rPr>
              <a:t>, prevalenca INDM-a u najrazvijenijim industrijskim zemljama Evrope iznosi 2%. Od evropskih zemalja najveću stopu prevalence za dijabetes ima Malta - 3,9%.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ffffff"/>
                </a:solidFill>
                <a:latin typeface="Century Gothic"/>
              </a:rPr>
              <a:t>Aktuelna procena je da kod nas trenutno ima oko 300.000 obolelih, međutim sistematska istraživanja u Vojvodini su pokazala da na njenoj teritoriji ima oko 185.000 dijabetičara opovrgavaju ovu nisku procenu.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ffffff"/>
                </a:solidFill>
                <a:latin typeface="Century Gothic"/>
              </a:rPr>
              <a:t>Na teritoriji nišavskog okruga u toku jedanaestogodišnjeg istraživanja (1985-1996), utvrđena je godišnja stopa incidence od 127,4</a:t>
            </a:r>
            <a:r>
              <a:rPr b="1" lang="hr-HR" sz="2300" spc="-1" strike="noStrike" baseline="30000">
                <a:solidFill>
                  <a:srgbClr val="ffffff"/>
                </a:solidFill>
                <a:latin typeface="Century Gothic"/>
              </a:rPr>
              <a:t>o</a:t>
            </a:r>
            <a:r>
              <a:rPr b="1" lang="hr-HR" sz="23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1" lang="hr-HR" sz="2300" spc="-1" strike="noStrike" baseline="-25000">
                <a:solidFill>
                  <a:srgbClr val="ffffff"/>
                </a:solidFill>
                <a:latin typeface="Century Gothic"/>
              </a:rPr>
              <a:t>oooo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ffffff"/>
                </a:solidFill>
                <a:latin typeface="Century Gothic"/>
              </a:rPr>
              <a:t>Prosečno svake godine se prijavi oko 500 novih slučajeva,a njihov broj se kretao, zavisno od godine, od 178 do preko 800!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vetska zdravstvena organizacija (World Health Organization – WHO) i Međunarodna federacija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za dijabetes (International Diabetes Federation – IDF) procenjuju da 2009. godine u svetu od dijabetesa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oluje 246 miliona ljudi, a da će se broj obolelih od dijabetesa do 2025. godine povećati na 380 miliona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ako se najviše stope incidencije registruju u razvijenim zemljama, najveći porast broja obolelih očekuje s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 zemljama u razvoju, gde spada i naša zemlja .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ema istim izvorima, u Republici Srbiji bez Kosova i Metohije o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ijabetesa boluje približno 600.000 osoba ili 8,2% populacije . Broj osoba sa tipom 2 dijabetesa j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nogostruko veći (95%) u odnosu na osobe sa tipom 1 dijabetesa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2282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entury Gothic"/>
              </a:rPr>
              <a:t>Šecerna bolest je jedno od najčešćih,teških,metaboličkih oboljenja ljudi.</a:t>
            </a: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Predstavlja hroničnu masovnu nezaraznu bolest sa poremećajem metabolizma ugljenih hidrata, proteina i masti, uslovljenu apsolutnim ili relativnim nedostatkom insulina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Po definiciji koju je dala grupa za studije dijabetesa Svetske zdravstvene organizacije </a:t>
            </a:r>
            <a:r>
              <a:rPr b="1" lang="hr-HR" sz="2600" spc="-1" strike="noStrike">
                <a:solidFill>
                  <a:srgbClr val="ffffff"/>
                </a:solidFill>
                <a:latin typeface="Century Gothic"/>
              </a:rPr>
              <a:t>diabetes mellitus predstavlja hronično progresivno oboljenje,koje se karakteriše hiperglikemijom i drugim biohemijskim poremećajima zbog neadekvatne produkcije ili neadekvatnog dejstva insulina koji kontroliše metabolizam glukoze,masti i belančevina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560" y="10663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i tom, prema procenama domaćih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ksperata i na osnovu rezultata međunarodnih studija, najmanje polovina osoba sa tipom 2 dijabetesa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ema postavljenu dijagnozu i ne zna za svoju boles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evalencija dijabetesa raste sa godinama starosti, i procenjuje se da je gotovo polovina obolelih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arija od 65 godina . Kod starijih osoba tip 2 dijabetesa otkriva se relativno kasno, kada su već prisutn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rojne kardiovaskularne komplikacije. U Srbiji, kao i u razvijenim zemljama sveta, dijabetes je peti vodeći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zrok smrtnosti 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 našoj zemlji od ove bolesti godišnje umre oko  3000 osoba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LITERATURA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WW.</a:t>
            </a: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INSTITU ZA JAVNO ZDRAVLJE NIŠ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.COM</a:t>
            </a: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(EPIDEMIJA ŠEĆERNE BOLESTI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INTERNE BOLESTI SA NEGOM(LEČENJE ŠEĆERNE BOLESTI,KLINIČKA SLIKA)200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WW.</a:t>
            </a: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INSTITUT BATANT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.COM</a:t>
            </a:r>
            <a:r>
              <a:rPr b="0" lang="hr-HR" sz="3000" spc="-1" strike="noStrike">
                <a:solidFill>
                  <a:srgbClr val="ffffff"/>
                </a:solidFill>
                <a:latin typeface="Century Gothic"/>
              </a:rPr>
              <a:t>(EPIDEMIJA ŠEĆERNE BOLESTI)DR.MILAN JOVANOVIĆ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Etiologija šećerne bolesti jos uvek nije potpuno razvijena.Na osnovu dosadašnjih saznanja moze se reći da u nastanku šećerne bolesti osnovnu ulog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u</a:t>
            </a: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 imaju genetski činioci.Razvoju šećerne bolesti mogu pridoneti mnogi faktori kao što su virusne infekcije,specifični imunološki poremecaji,endokrina oboljenja u kojih postoji povišen nivo nekog od kontraregulatornih hormona.Pojavu dijabetesa ubrzavaju mnogi činioci sredine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,</a:t>
            </a: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nači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a </a:t>
            </a: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života,infekcije,trudnoća,bolesti pankreasa i jetra,neki lekovi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38088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Zbog velike raznolikosti u ispoljavanju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dijabetesa,i klinička slika je različita i individualna za svakog bolesnika.Na osnovu etiološkog činilaca,prema preporukama Svetske zdravstvene organizacije 1977. Razlikuju se sledeci klinički oblici dijabetesa melitusa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1.Tip 1(IZDM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2.Tip 2 (INDM)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a)bez prateće gojaznosti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b)udružen sa gojaznošću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3.Malnutrucijski oblik dijabetesa melitus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4.Drugi specifični oblici dijabetesa,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Postoji i Gestacijsku dijabet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378000" y="-176040"/>
            <a:ext cx="8242200" cy="14810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iabetes tip 1 se najčešće javlja kod mlađih osoba (ispod 30-te godine života), sa pikom u vreme puberteta. Autoimunim procesom, koji je u osnovi oboljenja,  B ćelije pankreasa su praktično uništene, insulina u cirkulaciji praktično nema, glukagon je povišen. Beta ćeilje ne reaguju na stimuluse,  i u takvim uslovima bez insulina, jetra, mišići i masno tkivo ne samo da ne mogu da absorbuju glikozu (ćelije galaduju), već je i oslobađaju.Nivo insulin je izrazito smanjen ili ga nema,izrazena je skolnost ka ketoacidozi,a leči se isključivo insulinom.Ranije je ovaj oblik bio poznat pod nazivom “juvenilni dijabetes”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Kod naglog početka dijabetesa tip 1, simptomi brzo progrediraju. Ketoacidoza ubrzava dehidrataciju i hiperosmolarnost, dovodeći do  anoreksije, mučnine i povraćanja. Kada osmolarnost plazme pređe 330 mosm/kg (normalno 285-295 mosm/kg) dolazi do poremećaja svesti, a kada se acidoza produbi sa pH ispod 7,1  dolazi do ubrzanog, čujnog disanja ( </a:t>
            </a:r>
            <a:r>
              <a:rPr b="0" i="1" lang="en-US" sz="2600" spc="-1" strike="noStrike">
                <a:solidFill>
                  <a:srgbClr val="ffffff"/>
                </a:solidFill>
                <a:latin typeface="Century Gothic"/>
              </a:rPr>
              <a:t>Kussmaul-ovo disanje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), koje nastaje kao pokušaj organizma da izbaci ugljen dioksid. Sa padom pH ispod 7,0 kardiovaskularni sistem otežano sprovodi kompenzatornu vazokonstrikciju i može doći do kolapsa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ip 2 dijabetesa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 (nekad nazivan insulinonezavisan tip diabetesa - INZD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entury Gothic"/>
              </a:rPr>
              <a:t>Ovaj tip bolesti često pokazuje podmukao početak sa ispoljavanjem nekoliko klasičnih simptoma dijabetesa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Century Gothic"/>
              </a:rPr>
              <a:t>ili bez njih.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vaj tip šećerne bolesti javlja se kada pankreas još uvek izlučuje insulin ali u nedovoljnoj količini i/ili izlučeni insulin ne ispoljava adekvatno očekivane efekte. U većini slučajeva nivo glukoze u krvi može se smanjiti dijetom ili dijetom uz uzimanje tablet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vaj tip diabetesa obično dobijaju osobe starije od 40 godina, početak je postepen i često se otkriva slučajno</a:t>
            </a:r>
            <a:r>
              <a:rPr b="0" lang="sr-Latn-C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just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Bolest se manifestuje polidipsijom,</a:t>
            </a:r>
            <a:r>
              <a:rPr b="0" lang="hr-HR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oliurijom,</a:t>
            </a:r>
            <a:r>
              <a:rPr b="0" lang="hr-HR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gubitkom telesne težine a ukoliko se ne preduzme lečenje,</a:t>
            </a:r>
            <a:r>
              <a:rPr b="0" lang="hr-HR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olazi do pojave stupora i kome. </a:t>
            </a: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Komplikacij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kutne metaboličke komplikacije - </a:t>
            </a:r>
            <a:r>
              <a:rPr b="0" lang="hr-HR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ajteži oblik je koma i to hipoglikemijska,</a:t>
            </a:r>
            <a:r>
              <a:rPr b="0" lang="hr-HR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iperglikemijska-ketonska oko 1-2%. Najveći praktični značaj ima ketoacidoz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ronične (organske ili degenerativne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- uzrok smrti u preko 80% ovih bolesnika.Ozbiljna oštećenja nastaju u celokupnom nervnom sistemu,očnom sočivu i drugim tkivima ali su najznačajnije 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krvni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m sudovim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Za sve navedene tipove dijabetesa,od brojnih kliničkih simmptoma i znakova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najvažniji su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Poliurija(učestalo mokrenje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Polidipsija(povećana žedj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Polifagija(pojačan apetit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Mršavljenj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Suva koža i sluzokoz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Hipereglikemij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Glikozurija(šećer u mokraći se javlja kada nivo glukoze u krvi predje 10mmol/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entury Gothic"/>
              </a:rPr>
              <a:t>Acetonija i miris acetona                                                                           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8T23:26:48Z</dcterms:created>
  <dc:creator>milenica</dc:creator>
  <dc:description/>
  <dc:language>en-US</dc:language>
  <cp:lastModifiedBy>parazitologija1n</cp:lastModifiedBy>
  <dcterms:modified xsi:type="dcterms:W3CDTF">2014-05-15T11:32:08Z</dcterms:modified>
  <cp:revision>24</cp:revision>
  <dc:subject/>
  <dc:title>Slide 1</dc:title>
</cp:coreProperties>
</file>