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102-AFA7-4A1D-94A8-F088E333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A4F-6ED2-48EC-BE61-226D6B7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171-6E83-4BB8-8BBD-DF66ACC4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1EB-DA2F-44CB-9959-26DCF77E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C10-632A-4CA8-87AA-7E0FD9A3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8170-C49D-4D11-9CA9-88F6095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87A-7F8B-41BE-9737-8AD11F9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F772-1BD3-4957-B9F4-CB4FB76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637C-04B6-423D-A9C2-087F89B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D43-AC93-4C3D-97D5-245C447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348E-6DEF-4A94-857D-403EFC99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01D-49CA-4464-B78B-E755FA93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4A40-9E94-43F8-9F38-BFAF13B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34E5-7F7B-4005-9689-FA8D39A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2201-F29C-4CB1-BAFC-4F76E6E0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B050-C27B-4655-B769-7ECAB5A2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070-23B4-4404-96CA-9FBF8948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5D0-808E-4160-AA3B-66A3E23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1ED-CE5D-4AD2-8007-9ABAB231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6DC-1148-4FD3-9B89-3573DEC3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CA5-786E-40D5-9AEC-C3041CB4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E6C-E2E2-460E-933A-599D2AD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54E-7DEA-4AB1-852E-11BFC139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84B-B8FF-4DDE-A431-84BFA2C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44D-ACE4-468C-9A20-3F0674D8BFB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Comic Sans MS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8D1C-EF06-4635-8333-8CE862066B5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7d47d"/>
                </a:solidFill>
                <a:latin typeface="Arial"/>
              </a:rPr>
              <a:t>Karakteristike epidemija polno prenosivih boles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Epidemiološka klasifikacija zaraznih bolesti zasniva se na ulaznom mestu infekcij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Kada je u pitanju njihovo epidemijsko javljanje, podela obuhvata dva osnovna tip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Epidemije zajedničkog izvor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Progesivne (propagirajuće) epidemi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U praksi se epidemije dele prema glavnom putu širenja (alimentarne, hidrične,aerogene, kontaktn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7d47d"/>
                </a:solidFill>
                <a:latin typeface="Arial"/>
              </a:rPr>
              <a:t>Polno prenosive boles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Epidemije su progresivne epidemije su ako se šire sa jedne zaražene osobe na drug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Kakvog su tipa? (progresivnog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Prema putu prenošenja-kontaktne (direktan kontakt, dodir, indirektan kontakt –instrumentim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Koji je glavni put širenja epidemija polno prenosivih bolesti? (kontaktni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7d47d"/>
                </a:solidFill>
                <a:latin typeface="Arial"/>
              </a:rPr>
              <a:t>Kontakntne epidemi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Karakteristike ovih epidemija zavise od konkretnog mehanizma prenos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Najčešće se misli na prljave ruke (crevne zarazne bolesti) i na zagađene predme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Epidemije zahvataju relativno mali broj osoba, odnosno stopa javljanja je nisk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Klinička slika nije teška (manja je infektivna dozauzročnika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z istog razloga inkubacija je produžena, duža je od prosečn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nfekcija se širi postepeno, a početak epidemije se retko i prepoznaj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Njen hronološki tok se obično naknadno rekonstruiš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Epidemije obično traju dugo, nedeljama, mesecim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Brzina širenja zavisi od higijenskih uslova i navik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Ove epidemije nemaju sezonski karakter. Mogu se javiti u bilo koje doba godin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Ograničene su na određeno područj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ko postoje povoljni uslovi mogu da se prošir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Ograničene su na neki kolektiv (porodica, obdanište, škol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Uglavnom su monotipne (izazvane su jednim mikroorganizmom i to često, jednim sojem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ko nastaju kao posledica polnog kontakta, onda mogu da imaju buran karakter (epidemija AIDS/HIV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Pandemija AI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07:19Z</dcterms:created>
  <dc:creator>Intel</dc:creator>
  <dc:description/>
  <dc:language>en-US</dc:language>
  <cp:lastModifiedBy>parazitologija1n</cp:lastModifiedBy>
  <dcterms:modified xsi:type="dcterms:W3CDTF">2014-05-15T09:22:51Z</dcterms:modified>
  <cp:revision>5</cp:revision>
  <dc:subject/>
  <dc:title>Karakteristike epidemija polno prenosiv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