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1C6-24C7-4C5B-9E31-6F105B32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670-01EB-4C4E-926B-FD97F64A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532-9522-430E-B634-D03C1CD0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DD9-5F44-42C6-A2B3-B14CE363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8A7F-1AA1-42DE-A3C5-1E4C6998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E49F-0D42-48B6-83FD-08687185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67F9-9EAE-4792-B38B-661DD59D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6634-56FF-4DDD-8AF5-B96B7E0E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DBE8-0A3B-4028-8686-0BC285CC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8B53-127C-4FC9-A422-E313C124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C7B3-FD50-4C98-A7A6-A4D2C207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B8C-C460-4258-B4E0-9FEA9FCC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2365-0791-40AD-93F0-3AB6D1E2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8A00-CFF0-488D-AFB0-534D81D6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17EA-6F1E-4A23-9B7D-4DF4BE93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C3A0-31AA-46DA-B973-0955A58B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E0BC-5193-4ED8-A8E7-0BBF1D8B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548-55EE-4A3E-9A4D-0652AA97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76B-F4EF-4DD6-963B-B19D99F6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3EB-667E-47F2-B6D7-53806FE0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2CF-B0E3-456B-85E4-1391C166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873-19E7-46F7-B159-B35DB5F8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963-039A-4487-BC2B-F2949FA1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0A34-96D8-44B4-B2C1-B498700F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0E5A-C6F9-451F-AB29-87D6845DE58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8500-BC19-4051-80C8-BABF510F06B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ho.int/wer/2006/wer8128.pd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68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oc.dr Vladimir Petrovi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cinski fakultet Novi S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VENCIJA IMUNIZACIJO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aeaea"/>
                </a:solidFill>
                <a:latin typeface="Tahoma"/>
              </a:rPr>
              <a:t>Trenutno dostupni rezultati kliničkih ispitivanja 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Focetri</a:t>
            </a:r>
            <a:r>
              <a:rPr b="0" lang="sr-Latn-CS" sz="4400" spc="-1" strike="noStrike">
                <a:solidFill>
                  <a:srgbClr val="eaeaea"/>
                </a:solidFill>
                <a:latin typeface="Tahoma"/>
              </a:rPr>
              <a:t>e koja su u tok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226800" y="6354720"/>
            <a:ext cx="673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Product Information as approved by the CHMP on 18 February 2010, pending endorseme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by the</a:t>
            </a:r>
            <a:r>
              <a:rPr b="1" i="1" lang="sr-Latn-C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European Commission </a:t>
            </a:r>
            <a:r>
              <a:rPr b="1" i="1" lang="sr-Latn-CS" sz="1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ANNEX I SUMMARY OF PRODUCT CHARACTERISTIC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724280" y="1752480"/>
            <a:ext cx="4419720" cy="2133360"/>
            <a:chOff x="4724280" y="1752480"/>
            <a:chExt cx="4419720" cy="2133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4724280" y="1833480"/>
              <a:ext cx="4419720" cy="20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676200" y="2594880"/>
              <a:ext cx="662760" cy="26568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76200" y="3126960"/>
              <a:ext cx="699840" cy="26568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70360" y="2594880"/>
              <a:ext cx="662760" cy="26568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0360" y="3082320"/>
              <a:ext cx="699840" cy="26568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23440" y="1752480"/>
              <a:ext cx="1288800" cy="26568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0" y="1752480"/>
            <a:ext cx="4419720" cy="2133360"/>
            <a:chOff x="0" y="1752480"/>
            <a:chExt cx="4419720" cy="213336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0" y="1844280"/>
              <a:ext cx="441972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915200" y="2764080"/>
              <a:ext cx="662760" cy="2757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51920" y="3362040"/>
              <a:ext cx="662760" cy="2757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46080" y="3269880"/>
              <a:ext cx="662760" cy="2757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46080" y="2718000"/>
              <a:ext cx="662760" cy="2757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4680" y="1752480"/>
              <a:ext cx="1878120" cy="2757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0" y="4038480"/>
            <a:ext cx="4495680" cy="2361960"/>
            <a:chOff x="0" y="4038480"/>
            <a:chExt cx="4495680" cy="2361960"/>
          </a:xfrm>
        </p:grpSpPr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0" y="4093560"/>
              <a:ext cx="4495680" cy="30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"/>
            <p:cNvGrpSpPr/>
            <p:nvPr/>
          </p:nvGrpSpPr>
          <p:grpSpPr>
            <a:xfrm>
              <a:off x="0" y="4038480"/>
              <a:ext cx="4495680" cy="2361960"/>
              <a:chOff x="0" y="4038480"/>
              <a:chExt cx="4495680" cy="2361960"/>
            </a:xfrm>
          </p:grpSpPr>
          <p:pic>
            <p:nvPicPr>
              <p:cNvPr id="1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4394160"/>
                <a:ext cx="4495680" cy="200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1985400" y="5046480"/>
                <a:ext cx="674280" cy="31824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85400" y="5736600"/>
                <a:ext cx="674280" cy="31824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709080" y="5046480"/>
                <a:ext cx="674280" cy="31824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746520" y="5736600"/>
                <a:ext cx="674280" cy="31824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5520" y="4038480"/>
                <a:ext cx="1273680" cy="26532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4648320" y="4038480"/>
            <a:ext cx="4495680" cy="2361960"/>
            <a:chOff x="4648320" y="4038480"/>
            <a:chExt cx="4495680" cy="2361960"/>
          </a:xfrm>
        </p:grpSpPr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>
              <a:off x="4648320" y="4086720"/>
              <a:ext cx="4495680" cy="23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945200" y="5146200"/>
              <a:ext cx="674280" cy="3495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45200" y="5787360"/>
              <a:ext cx="674280" cy="3495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70920" y="4038480"/>
              <a:ext cx="1311120" cy="3495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aeaea"/>
                </a:solidFill>
                <a:latin typeface="Tahoma"/>
              </a:rPr>
              <a:t>Ciljevi </a:t>
            </a:r>
            <a:r>
              <a:rPr b="0" lang="sr-Latn-CS" sz="4400" spc="-1" strike="noStrike">
                <a:solidFill>
                  <a:srgbClr val="eaeaea"/>
                </a:solidFill>
                <a:latin typeface="Tahoma"/>
              </a:rPr>
              <a:t> vanredne </a:t>
            </a:r>
            <a:r>
              <a:rPr b="0" lang="sr-CS" sz="4400" spc="-1" strike="noStrike">
                <a:solidFill>
                  <a:srgbClr val="eaeaea"/>
                </a:solidFill>
                <a:latin typeface="Tahoma"/>
              </a:rPr>
              <a:t>imunizaci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sr-CS" sz="3200" spc="-1" strike="noStrike">
                <a:solidFill>
                  <a:srgbClr val="ffffff"/>
                </a:solidFill>
                <a:latin typeface="Tahoma"/>
              </a:rPr>
              <a:t>edukovanje obolevanja i umiranj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1" lang="sr-CS" sz="3200" spc="-1" strike="noStrike">
                <a:solidFill>
                  <a:srgbClr val="ffffff"/>
                </a:solidFill>
                <a:latin typeface="Tahoma"/>
              </a:rPr>
              <a:t>aštita integriteta zdravstvenog sistema i kritičnih infrastruktura u zemlj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sr-CS" sz="3200" spc="-1" strike="noStrike">
                <a:solidFill>
                  <a:srgbClr val="ffffff"/>
                </a:solidFill>
                <a:latin typeface="Tahoma"/>
              </a:rPr>
              <a:t>edukcija transmisije  pandemijskog virusa u zajednic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KAMPANJA VANREDNE IMUNIZACI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U EU vakcine stižu prekasno i u nedovoljnim količinama da bi se prekinula transmisija u populaci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trategija vakcinacije je usmerena na grupe u rizi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REZULTATI IMUNIZACIJE U EVROP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Do 08.08.2010. godine distribuirano je oko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</a:rPr>
              <a:t>170 miliona doz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, a dato je preko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</a:rPr>
              <a:t>46,2 miliona doz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vakcina protiv pandemijskog grip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ko 38,9 miliona doza tri centralno registrovane vakcine ( Focetria 6,5 milio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ko 5,2 miliona vakcina koje su registrovane za nacionalni n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Imunizovano je oko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361.000 trud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buhvat populacije kreće se od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0% (Poljska)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do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preko 70% (Šveds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NEŽELJENE REAKCIJE NAKON IMUNIZACI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Ogromna većina registrovanih reakcija su iz reda blagih i očekivani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Među težim neželjenim događajima registrovani broj je manji ili u nivou očekivane incidencije poremećaja koji se prirodno javljaj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Trenutno nema dokaza da bilo koja od primenjivanih vakcina povećava rizik nastanka demijelinizirajućih poremećaja uključujuči i G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Podaci ukazuju da nema povezanosti vakcina sa pojavom pobačaja, intrauterine smrti ploda, prveremenog rođenja ili bilo kog drugog sa trudnoćom povezanog događa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6576840"/>
            <a:ext cx="354348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ahoma"/>
              </a:rPr>
              <a:t>Distribucija izveštaja o neželjenim reakcijama u skladu sa uzrastom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232920" y="6564240"/>
            <a:ext cx="510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wenty-second pandemic pharmacovigilance update EMA/527985/201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5321160" cy="44132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642360" y="280044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15619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IZVEŠT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Neželjeni događaji kod vakcinisnih trudnic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840200" cy="4668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6576840"/>
            <a:ext cx="354348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SADRŽAJ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Preporuke za imunizaciju protiv pandemijskog gri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Pandemijske vakc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Dostupni rezultati kliničkih ispitivanja vakc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Ciljevi i rezultati imunizacije u Evro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Neželjeni događaji nakon imunizacije  - EM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Vanredna imunizacija u Srbi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aeaea"/>
                </a:solidFill>
                <a:latin typeface="Tahoma"/>
              </a:rPr>
              <a:t>Demijelinizirajući poremećaji kod vakcinisanih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50920" y="2035080"/>
            <a:ext cx="5905800" cy="4443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576840"/>
            <a:ext cx="354348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aeaea"/>
                </a:solidFill>
                <a:latin typeface="Tahoma"/>
              </a:rPr>
              <a:t>ORGANIZACIJA VANREDNE IMUNIZACIJE U SRBIJ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anredn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imunizacij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provodili su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fiksn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i po potrebi mobilne ekipe Domov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zdravl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ZABRANI LEKAR I MEDICINSKA SEST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AKCINALNI PUNKTO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rganizaciju, koordinaciju i nadzor nad sprovođenjem kampanje imunizacije sprovodi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 je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teritorijalno nadležni IZJZ/ZZJZ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PRIORITETNE GRUPE ZA VAKCINACIJU U SRBIJ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Osobe starosti preko 6 meseci sa hroničnim poremećajima zdravlja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hronične plućne bolesti - uključujući astmu, kardiovaskularne bolesti - izuzev hipertenzije, hronična oboljenja bubrega, jetre, neurološke/neuromuskularne bolesti, hematološki i  metabolički poremećaji - uključujući šećernu bolest i prekomernu gojaznost, imunodeficijencije - uključujući imunosupresiju uzrokovanu lekovima i HIV-om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Trudnice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zbog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povećanog rizika od teške forme obolevanja, koja potencijalno može da rezultuje spontanim pobačajem/smrtnim ishodom, posebno tokom drugog i trećeg trimestra trudnoće), isključujući aplikovanje u prvom trimestru trudnoće, uz konsultaciju ginekologa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Zdrava deca starija od 6 meseci do 2 godine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, uz  konsultaciju pedijatra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Lica zaposlena u objektima u kojima se obavlja zdravstvena delatnost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Lica smeštena i zaposlena u ustanovama za socijalnu zaštitu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Lica zaposlena na poslovima osnovnih funkcija zajednice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 (zaposleni u državnim organima na lokalnom, pokrajinskom i republičkom nivou, zaposleni u javnim službama - proizvodnja i distribucija lekova, hrane, vode, električne energije, dispozicija otpada, javni transport, službe za sahranjivanje, osoblje jaslica, dečijih vrtića i škola, PTT saobraćaj i telekomunikacije, zaposleni u javnom medijskom servisu, finansijske ustanove, zdravstvena zaštita životinja i dr., zaposleni u pravosuđu i zaposleni i lica koja izdržavaju kaznu u zavodima za izvršenje krivičnih sankcija) prema posebnim planovima organa državne uprave i lokalnih samouprava, koje dostavljaju teritorijalno nadležnom institutu/zavodu za javno zdravlj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Zdrava deca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od 3 do 14 godina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 starosti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Zdravi mlađi odrasli (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15-49 godina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Zdravi odrasli uzrasta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50-64 godine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Zdravi odrasli starosti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65 godina i više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PRIORITETNE GRUPE ZA VAKCINACIJ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  <a:ea typeface="Calibri"/>
              </a:rPr>
              <a:t>Izvođenje imunizacij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700280"/>
          <a:ext cx="9144000" cy="4876560"/>
        </p:xfrm>
        <a:graphic>
          <a:graphicData uri="http://schemas.openxmlformats.org/drawingml/2006/table">
            <a:tbl>
              <a:tblPr/>
              <a:tblGrid>
                <a:gridCol w="4575240"/>
                <a:gridCol w="4568760"/>
              </a:tblGrid>
              <a:tr h="379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Prioritetna gru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Izvođenje imunizac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Sve osobe starosti preko 6 meseci sa hroničnim poremecajima zdravlj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 i druge ustanove primarne zdravstvene zašti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Lica zaposlena u objektima u kojima se obavlja zdravstvena delatn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Lica smeštena i zaposlena u ustanovama za socijalnu zaštit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 i druge ustanove primarne zdravstvene zašti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Lica zaposlena na poslovima osnovnih funkcija zajedn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 i druge ustanove primarne zdravstvene zašti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Trudn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Zdrava deca (6 meseci-14 godin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Zdravi mlađi odrasli (15-49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Zdravi odrasli (50-6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Zdravi odrasli (65+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Obuhvat vanrednom imunizacijo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824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Ciljna populacija: 1.500.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Broj vakcinisanih: 149.882 + 20.000 vojs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Obuhvat ciljne populacije: ~1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pšta populacija: 7.498.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Obuhvat opšte populacije: 2,32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Utrošak vakcina: 232120 od 855.000 do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aeaea"/>
                </a:solidFill>
                <a:latin typeface="Tahoma"/>
              </a:rPr>
              <a:t>OBUHVAT IMUNIZACIJOM PO VEĆIM REGIONIM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00280"/>
          <a:ext cx="914400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Vakcinacija u ciljnim grupa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Najveći udeo među vakcinisanim osobama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59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% čine osobe sa hroničnim oboljenjim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31,1% čine zdrave osobe,zdravstveni radnici čine 4%, a sve ostale ciljne grupe 5,2%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Posmatrano prema uzrastu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44,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%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vakcinisanih su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osobe starije od 65 godina život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30 % osobe dobne grupe od 50 do 64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godin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najmanje su vakciinisana deca uzrasta 6 meseci do 2 godine sa učešćem od 0,4%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TOK IMUNIZACIJE U SRBIJI U CELIN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1870200"/>
          <a:ext cx="8964720" cy="49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70200"/>
                    <a:ext cx="896472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TOK IMUNIZACIJE PO VEĆIM REGIONI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1986120"/>
          <a:ext cx="9144000" cy="45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6120"/>
                    <a:ext cx="914400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Latn-CS" sz="2800" spc="-1" strike="noStrike">
                <a:solidFill>
                  <a:srgbClr val="eaeaea"/>
                </a:solidFill>
                <a:latin typeface="Tahoma"/>
              </a:rPr>
              <a:t>PREPORUKE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WHO-SAGE </a:t>
            </a:r>
            <a:r>
              <a:rPr b="1" lang="sr-Latn-CS" sz="2800" spc="-1" strike="noStrike">
                <a:solidFill>
                  <a:srgbClr val="eaeaea"/>
                </a:solidFill>
                <a:latin typeface="Tahoma"/>
              </a:rPr>
              <a:t>ZA PRIMENU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Latn-CS" sz="2800" spc="-1" strike="noStrike">
                <a:solidFill>
                  <a:srgbClr val="eaeaea"/>
                </a:solidFill>
                <a:latin typeface="Tahoma"/>
              </a:rPr>
              <a:t>pandemijskih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(H1N1) 2009 </a:t>
            </a:r>
            <a:r>
              <a:rPr b="1" lang="sr-Latn-CS" sz="2800" spc="-1" strike="noStrike">
                <a:solidFill>
                  <a:srgbClr val="eaeaea"/>
                </a:solidFill>
                <a:latin typeface="Tahoma"/>
              </a:rPr>
              <a:t>vakcina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 </a:t>
            </a:r>
            <a:r>
              <a:rPr b="1" lang="sr-Latn-CS" sz="2800" spc="-1" strike="noStrike">
                <a:solidFill>
                  <a:srgbClr val="eaeaea"/>
                </a:solidFill>
                <a:latin typeface="Tahoma"/>
              </a:rPr>
              <a:t>07.07.2009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317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Zdravstveni radnici treba da budu prvi prioritet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kako bi se sačuvala esencijalna infrastruktura u zdravstvenom sistem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Vakcinacija grupa u riziku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pristupom “korak po korak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GE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preporučuje da se sledeće grupe razmotre kao prioritet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svaka zemlja mopra da donese odluku o redosledu prioriteta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na osnovu epidemiološke situacije i specifičnih uslova unutar zemlj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Trudni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ronični bolesnici stariji od 6 mesec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Zdrave osobe uzrast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5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d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49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godi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Zdrava dec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Zdravi odrasli uzrast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5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d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64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godin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Zdravi odrasli straiji od 65 godi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Potreban je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postmarketinški nadzor najvišeg mogućeg kvalite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Brza razmena podataka o imunogenosti, bezbednosti o efektivnosti vakcin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effectiveness studi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Promocija proizvodnje i upotreba vakcina sa adjuvansom na bazi emulzije ulja u vodi i živih atenuisanih vakcina protiv grip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ahoma"/>
              </a:rPr>
              <a:t>Evidentirane neželjene reakcije posle primene Focetria vakcine u periodu od</a:t>
            </a:r>
            <a:br>
              <a:rPr sz="2800"/>
            </a:br>
            <a:r>
              <a:rPr b="1" lang="pl-PL" sz="2800" spc="-1" strike="noStrike">
                <a:solidFill>
                  <a:srgbClr val="eaeaea"/>
                </a:solidFill>
                <a:latin typeface="Tahoma"/>
              </a:rPr>
              <a:t>17.12.2009. do 31.03.2010. godin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ijavljene su </a:t>
            </a:r>
            <a:r>
              <a:rPr b="1" lang="pl-PL" sz="2800" spc="-1" strike="noStrike">
                <a:solidFill>
                  <a:srgbClr val="ffffff"/>
                </a:solidFill>
                <a:latin typeface="Tahoma"/>
              </a:rPr>
              <a:t>84 osobe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, kod kojih su registrovane neželjenih reakcija posle imunizacije sa Focetria vakcinom (ukupno </a:t>
            </a:r>
            <a:r>
              <a:rPr b="1" lang="pl-PL" sz="2800" spc="-1" strike="noStrike">
                <a:solidFill>
                  <a:srgbClr val="ffffff"/>
                </a:solidFill>
                <a:latin typeface="Tahoma"/>
              </a:rPr>
              <a:t>363 reakcije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Najčešće prijavljivano </a:t>
            </a:r>
            <a:r>
              <a:rPr b="1" lang="pl-PL" sz="2800" spc="-1" strike="noStrike">
                <a:solidFill>
                  <a:srgbClr val="ffffff"/>
                </a:solidFill>
                <a:latin typeface="Tahoma"/>
              </a:rPr>
              <a:t>vreme od aplikacije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vakcine do pojave neželjene reakcije je </a:t>
            </a:r>
            <a:r>
              <a:rPr b="1" lang="pl-PL" sz="2800" spc="-1" strike="noStrike">
                <a:solidFill>
                  <a:srgbClr val="ffffff"/>
                </a:solidFill>
                <a:latin typeface="Tahoma"/>
              </a:rPr>
              <a:t>jedan dan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(Mod=1dan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Najveći broj prijava je iz Grada Beograda, Južnobačkog, Podunavskog i Sremskog okrug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ahoma"/>
              </a:rPr>
              <a:t>Evidentirane neželjene reakcije posle primene Focetria vakcine u periodu od</a:t>
            </a:r>
            <a:br>
              <a:rPr sz="2800"/>
            </a:br>
            <a:r>
              <a:rPr b="1" lang="pl-PL" sz="2800" spc="-1" strike="noStrike">
                <a:solidFill>
                  <a:srgbClr val="eaeaea"/>
                </a:solidFill>
                <a:latin typeface="Tahoma"/>
              </a:rPr>
              <a:t>17.12.2009. do 31.03.2010. godin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Najčešće registrovane neželjene reakcije pripadaju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opštim poremećajima: 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temperatura, malaksalost, umor i groznic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Prijavljeno je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pet alergijskih reakcija,od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 kojih je 1 anafilaktična rekcija. Kod dve osobe sa alergijskim reakcijama primenjena je odgovarajuća terapij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Najčešće registrovane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reakcije na mestu davanja vakcine 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su bol, otok i crvenil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Od reakcija koje pripadaju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poremećajima na koži i potkožnom tkivu 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najčešće prijavljivane reakcije su znojenje i svrab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Od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gastrointestinalnih poremećaja 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najčešće prijavljivane reakcije su mučnina i povraćanj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Od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poremećaja mišićno-skeletnog i vezivnog tkiva na nivou kostiju 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najčešće su prijavljene mijalgija i artralgij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ahoma"/>
              </a:rPr>
              <a:t>Evidentirane neželjene reakcije posle primene Focetria vakcine u periodu od</a:t>
            </a:r>
            <a:br>
              <a:rPr sz="2800"/>
            </a:br>
            <a:r>
              <a:rPr b="1" lang="pl-PL" sz="2800" spc="-1" strike="noStrike">
                <a:solidFill>
                  <a:srgbClr val="eaeaea"/>
                </a:solidFill>
                <a:latin typeface="Tahoma"/>
              </a:rPr>
              <a:t>17.12.2009. do 31.03.2010. godin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Najčešće registrovane neželjene reakcije koje se odnose na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oremećaj nervnog sistema 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su glavobolja, parestezija i neuralgij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Kod jedne osobe prijavljena je sumnja na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eventualni početak Giljen Bareovog sindroma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koja je epidemiološki i klinički ispitan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Prisustvo identičnih tegoba i u periodu pre aplikovanja vakcine protiv pandemijskog gripa (prethodni izveštaji specijaliste neurologa), neurološki nalaz nakon aplikacije vakcine (živahni refleksi ,negativan Lazarevićev test), kratko vreme između vakcinacije i pojave subjektivnih smetnji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isključili su sumnju na postvakcinalni Giljen Bareov sindrom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Od strane nadležnog Stručnog tima za utvrđivanje trajne kontraindikacije donet je zaključak o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ostojanju teže neželjene reakcije na Focetria vakcinu zbog pojave mialgije i artralgije koje su trajale prolongirano mesec da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Zaključa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8172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ahoma"/>
              </a:rPr>
              <a:t>Obuhvat imunizacijom nije dovoljan da utiče na negativne posledice eventualnog epidemijskog talasa (smanjenje broja smrtnih ishoda, smanjenje broja hospitalizovanih, poremećaj zdravstvene infrastrukture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ahoma"/>
              </a:rPr>
              <a:t>Obuhvat ciljnih prioritetnih grupa, posebno trudnica, dece i zdravstvenih radnika je nizak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ahoma"/>
              </a:rPr>
              <a:t>Nisu registrovane teže neželjene reakcije nakon primene vakcine i među vakcinisanima je potvrđen dobar bezbednosni profil, kao i u Evropi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ahoma"/>
              </a:rPr>
              <a:t>Razlozi niskog obuhvata su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na globalnom nivou</a:t>
            </a:r>
            <a:r>
              <a:rPr b="1" lang="sr-CS" sz="1400" spc="-1" strike="noStrike">
                <a:solidFill>
                  <a:srgbClr val="ffffff"/>
                </a:solidFill>
                <a:latin typeface="Tahoma"/>
              </a:rPr>
              <a:t>, pa i u našoj zemlji </a:t>
            </a: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su antivakcinalne poruke iz Amerike i zapadne Evrope na početku kampanje imunizacije</a:t>
            </a:r>
            <a:r>
              <a:rPr b="1" lang="sr-Latn-CS" sz="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zabrinutost zbog bezbednosti vakcine i nedovoljna informisanost među zdravstvenim radnicima što se prenelo na pacij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nedovoljna edukacija zdravstvenih radnik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uticaj antivakcinalnih lobija koji je trajao duže od medijske kampanje za vanrednu imunizacij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negativan uticaj paramedicinskih tema u medijima koje su pratile imunizacij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6600" spc="-1" strike="noStrike" u="sng">
                <a:solidFill>
                  <a:srgbClr val="ffffff"/>
                </a:solidFill>
                <a:uFillTx/>
                <a:latin typeface="Tahoma"/>
              </a:rPr>
              <a:t>HVALA NA PAŽNJI 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eaeaea"/>
                </a:solidFill>
                <a:latin typeface="Tahoma"/>
              </a:rPr>
              <a:t>PREPORUKE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WHO-SAGE </a:t>
            </a:r>
            <a:r>
              <a:rPr b="1" lang="sr-Latn-CS" sz="3600" spc="-1" strike="noStrike">
                <a:solidFill>
                  <a:srgbClr val="eaeaea"/>
                </a:solidFill>
                <a:latin typeface="Tahoma"/>
              </a:rPr>
              <a:t>OD 28.10.2009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BROJ DOZA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EPIDEMIOLOŠKA SITUACIJ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I drugi javnozdravstveni razlozi ukazuju na potrebu i podržavaju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primenu jedne doze vakcine kod starijih od 10 godin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pod uslovom da to dozvole regulatorna tel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U uslovima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nedovoljnih količin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vakcine, prioritet treba da bude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obezbeđenje jedne doze vakcine što većem broju dec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kada se ovaj prioritet definiše nacionalnim plan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Bezbednost kod trudnica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u odsustvu specifičnih kontraindikacija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od strane regulatornih tela bilo koja registrovana pandemijska vakcina može se primenjivati za ztaštitu trudni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imultana imunizacij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kada su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sezonska i pandemijska vakcina iz grupe mrtvih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ili ako je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jedna mrtva a druga živa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one se mogu dati simultan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Global_VaccineManufacturers_200906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Oval 4"/>
          <p:cNvSpPr/>
          <p:nvPr/>
        </p:nvSpPr>
        <p:spPr>
          <a:xfrm>
            <a:off x="179280" y="3141720"/>
            <a:ext cx="927360" cy="598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179280" y="2492280"/>
            <a:ext cx="655920" cy="560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3132000" y="2781360"/>
            <a:ext cx="709920" cy="560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6877080" y="5516640"/>
            <a:ext cx="654120" cy="560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3708360" y="836640"/>
            <a:ext cx="655560" cy="55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132000" y="1628640"/>
            <a:ext cx="768600" cy="560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Influenza Vaccine Virus Types: Whole Virus, Split Virus, Subunit (surface antigen), Live Attenuated"/>
          <p:cNvPicPr/>
          <p:nvPr/>
        </p:nvPicPr>
        <p:blipFill>
          <a:blip r:embed="rId1"/>
          <a:stretch/>
        </p:blipFill>
        <p:spPr>
          <a:xfrm>
            <a:off x="0" y="0"/>
            <a:ext cx="9144000" cy="197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0" y="2060640"/>
          <a:ext cx="9143640" cy="4797000"/>
        </p:xfrm>
        <a:graphic>
          <a:graphicData uri="http://schemas.openxmlformats.org/drawingml/2006/table">
            <a:tbl>
              <a:tblPr/>
              <a:tblGrid>
                <a:gridCol w="2286360"/>
                <a:gridCol w="2286360"/>
                <a:gridCol w="2284920"/>
                <a:gridCol w="2286000"/>
              </a:tblGrid>
              <a:tr h="479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xter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MEA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mmnivest 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Hungary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</a:t>
                      </a:r>
                      <a:r>
                        <a:rPr b="1" lang="sr-Latn-C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izvođača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(China)  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CSL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stralia; US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 </a:t>
                      </a:r>
                      <a:r>
                        <a:rPr b="1" lang="en-GB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 </a:t>
                      </a:r>
                      <a:r>
                        <a:rPr b="1" lang="sr-Latn-CS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ozno pakovanj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Sanofi Pasteur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 – </a:t>
                      </a:r>
                      <a:r>
                        <a:rPr b="1" lang="en-GB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 </a:t>
                      </a:r>
                      <a:r>
                        <a:rPr b="1" lang="sr-Latn-CS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ozno pakovanj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en Cross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rea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 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GSK ASO3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MEA  Canada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 – </a:t>
                      </a:r>
                      <a:r>
                        <a:rPr b="1" lang="en-GB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 </a:t>
                      </a:r>
                      <a:r>
                        <a:rPr b="1" lang="sr-Latn-CS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ozno pakovanj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Novartis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 – </a:t>
                      </a:r>
                      <a:r>
                        <a:rPr b="1" lang="en-GB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 </a:t>
                      </a:r>
                      <a:r>
                        <a:rPr b="1" lang="sr-Latn-CS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ozno pakovanj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vartis+M59 adjuvant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MEA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MedImmune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- </a:t>
                      </a:r>
                      <a:r>
                        <a:rPr b="1" lang="en-GB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intrana</a:t>
                      </a:r>
                      <a:r>
                        <a:rPr b="1" lang="sr-Latn-CS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zalni</a:t>
                      </a:r>
                      <a:r>
                        <a:rPr b="1" lang="en-GB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spr</a:t>
                      </a:r>
                      <a:r>
                        <a:rPr b="1" lang="sr-Latn-CS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ej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crogen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ussia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39920" y="6327720"/>
            <a:ext cx="829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Johansen K, Nicoll A, Ciancio BC, Kramarz P. Pandemic influenza A(H1N1) 2009 vaccines in the European Un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Euro Surveill.2009;14(41):pii=19361. Available online: http://www.eurosurveillance.org/ViewArticle.aspx?ArticleId=1936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780240" cy="6092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9920" y="6327720"/>
            <a:ext cx="829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Johansen K, Nicoll A, Ciancio BC, Kramarz P. Pandemic influenza A(H1N1) 2009 vaccines in the European Un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Euro Surveill.2009;14(41):pii=19361. Available online: http://www.eurosurveillance.org/ViewArticle.aspx?ArticleId=1936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eaeaea"/>
                </a:solidFill>
                <a:latin typeface="Tahoma"/>
              </a:rPr>
              <a:t>Zabrinutost javnosti oko bezbednosti pandemijskih vakcin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68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uillain–Barré synd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300" spc="-1" strike="noStrike">
                <a:solidFill>
                  <a:srgbClr val="ffff00"/>
                </a:solidFill>
                <a:latin typeface="Tahoma"/>
              </a:rPr>
              <a:t>(GACVS 2009)</a:t>
            </a:r>
            <a:br>
              <a:rPr sz="2400"/>
            </a:b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razlozi povezanosti registrovani 1976 su nepoznati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od tada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ili nije utvrđena povezanost ili je utvrđena u malom broju studija gde je veoma mali rizik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slučaj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/1.000.000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vakcinisanih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)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značajn je nadzor nad GBS i dostupnost istorijskih podataka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djuvant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 v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ine </a:t>
            </a:r>
            <a:r>
              <a:rPr b="0" i="1" lang="en-US" sz="1300" spc="-1" strike="noStrike">
                <a:solidFill>
                  <a:srgbClr val="ffff00"/>
                </a:solidFill>
                <a:latin typeface="Tahoma"/>
              </a:rPr>
              <a:t>(GACVS 2009)</a:t>
            </a:r>
            <a:br>
              <a:rPr sz="2400"/>
            </a:b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relativno malo iskustava posebno u grupama u riziku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viša reaktogenost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značajno je obratiti pažnju na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autoimune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događaje nakon imunizacije iako nisu povezani sa vakcinom jer je negativna kampanja na njih usmerena</a:t>
            </a:r>
            <a:br>
              <a:rPr sz="1300"/>
            </a:b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600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kvale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ffff00"/>
                </a:solidFill>
                <a:latin typeface="Tahoma"/>
              </a:rPr>
              <a:t>(GACVS 2006)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strahovi da skvalen u vakcini indukuje stvaranje štetnih anti-skvalenskih antitela su neosnovani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iskustva sa vakcinama koja sadrže skvalen su samo u starijim dobnim grupama</a:t>
            </a:r>
            <a:r>
              <a:rPr b="0" lang="en-GB" sz="15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0" lang="en-GB" sz="1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who.int/wer/2006/wer8128.pdf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iomersal </a:t>
            </a:r>
            <a:r>
              <a:rPr b="0" i="1" lang="en-US" sz="1400" spc="-1" strike="noStrike">
                <a:solidFill>
                  <a:srgbClr val="ffff00"/>
                </a:solidFill>
                <a:latin typeface="Tahoma"/>
              </a:rPr>
              <a:t>(GACVS 2008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nema dokaza o toksičnosti kod dece, ili odraslih nakon izlaganja tiomersalu u vakcinama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zici u određenim grupam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trudnoć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br>
              <a:rPr sz="2400"/>
            </a:b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Odnos koristi i rizika je potreban u svakom slučaju kod trudnica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s obzirom na visok rizik po majku i fetus  koji nosi sama bolest i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do sada poznat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mali potencijalni rizik od sezonske vakcine data je preporuka u julu 2009. godin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6:17:45Z</dcterms:created>
  <dc:creator>IZZZ</dc:creator>
  <dc:description/>
  <dc:language>en-US</dc:language>
  <cp:lastModifiedBy>Petrovic Vladimir</cp:lastModifiedBy>
  <dcterms:modified xsi:type="dcterms:W3CDTF">2010-09-17T20:57:57Z</dcterms:modified>
  <cp:revision>9</cp:revision>
  <dc:subject/>
  <dc:title>REZULTATI IMUNIZACIJE PROTIV PANDEMIJSKOG GRIPA U VOJVODINI</dc:title>
</cp:coreProperties>
</file>