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FBF1-3034-4FB1-BE04-AC67AE19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43BC-6C89-4C83-B59A-78D79A70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1A85-F514-42BD-9056-BD12FF7F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F9A9-FBDD-4662-989B-DB262E96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B05-9883-4AFA-BE19-7DABDCA9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C10-3396-4EE0-B51C-F3399DCD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5126-62F4-47A3-9BE9-8313749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CC43-2ECB-4B08-B512-A2AEB82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F8DB-1139-4EA0-94FA-55E9FDF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095A-6707-4D69-81B0-20973010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F087-BCE7-4A10-93D5-680402BA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3340-3EAE-4E0C-ABDE-1307537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905B-4A10-4B6B-BEBC-5F4622A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AAB-BC49-45E2-802A-78D143B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A81E-9FF3-4B3C-B18F-76A742F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1528-23D1-49F4-9B19-B2A12A1F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9F1C-48CC-4F3A-899B-1EC87EAC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572D-B629-4F2F-BD39-87F7E0D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BC9A-22E7-466E-A29D-70577D56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5D30-56E0-4B16-B795-BC5C152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B75F-630F-45D4-AA93-3387764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DD00-18FB-460D-BC6A-8E15475E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16D7-98BF-4782-B287-CBC2D86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5D98-55E0-4F1A-8495-90BC557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SzPct val="6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C1F4-9FC2-4F21-A81D-5B98E4FF8231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632-A8D9-436E-8577-866F43B74125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00ff"/>
              </a:buClr>
              <a:buSzPct val="65000"/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7f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Epidemiologija masovnih hroničnih nezaraznih bolesti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istent dr sc. med. Nataša Ranči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838080"/>
            <a:ext cx="8915040" cy="5761080"/>
            <a:chOff x="0" y="838080"/>
            <a:chExt cx="8915040" cy="5761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891504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880600" y="265572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800" y="265572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91600" y="447516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4360" y="505620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4960" y="491004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70960" y="403848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59960" y="4468680"/>
              <a:ext cx="94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0440" y="3208320"/>
              <a:ext cx="2465640" cy="12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ffffff"/>
                  </a:solidFill>
                  <a:latin typeface="Arial"/>
                </a:rPr>
                <a:t>58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ilion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Vodeći uzroci umiranja stanovništva u svetu u 2006.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6172200"/>
            <a:ext cx="228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eventing Chronical disease and vital investm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WHO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108240"/>
            <a:ext cx="1523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HN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il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afd00"/>
                </a:solidFill>
                <a:latin typeface="Arial"/>
              </a:rPr>
              <a:t>Vodeći uzroci umiranja u Srbiji</a:t>
            </a: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 i Evrop</a:t>
            </a:r>
            <a:r>
              <a:rPr b="1" lang="sr-Latn-CS" sz="3200" spc="-1" strike="noStrike">
                <a:solidFill>
                  <a:srgbClr val="fafd00"/>
                </a:solidFill>
                <a:latin typeface="Arial"/>
              </a:rPr>
              <a:t>i, 2006. godin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2720" cy="3902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72720" y="5300640"/>
            <a:ext cx="392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20000"/>
                </a:solidFill>
                <a:latin typeface="Arial"/>
              </a:rPr>
              <a:t>Bolesti srca i krvnih sudova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it-IT" sz="9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it-IT" sz="1200" spc="-1" strike="noStrike">
                <a:solidFill>
                  <a:srgbClr val="969696"/>
                </a:solidFill>
                <a:latin typeface="Arial"/>
              </a:rPr>
              <a:t>MKB-10</a:t>
            </a:r>
            <a:r>
              <a:rPr b="0" i="1" lang="sr-Latn-CS" sz="1200" spc="-1" strike="noStrike">
                <a:solidFill>
                  <a:srgbClr val="969696"/>
                </a:solidFill>
                <a:latin typeface="Arial"/>
              </a:rPr>
              <a:t>: </a:t>
            </a:r>
            <a:r>
              <a:rPr b="0" i="1" lang="it-IT" sz="1200" spc="-1" strike="noStrike">
                <a:solidFill>
                  <a:srgbClr val="969696"/>
                </a:solidFill>
                <a:latin typeface="Arial"/>
              </a:rPr>
              <a:t>I00-I99</a:t>
            </a:r>
            <a:r>
              <a:rPr b="0" i="1" lang="it-IT" sz="9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6386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Book Antiqua"/>
              </a:rPr>
              <a:t>Malig</a:t>
            </a:r>
            <a:r>
              <a:rPr b="1" lang="sr-Latn-CS" sz="1800" spc="-1" strike="noStrike">
                <a:solidFill>
                  <a:srgbClr val="00cc00"/>
                </a:solidFill>
                <a:latin typeface="Book Antiqua"/>
              </a:rPr>
              <a:t>ni</a:t>
            </a:r>
            <a:r>
              <a:rPr b="1" lang="en-US" sz="1800" spc="-1" strike="noStrike">
                <a:solidFill>
                  <a:srgbClr val="00cc00"/>
                </a:solidFill>
                <a:latin typeface="Book Antiqua"/>
              </a:rPr>
              <a:t> </a:t>
            </a:r>
            <a:r>
              <a:rPr b="1" lang="sr-Latn-CS" sz="1800" spc="-1" strike="noStrike">
                <a:solidFill>
                  <a:srgbClr val="00cc00"/>
                </a:solidFill>
                <a:latin typeface="Book Antiqua"/>
              </a:rPr>
              <a:t>tumori</a:t>
            </a:r>
            <a:r>
              <a:rPr b="1" lang="sr-Latn-CS" sz="18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i="1" lang="it-IT" sz="1200" spc="-1" strike="noStrike">
                <a:solidFill>
                  <a:srgbClr val="969696"/>
                </a:solidFill>
                <a:latin typeface="Book Antiqua"/>
              </a:rPr>
              <a:t>(MKB-10</a:t>
            </a:r>
            <a:r>
              <a:rPr b="0" i="1" lang="sr-Latn-CS" sz="1200" spc="-1" strike="noStrike">
                <a:solidFill>
                  <a:srgbClr val="969696"/>
                </a:solidFill>
                <a:latin typeface="Book Antiqua"/>
              </a:rPr>
              <a:t>: </a:t>
            </a:r>
            <a:r>
              <a:rPr b="0" i="1" lang="it-IT" sz="1200" spc="-1" strike="noStrike">
                <a:solidFill>
                  <a:srgbClr val="969696"/>
                </a:solidFill>
                <a:latin typeface="Book Antiqua"/>
              </a:rPr>
              <a:t>C00-C97</a:t>
            </a:r>
            <a:r>
              <a:rPr b="0" i="1" lang="sr-Latn-CS" sz="1200" spc="-1" strike="noStrike">
                <a:solidFill>
                  <a:srgbClr val="969696"/>
                </a:solidFill>
                <a:latin typeface="Book Antiqu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5440" y="14875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rb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14875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2160" y="6095880"/>
            <a:ext cx="280188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b000"/>
                </a:solidFill>
                <a:latin typeface="Arial"/>
              </a:rPr>
              <a:t>Povrede i trovanja</a:t>
            </a:r>
            <a:r>
              <a:rPr b="1" lang="sr-Latn-CS" sz="1400" spc="-1" strike="noStrike">
                <a:solidFill>
                  <a:srgbClr val="b4b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4b000"/>
                </a:solidFill>
                <a:latin typeface="Arial"/>
              </a:rPr>
              <a:t>(MKB-10: S00-T98</a:t>
            </a:r>
            <a:r>
              <a:rPr b="0" i="1" lang="en-US" sz="900" spc="-1" strike="noStrike">
                <a:solidFill>
                  <a:srgbClr val="b4b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51280" y="5343480"/>
            <a:ext cx="203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Dijabetes</a:t>
            </a:r>
            <a:r>
              <a:rPr b="1" lang="sr-Latn-C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MKB-10: E10-E14</a:t>
            </a:r>
            <a:r>
              <a:rPr b="0" i="1" lang="en-US" sz="9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878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a8d0"/>
                </a:solidFill>
                <a:latin typeface="Book Antiqua"/>
              </a:rPr>
              <a:t>HOBP</a:t>
            </a:r>
            <a:r>
              <a:rPr b="1" lang="en-US" sz="1800" spc="-1" strike="noStrike">
                <a:solidFill>
                  <a:srgbClr val="00a8d0"/>
                </a:solidFill>
                <a:latin typeface="Book Antiqua"/>
              </a:rPr>
              <a:t> i ast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637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stali uzroci smr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Glavni faktori rizik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Glavni</a:t>
            </a:r>
            <a:r>
              <a:rPr b="1" lang="hr-HR" sz="3200" spc="-1" strike="noStrike">
                <a:solidFill>
                  <a:srgbClr val="fafd00"/>
                </a:solidFill>
                <a:latin typeface="Times New Roman"/>
              </a:rPr>
              <a:t>i faktori rizika za nastanak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M</a:t>
            </a:r>
            <a:r>
              <a:rPr b="1" lang="hr-HR" sz="3200" spc="-1" strike="noStrike">
                <a:solidFill>
                  <a:srgbClr val="fafd00"/>
                </a:solidFill>
                <a:latin typeface="Times New Roman"/>
              </a:rPr>
              <a:t>HNB su pušenje, hipertenzija, hiperholesterolemija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zloubotreba </a:t>
            </a:r>
            <a:r>
              <a:rPr b="1" lang="hr-HR" sz="3200" spc="-1" strike="noStrike">
                <a:solidFill>
                  <a:srgbClr val="fafd00"/>
                </a:solidFill>
                <a:latin typeface="Times New Roman"/>
              </a:rPr>
              <a:t>alkohol</a:t>
            </a:r>
            <a:r>
              <a:rPr b="1" lang="en-GB" sz="3200" spc="-1" strike="noStrike">
                <a:solidFill>
                  <a:srgbClr val="fafd00"/>
                </a:solidFill>
                <a:latin typeface="Times New Roman"/>
              </a:rPr>
              <a:t>a</a:t>
            </a:r>
            <a:r>
              <a:rPr b="1" lang="hr-HR" sz="3200" spc="-1" strike="noStrike">
                <a:solidFill>
                  <a:srgbClr val="fafd00"/>
                </a:solidFill>
                <a:latin typeface="Times New Roman"/>
              </a:rPr>
              <a:t>, gojaznost, nepravilna ishrana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-povećan unos zasićenih masti i smanjen unos dijetetskih vlakana</a:t>
            </a:r>
            <a:r>
              <a:rPr b="1" lang="hr-HR" sz="3200" spc="-1" strike="noStrike">
                <a:solidFill>
                  <a:srgbClr val="fafd00"/>
                </a:solidFill>
                <a:latin typeface="Times New Roman"/>
              </a:rPr>
              <a:t> i fizička neaktivnos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kundarna (rano otkrivanje i skrining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cijarna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Prim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nak pušen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štovanje i sprovođenje Zakona o zabrani pušenja (smanjivanje ekspozicije duvanskom dim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njivanje telesne tež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ena navika u ishrani: smanjiti unos soli, zasićenih masti, a povećati unos dijetetskih vlaka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većati fizičku aktivnost (planirana, kontinuirana, redovna fizička aktivnost u trajanju najmanje 30 minuta dnevno, šetnje,pešačenje, plivanje…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Sekund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o otkrivanje bolest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čenj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rining (kod malignih bolesti, rak dojke, kolorektalni rak, rak grlića materic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Tercijarna preven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čenje komplika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abilita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efinicija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HNB su bolesti koje su veoma ra</a:t>
            </a:r>
            <a:r>
              <a:rPr b="0" lang="sr-Latn-CS" sz="3600" spc="-1" strike="noStrike">
                <a:solidFill>
                  <a:srgbClr val="fafd00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rene u populaciji (masovne), koje imaju dugotrajni tok (hroni</a:t>
            </a:r>
            <a:r>
              <a:rPr b="0" lang="sr-Latn-CS" sz="3600" spc="-1" strike="noStrike">
                <a:solidFill>
                  <a:srgbClr val="fafd00"/>
                </a:solidFill>
                <a:latin typeface="Times New Roman"/>
              </a:rPr>
              <a:t>č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e) i kod kojih etiolo</a:t>
            </a:r>
            <a:r>
              <a:rPr b="0" lang="sr-Latn-CS" sz="3600" spc="-1" strike="noStrike">
                <a:solidFill>
                  <a:srgbClr val="fafd00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ki faktori </a:t>
            </a:r>
            <a:r>
              <a:rPr b="0" lang="sr-Latn-CS" sz="3600" spc="-1" strike="noStrike">
                <a:solidFill>
                  <a:srgbClr val="fafd00"/>
                </a:solidFill>
                <a:latin typeface="Times New Roman"/>
              </a:rPr>
              <a:t>uglavnom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isu biolo</a:t>
            </a:r>
            <a:r>
              <a:rPr b="0" lang="sr-Latn-CS" sz="3600" spc="-1" strike="noStrike">
                <a:solidFill>
                  <a:srgbClr val="fafd00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ki agensi (nezarazne)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Zajedničke karakteristike MHNB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ljaju se masovno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epidemijskom, čak i u pandemijskom oblik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 incidenciji, prevalenciji i mortalitetu nalaze se među 10 vodećih uzroka obolevanja i umiranja muškaraca i žena u razvijenim zemljama i u zemljama u razvoj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olevanje i umiranje registruje se u svim starosnim grupama, ali postoji tendencija povećanog obolevanja u mlađem uzrast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smopolitski su rasprostranj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zivaju se bolestima civilizacij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njihovom nastanku, toku i ishodu značajnu ulogu imaju faktori sredi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kauzalnost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mukli početak, hroničan to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ju doživotn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grožene su sve kategorije stanovništv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tavljaju ozbiljne posledice zbog kojih su česta prevremena penzionisanja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ijent često ima istovremeno 2 i više dijagnostikovana obolenja iz grupe MHN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škovi lečenja pacijenata su veliki I zahtevaju veliko angažovanje zdravstvenih radnik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uspešnu kontrolu i prevenciju MHNB neophodan je timski r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e prevencije su najvažnije za uspešnu kontrolu MHNB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idemiološka situacija MHNB je nepovolj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MHNB-KLINI</a:t>
            </a:r>
            <a:r>
              <a:rPr b="1" lang="sr-Latn-CS" sz="4400" spc="-1" strike="noStrike">
                <a:solidFill>
                  <a:srgbClr val="fafd00"/>
                </a:solidFill>
                <a:latin typeface="Times New Roman"/>
              </a:rPr>
              <a:t>Č</a:t>
            </a: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KI ENTITET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diovaskular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ovaskularne bolest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abetes meli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a obstruktivna bolest pluć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a bubrežna insuficijencij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sihoz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esti zavisnosti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vrede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 i trovanj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ubni karijes…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21:57:24Z</dcterms:created>
  <dc:creator>AZURE</dc:creator>
  <dc:description/>
  <dc:language>en-US</dc:language>
  <cp:lastModifiedBy>Intel</cp:lastModifiedBy>
  <dcterms:modified xsi:type="dcterms:W3CDTF">2012-05-23T06:17:57Z</dcterms:modified>
  <cp:revision>29</cp:revision>
  <dc:subject/>
  <dc:title>Epidemiologija masovnih hroničnih nezaraz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7;#PowerPoint - Design Templt 12;#64;#PowerPoint 2003;#184;#Office 2000;#66;#PowerPoint - Design Templt 2003;#79;#Template 12;#65;#Microsoft Office PowerPoint 2007</vt:lpwstr>
  </property>
  <property fmtid="{D5CDD505-2E9C-101B-9397-08002B2CF9AE}" pid="6" name="AssetId">
    <vt:lpwstr>TS001069040</vt:lpwstr>
  </property>
  <property fmtid="{D5CDD505-2E9C-101B-9397-08002B2CF9AE}" pid="7" name="AssetType">
    <vt:lpwstr>TP</vt:lpwstr>
  </property>
  <property fmtid="{D5CDD505-2E9C-101B-9397-08002B2CF9AE}" pid="8" name="AuthoringAssetId">
    <vt:lpwstr>TP001069040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>en-us</vt:lpwstr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5737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Medical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Medical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. SEO Pilot 2008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