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0.png" ContentType="image/pn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3.png" ContentType="image/png"/>
  <Override PartName="/ppt/media/image17.jpeg" ContentType="image/jpeg"/>
  <Override PartName="/ppt/media/image2.png" ContentType="image/png"/>
  <Override PartName="/ppt/media/image4.jpeg" ContentType="image/jpeg"/>
  <Override PartName="/ppt/media/image6.png" ContentType="image/png"/>
  <Override PartName="/ppt/media/image19.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52C7-4045-48CE-A29F-14D1C8339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5F810-3656-4D36-A5CD-4DB70AA6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69AE-2F42-43C9-B9C3-BECC660B0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41EFD-12EC-422F-9CD1-B61662439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E693E-7063-4954-8CBE-D39DC73AF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F9226-AFF3-4E50-81B7-02352C0BF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C8263-D15B-4142-80E0-60A9FD054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73BC5-9A41-4349-81EC-A38EC050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E7139-AD9B-4190-BEF7-733CBC008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B5D2E-BC6C-439E-95E5-0CB4219D6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D38A0-6255-4F3E-A787-A92A6C06A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AB6D-E7F7-4A5D-8457-290D088D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F4B43-2B47-4D31-A4E1-C3665C366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03010-2D7B-4DF9-8793-A8EFEDC3C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4C82B-D794-4421-89C8-CD18273B7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9FCF4-A4CF-4AB4-A24A-0E75CD503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5D9BD-D929-4E7D-A5A7-66907A306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792F8-286A-44BB-93CA-DCD752148B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F2A25-BCA8-4A2F-85C2-41E6719F5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83BAA-ACEE-40CB-B9AD-2C15970C5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03C7B-9195-4078-A32D-97DA4DD61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98994-A04F-494B-86D7-130EBE256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3D12A-33B4-497F-8DC6-5EAD414D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EF045-55C9-4202-AF32-DB84F64E0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2C8C5-B31E-4842-B41F-55B36FB96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46BCC-3F7E-4537-B22B-2529D5657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3A15C-2A9A-41B0-BD8A-5B80B7499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5097D-7F9C-4A99-A4C4-A4832619B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336F4-3990-4579-AD15-A7E39F8E7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CB6C2-3195-4FCC-AF73-D11BE6673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2B4A9-DE45-4C66-AD3D-78DB7805BA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28A5B-E0AC-4005-9656-92627055D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31DFA-49CF-4A57-B5DB-94600ED3A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43DC-D53C-41C6-A8DD-41CF5089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B74B5-9583-4E8A-9289-128E71CEC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ECC67-6F87-4F54-813E-E6800EE1F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411B7-3EE5-447E-B39E-6D17504BE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F8E96-4A23-4D49-916D-1BFC5F1D4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619B4-BAA6-4AB0-AAC0-7E2FB32C0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5FC60-C42A-4D10-B600-FD63DFBAB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55273-C9FA-4108-B64E-84E17CFA7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D6E82-C8E1-4E26-8E9C-461EBB64C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7BF863-24D4-4174-8B47-4F8A16021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BFCD-6097-4510-BE65-03119088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49C8-530C-49F9-9D18-4EF3E3D3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2D20-878E-4132-8CC8-4503125FC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E714-2F02-41B0-9737-63A858BED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D2D3-3F1A-4C06-9A9A-CD2A24162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75F-AE1E-4E86-91BA-DE74B613D64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F451-9224-4451-A481-83335797C02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B027-C7D9-470B-BB4B-35B800E5AAF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2EA6-ABC3-42CB-8A06-2C8C7A72035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98440" y="225360"/>
            <a:ext cx="7864560" cy="1201680"/>
          </a:xfrm>
          <a:prstGeom prst="rect">
            <a:avLst/>
          </a:prstGeom>
          <a:ln w="0">
            <a:noFill/>
          </a:ln>
        </p:spPr>
      </p:pic>
      <p:sp>
        <p:nvSpPr>
          <p:cNvPr id="196" name="PlaceHolder 1"/>
          <p:cNvSpPr>
            <a:spLocks noGrp="1"/>
          </p:cNvSpPr>
          <p:nvPr>
            <p:ph type="subTitle"/>
          </p:nvPr>
        </p:nvSpPr>
        <p:spPr>
          <a:xfrm>
            <a:off x="0" y="2895120"/>
            <a:ext cx="9144000" cy="487692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Times New Roman"/>
                <a:ea typeface="Times New Roman"/>
              </a:rPr>
              <a:t>EPIDEMIOLOŠKE KARAKTERISTIKE I ZNAČAJ CREVNIH ZARAZNIH BOLESTI</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ea typeface="Times New Roman"/>
              </a:rPr>
              <a:t>   </a:t>
            </a:r>
            <a:endParaRPr b="0" lang="en-US" sz="1800" spc="-1" strike="noStrike">
              <a:solidFill>
                <a:srgbClr val="ffffff"/>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Title 1" descr=""/>
          <p:cNvPicPr/>
          <p:nvPr/>
        </p:nvPicPr>
        <p:blipFill>
          <a:blip r:embed="rId2"/>
          <a:stretch/>
        </p:blipFill>
        <p:spPr>
          <a:xfrm>
            <a:off x="237960" y="701640"/>
            <a:ext cx="8534520" cy="441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914400"/>
            <a:ext cx="8229600" cy="838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4617b"/>
                </a:solidFill>
                <a:latin typeface="Times New Roman"/>
                <a:ea typeface="Times New Roman"/>
              </a:rPr>
              <a:t>RAŠIRENOST CREVNIH ZARAZNIH BOLESTI U SRBIJI</a:t>
            </a:r>
            <a:br>
              <a:rPr sz="4500"/>
            </a:br>
            <a:endParaRPr b="0" lang="en-US" sz="3200" spc="-1" strike="noStrike">
              <a:solidFill>
                <a:srgbClr val="04617b"/>
              </a:solidFill>
              <a:latin typeface="Calibri"/>
            </a:endParaRPr>
          </a:p>
        </p:txBody>
      </p:sp>
      <p:sp>
        <p:nvSpPr>
          <p:cNvPr id="209" name="PlaceHolder 2"/>
          <p:cNvSpPr>
            <a:spLocks noGrp="1"/>
          </p:cNvSpPr>
          <p:nvPr>
            <p:ph/>
          </p:nvPr>
        </p:nvSpPr>
        <p:spPr>
          <a:xfrm>
            <a:off x="457200" y="1294920"/>
            <a:ext cx="8229600" cy="762120"/>
          </a:xfrm>
          <a:prstGeom prst="rect">
            <a:avLst/>
          </a:prstGeom>
          <a:noFill/>
          <a:ln w="0">
            <a:noFill/>
          </a:ln>
        </p:spPr>
        <p:txBody>
          <a:bodyPr lIns="45720" rIns="45720" tIns="0" bIns="0" anchor="ctr">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Grafikon 1: Broj obolelih od crevnih zaraznih bolesti u Srbiji, 1994-2003. godin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
          <p:cNvSpPr txBox="1"/>
          <p:nvPr/>
        </p:nvSpPr>
        <p:spPr>
          <a:xfrm>
            <a:off x="380880" y="5410080"/>
            <a:ext cx="8305920" cy="951120"/>
          </a:xfrm>
          <a:prstGeom prst="rect">
            <a:avLst/>
          </a:prstGeom>
          <a:noFill/>
          <a:ln w="0">
            <a:noFill/>
          </a:ln>
        </p:spPr>
        <p:txBody>
          <a:bodyPr tIns="0"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Kao što se sa ovog grafikona vidi u posmatranih 10 godina u Srbiji se prijavljuje između 15 i 32 hiljade slučajeva obolelih od crevnih zaraznih bolesti. Na početku posmatranog perioda broj obolelih je najveći, a u poslednjih 5 godina je prilično ujednačen i kreće se između 15 i 18 hiljada. </a:t>
            </a:r>
            <a:endParaRPr b="0" lang="en-US" sz="1600" spc="-1" strike="noStrike">
              <a:solidFill>
                <a:srgbClr val="000000"/>
              </a:solidFill>
              <a:latin typeface="Constantia"/>
            </a:endParaRPr>
          </a:p>
        </p:txBody>
      </p:sp>
      <p:pic>
        <p:nvPicPr>
          <p:cNvPr id="211" name="Picture 2" descr="D:\Documents and Settings\Korisnik\My Documents\My Pictures\MP Navigator\2007_12_11\kkkkkkkk.jpg"/>
          <p:cNvPicPr/>
          <p:nvPr/>
        </p:nvPicPr>
        <p:blipFill>
          <a:blip r:embed="rId2"/>
          <a:stretch/>
        </p:blipFill>
        <p:spPr>
          <a:xfrm>
            <a:off x="1371600" y="1944720"/>
            <a:ext cx="6477120" cy="331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14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Grafikon 2: Epidemije zaraznih bolesti u Srbiji, 1994-2003. godine</a:t>
            </a:r>
            <a:br>
              <a:rPr sz="1800"/>
            </a:br>
            <a:endParaRPr b="0" lang="en-US" sz="1800" spc="-1" strike="noStrike">
              <a:solidFill>
                <a:srgbClr val="04617b"/>
              </a:solidFill>
              <a:latin typeface="Calibri"/>
            </a:endParaRPr>
          </a:p>
        </p:txBody>
      </p:sp>
      <p:sp>
        <p:nvSpPr>
          <p:cNvPr id="213" name=""/>
          <p:cNvSpPr txBox="1"/>
          <p:nvPr/>
        </p:nvSpPr>
        <p:spPr>
          <a:xfrm>
            <a:off x="380880" y="5333760"/>
            <a:ext cx="8305920" cy="1020600"/>
          </a:xfrm>
          <a:prstGeom prst="rect">
            <a:avLst/>
          </a:prstGeom>
          <a:noFill/>
          <a:ln w="0">
            <a:noFill/>
          </a:ln>
        </p:spPr>
        <p:txBody>
          <a:bodyPr anchor="t">
            <a:normAutofit fontScale="95000"/>
          </a:bodyPr>
          <a:p>
            <a:pPr marL="259200" indent="-2592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onstantia"/>
              </a:rPr>
              <a:t> </a:t>
            </a:r>
            <a:r>
              <a:rPr b="0" lang="sr-Latn-CS" sz="1600" spc="-1" strike="noStrike">
                <a:solidFill>
                  <a:srgbClr val="000000"/>
                </a:solidFill>
                <a:latin typeface="Times New Roman"/>
                <a:ea typeface="Times New Roman"/>
              </a:rPr>
              <a:t>Na grafikonu 2 prikazano je kretanje broja epidemija zaraznih bolesti u Srbiji, U posmatranih 10 godina ukupan broj epidemija kretao se između 310 ( 1994. god. ) i 360 ( 2003. god. ). Najveći broj epidemija pripadao je grupi crevnih zaraznih bolesti, tako da 1996. god. broj svih epidemija odgovara broju crevnih zaraznih bolesti.</a:t>
            </a:r>
            <a:endParaRPr b="0" lang="en-US" sz="1600" spc="-1" strike="noStrike">
              <a:solidFill>
                <a:srgbClr val="000000"/>
              </a:solidFill>
              <a:latin typeface="Constantia"/>
            </a:endParaRPr>
          </a:p>
        </p:txBody>
      </p:sp>
      <p:pic>
        <p:nvPicPr>
          <p:cNvPr id="214" name="Picture 2" descr="D:\Documents and Settings\Korisnik\My Documents\My Pictures\MP Navigator\2007_12_11\grf 2.jpg"/>
          <p:cNvPicPr/>
          <p:nvPr/>
        </p:nvPicPr>
        <p:blipFill>
          <a:blip r:embed="rId2"/>
          <a:stretch/>
        </p:blipFill>
        <p:spPr>
          <a:xfrm>
            <a:off x="914400" y="1066680"/>
            <a:ext cx="73152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600"/>
            <a:ext cx="8229600" cy="914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Grafikon 3: Epidemije salmoneloza u Srbiji, 1994-2003. godine</a:t>
            </a:r>
            <a:br>
              <a:rPr sz="1800"/>
            </a:br>
            <a:endParaRPr b="0" lang="en-US" sz="1800" spc="-1" strike="noStrike">
              <a:solidFill>
                <a:srgbClr val="04617b"/>
              </a:solidFill>
              <a:latin typeface="Calibri"/>
            </a:endParaRPr>
          </a:p>
        </p:txBody>
      </p:sp>
      <p:sp>
        <p:nvSpPr>
          <p:cNvPr id="216" name=""/>
          <p:cNvSpPr txBox="1"/>
          <p:nvPr/>
        </p:nvSpPr>
        <p:spPr>
          <a:xfrm>
            <a:off x="457200" y="5333760"/>
            <a:ext cx="8229600" cy="10206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Među epidemijama crevnih zaraznih bolesti daleko najveći broj pripada epidemijama salmoneloza koje se u posmatranih deset godina registruju od 104 ( 2000. godine ) do 185 ( 2003. godine ) i one čine preko 50% svih prijavljenih epidemija.</a:t>
            </a:r>
            <a:endParaRPr b="0" lang="en-US" sz="1600" spc="-1" strike="noStrike">
              <a:solidFill>
                <a:srgbClr val="000000"/>
              </a:solidFill>
              <a:latin typeface="Constantia"/>
            </a:endParaRPr>
          </a:p>
        </p:txBody>
      </p:sp>
      <p:pic>
        <p:nvPicPr>
          <p:cNvPr id="217" name="Picture 2" descr="D:\Documents and Settings\Korisnik\My Documents\My Pictures\MP Navigator\2007_12_11\graf3.jpg"/>
          <p:cNvPicPr/>
          <p:nvPr/>
        </p:nvPicPr>
        <p:blipFill>
          <a:blip r:embed="rId2"/>
          <a:stretch/>
        </p:blipFill>
        <p:spPr>
          <a:xfrm>
            <a:off x="685800" y="1170000"/>
            <a:ext cx="7848720" cy="416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04560"/>
            <a:ext cx="8229600" cy="99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Grafikon 4: Epidemije alimentarnih bakterijskih intoksikacija u Srbiji, 1994-2003. godine</a:t>
            </a:r>
            <a:br>
              <a:rPr sz="1800"/>
            </a:br>
            <a:endParaRPr b="0" lang="en-US" sz="1800" spc="-1" strike="noStrike">
              <a:solidFill>
                <a:srgbClr val="04617b"/>
              </a:solidFill>
              <a:latin typeface="Calibri"/>
            </a:endParaRPr>
          </a:p>
        </p:txBody>
      </p:sp>
      <p:sp>
        <p:nvSpPr>
          <p:cNvPr id="219" name=""/>
          <p:cNvSpPr txBox="1"/>
          <p:nvPr/>
        </p:nvSpPr>
        <p:spPr>
          <a:xfrm>
            <a:off x="457200" y="5562720"/>
            <a:ext cx="8229600" cy="79200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Na drugom mestu po broju prijavljenih epidemija iz grupe crevnih zaraznih bolesti nalaze se alimentarne bakterijske intoksikacije. U posmatranih 10 god. prijavljeno je ukupno 400 epidemija ovih oboljenja što predstavlja 14,5% svih epidemija.</a:t>
            </a:r>
            <a:endParaRPr b="0" lang="en-US" sz="16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20" name="Picture 2" descr="D:\Documents and Settings\Korisnik\My Documents\My Pictures\MP Navigator\2007_12_11\graf4.jpg"/>
          <p:cNvPicPr/>
          <p:nvPr/>
        </p:nvPicPr>
        <p:blipFill>
          <a:blip r:embed="rId2"/>
          <a:stretch/>
        </p:blipFill>
        <p:spPr>
          <a:xfrm>
            <a:off x="609480" y="1295280"/>
            <a:ext cx="8001000" cy="412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6840"/>
            <a:ext cx="8229600" cy="819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ea typeface="Times New Roman"/>
              </a:rPr>
              <a:t>Grafikon 5: Epidemije akutnog virusnog hepatitisa A u Srbiji, 1994-2003. godine</a:t>
            </a:r>
            <a:br>
              <a:rPr sz="1800"/>
            </a:br>
            <a:endParaRPr b="0" lang="en-US" sz="1800" spc="-1" strike="noStrike">
              <a:solidFill>
                <a:srgbClr val="04617b"/>
              </a:solidFill>
              <a:latin typeface="Calibri"/>
            </a:endParaRPr>
          </a:p>
        </p:txBody>
      </p:sp>
      <p:sp>
        <p:nvSpPr>
          <p:cNvPr id="222" name=""/>
          <p:cNvSpPr txBox="1"/>
          <p:nvPr/>
        </p:nvSpPr>
        <p:spPr>
          <a:xfrm>
            <a:off x="457200" y="5638320"/>
            <a:ext cx="8229600" cy="716040"/>
          </a:xfrm>
          <a:prstGeom prst="rect">
            <a:avLst/>
          </a:prstGeom>
          <a:noFill/>
          <a:ln w="0">
            <a:noFill/>
          </a:ln>
        </p:spPr>
        <p:txBody>
          <a:bodyPr anchor="t">
            <a:normAutofit fontScale="85000"/>
          </a:bodyPr>
          <a:p>
            <a:pPr marL="231840" indent="-23184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Broj epidemija akutnog virusnog hepatitisa A kretao se od 14 (1998. god. ) do 57 (1999. god.). Epidemije virusnog hepatitisa A su na trećem mestu zastupljenosti epidemija crevnih zaraznih bolesti i njihovo učešće u ukupnom broju prijavljenih epidemija iznosi 10,7%.</a:t>
            </a:r>
            <a:endParaRPr b="0" lang="en-US" sz="1600" spc="-1" strike="noStrike">
              <a:solidFill>
                <a:srgbClr val="000000"/>
              </a:solidFill>
              <a:latin typeface="Constantia"/>
            </a:endParaRPr>
          </a:p>
        </p:txBody>
      </p:sp>
      <p:pic>
        <p:nvPicPr>
          <p:cNvPr id="223" name="Picture 2" descr="D:\Documents and Settings\Korisnik\My Documents\My Pictures\MP Navigator\2007_12_11\graf5.jpg"/>
          <p:cNvPicPr/>
          <p:nvPr/>
        </p:nvPicPr>
        <p:blipFill>
          <a:blip r:embed="rId2"/>
          <a:stretch/>
        </p:blipFill>
        <p:spPr>
          <a:xfrm>
            <a:off x="533520" y="1295280"/>
            <a:ext cx="8076960" cy="399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sr-Latn-CS" sz="1800" spc="-1" strike="noStrike">
                <a:solidFill>
                  <a:srgbClr val="000000"/>
                </a:solidFill>
                <a:latin typeface="Times New Roman"/>
                <a:ea typeface="Times New Roman"/>
              </a:rPr>
              <a:t>Grafikon 6: Epidemije šigeloze u Srbiji, 1994-2003. godine</a:t>
            </a:r>
            <a:endParaRPr b="0" lang="en-US" sz="1800" spc="-1" strike="noStrike">
              <a:solidFill>
                <a:srgbClr val="04617b"/>
              </a:solidFill>
              <a:latin typeface="Calibri"/>
            </a:endParaRPr>
          </a:p>
        </p:txBody>
      </p:sp>
      <p:sp>
        <p:nvSpPr>
          <p:cNvPr id="225" name=""/>
          <p:cNvSpPr txBox="1"/>
          <p:nvPr/>
        </p:nvSpPr>
        <p:spPr>
          <a:xfrm>
            <a:off x="457200" y="5638320"/>
            <a:ext cx="8229600" cy="71604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Epidemije šigeloza su na četvrtom mestu  među registrovanim epidemijama crevnih zaraznih bolesti. Njihovo učešće u svim prijavljenim epidemijama zaraznih bolesti iznosi 9,74%.</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26" name="Picture 2" descr="D:\Documents and Settings\Korisnik\My Documents\My Pictures\MP Navigator\2007_12_11\graf6.jpg"/>
          <p:cNvPicPr/>
          <p:nvPr/>
        </p:nvPicPr>
        <p:blipFill>
          <a:blip r:embed="rId2"/>
          <a:stretch/>
        </p:blipFill>
        <p:spPr>
          <a:xfrm>
            <a:off x="457200" y="1447920"/>
            <a:ext cx="8077320" cy="404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ZAKLJUČAK</a:t>
            </a:r>
            <a:br>
              <a:rPr sz="3200"/>
            </a:br>
            <a:endParaRPr b="0" lang="en-US" sz="3200" spc="-1" strike="noStrike">
              <a:solidFill>
                <a:srgbClr val="04617b"/>
              </a:solidFill>
              <a:latin typeface="Calibri"/>
            </a:endParaRPr>
          </a:p>
        </p:txBody>
      </p:sp>
      <p:sp>
        <p:nvSpPr>
          <p:cNvPr id="228" name=""/>
          <p:cNvSpPr txBox="1"/>
          <p:nvPr/>
        </p:nvSpPr>
        <p:spPr>
          <a:xfrm>
            <a:off x="457200" y="1371240"/>
            <a:ext cx="8229600" cy="5334120"/>
          </a:xfrm>
          <a:prstGeom prst="rect">
            <a:avLst/>
          </a:prstGeom>
          <a:noFill/>
          <a:ln w="0">
            <a:noFill/>
          </a:ln>
        </p:spPr>
        <p:txBody>
          <a:bodyPr anchor="t">
            <a:normAutofit fontScale="94000"/>
          </a:bodyPr>
          <a:p>
            <a:pPr marL="256320" indent="-25632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a osnovu izloženog može se zaključiti da crevne zarazne bolesti predstavljaju značajan problem u celom svetu. Obično se navodi da je ova grupa bolesti ozbiljan zdravstveni, privredni i biološki  problem.</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U nekim zemljama, kao posledica velikog broja obolelih od ovih bolesti, dolazi do toga da je zdravstvena služba praktično nemoćna u borbi sa njima.Procene da u nerazvijenim zemljama od crevnih zaraznih bolesti oboli jedna do dve milijarde ljudi godišnje, jasno ukazuje na veliki značaj ovih bolesti.</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Ekonomske gubitke koji nastaju zbog lečenja, izgubljenih radnih dana, nadoknade ličnog dohotka i drugo, nemoguće je tačno izračunati, ali se procene gubitaka samo u SAD kreću oko deset milijardi dolara godišnj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Crevne zarazne bolesti negativno utiču na biološki potencijal naroda zato što izazivaju visoku smrtnost, naročito u najmlađem uzrastu. Treba istaći da od ovih bolesti umire godišnje do dvadeset miliona dece mlađe od pet godina.</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r>
              <a:rPr b="0" lang="sr-Latn-CS" sz="1600" spc="-1" strike="noStrike">
                <a:solidFill>
                  <a:srgbClr val="000000"/>
                </a:solidFill>
                <a:latin typeface="Times New Roman"/>
                <a:ea typeface="Times New Roman"/>
              </a:rPr>
              <a:t>U Srbiji crevne zarazne bolesti takođe predstavljaju veliki zdravstveni problem jer više od 50% svih prijavljenih epidemija pripada ovoj grupi oboljenja, a broj prijavljenih slučajeva oboljenja iznosi prosečno 20 000 obolelih godišnje.</a:t>
            </a:r>
            <a:endParaRPr b="0" lang="en-US" sz="1600" spc="-1" strike="noStrike">
              <a:solidFill>
                <a:srgbClr val="000000"/>
              </a:solidFill>
              <a:latin typeface="Constantia"/>
            </a:endParaRPr>
          </a:p>
          <a:p>
            <a:pPr marL="256320" indent="-256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Times New Roman"/>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Title 1" descr=""/>
          <p:cNvPicPr/>
          <p:nvPr/>
        </p:nvPicPr>
        <p:blipFill>
          <a:blip r:embed="rId2"/>
          <a:stretch/>
        </p:blipFill>
        <p:spPr>
          <a:xfrm>
            <a:off x="450720" y="701640"/>
            <a:ext cx="8321760" cy="36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229600" cy="685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4617b"/>
                </a:solidFill>
                <a:latin typeface="Times New Roman"/>
                <a:ea typeface="Times New Roman"/>
              </a:rPr>
              <a:t>UVOD</a:t>
            </a:r>
            <a:endParaRPr b="0" lang="en-US" sz="3200" spc="-1" strike="noStrike">
              <a:solidFill>
                <a:srgbClr val="04617b"/>
              </a:solidFill>
              <a:latin typeface="Calibri"/>
            </a:endParaRPr>
          </a:p>
        </p:txBody>
      </p:sp>
      <p:sp>
        <p:nvSpPr>
          <p:cNvPr id="198" name=""/>
          <p:cNvSpPr txBox="1"/>
          <p:nvPr/>
        </p:nvSpPr>
        <p:spPr>
          <a:xfrm>
            <a:off x="0" y="914400"/>
            <a:ext cx="9144000" cy="5943600"/>
          </a:xfrm>
          <a:prstGeom prst="rect">
            <a:avLst/>
          </a:prstGeom>
          <a:noFill/>
          <a:ln w="0">
            <a:noFill/>
          </a:ln>
        </p:spPr>
        <p:txBody>
          <a:bodyPr anchor="t">
            <a:normAutofit/>
          </a:bodyPr>
          <a:p>
            <a:pPr marL="272880" indent="-27288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U crevne zarazne bolesti se ubraja mnoštvo zaraznih oboljenja različite etiologije, za koje je zajednički fekalno-oralni mehanizam infekcije, ulazna vrata ( sluzokoža digestivnog trakta) i putevi prenošenja uzročnika.  </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Izvori zaraze mogu biti čovek ili životinje, bilo kao oboleli ili kao kliconoše. Uzročnici bolesti (bakterije, virusi, paraziti) se od izvora do zdravih ljudi najčešće prenose putem vode odnosno hrane, a značajna uloga pripada i kontaktu.Oboljenja iz ove grupe poznata su i kao “bolesti prljavih ruku”, koje se klinički mogu manifestovati veoma različito, ali u osnovi dominiraju digestivni poremećaji kao što su bolovi u trbuhu, mučnina, proliv, povraćanje i povišena temperatura. Posle bolesti respiratornih organa to su najrasprostranjenija oboljenja.</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Od svih crevnih zaraznih bolesti najranije se pominje kolera. Podaci o njoj datiraju još iz antičkih vremena, a prapostojbina je Indija. Kao samostalno oboljenje poznato je od 1883. godine, kada je Robert Koh izolovao prouzrokovača kolere – Vibrio cholerae classica.</a:t>
            </a: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Početkom XIX veka, nakon kolonizatorskih ratova, kolera se širila po celom svetu i javljala u vidu pandemija koje ni do danas nisu zaustavljene, a dale su milionske žrtve.</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Dizenterija se pominje takođe u starim induskim spisima i sve do XIX veka pod nazivom ”dizenterija” podrazumevana su sva oboljenja praćena krvavo-sluzavim stolicama. Nova era u istoriji dizenterije nastupa krajem XIX veka, kada je objašnjenjem njene etiologije izdvojena kao posebna nozološka jedinica. Dizenterija je tipična ratna zaraza koja se razbuktava obično za vreme ratova, zahvatajući onda sa vojskom i civilno stanovništvo. </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Na prve pisane tragove o trbušnom tifusu nailazi se veoma rano, ali ova bolest nije bila definisana</a:t>
            </a:r>
            <a:r>
              <a:rPr b="0" lang="sr-Latn-CS" sz="1500" spc="-1" strike="noStrike">
                <a:solidFill>
                  <a:srgbClr val="000000"/>
                </a:solidFill>
                <a:latin typeface="Times New Roman"/>
                <a:ea typeface="Times New Roman"/>
              </a:rPr>
              <a:t> tokom mnogo vekova. Prvi precizni opisi datiraju iz XVII veka, kada počinju da se beleže brojne i teške epidemije trbušnog tifusa.Krajem XIX veka iz tifusnog sindroma odvaja se paratifus kao zasebno oboljenje, a još pre pronalaska paratifusnih bacila otkrivaju se salmonele kao trovači hrane. </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sr-Latn-CS" sz="1500" spc="-1" strike="noStrike">
                <a:solidFill>
                  <a:srgbClr val="000000"/>
                </a:solidFill>
                <a:latin typeface="Times New Roman"/>
                <a:ea typeface="Times New Roman"/>
              </a:rPr>
              <a:t>Dečija paraliza poznata je iz davnih dana. Prvi pisani podaci potiču iz XVI veka pre nove ere. Iako zvuči kao ironija, tek u XX veku dečija paraliza se pojavljuje u vidu epidemija, sa poboljšanjem sanitarnih uslova koji su doveli do suzbijanja kolere, trbušnog tifusa i drugih zaraza. </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Times New Roman"/>
                <a:ea typeface="Times New Roman"/>
              </a:rPr>
              <a:t>         </a:t>
            </a:r>
            <a:r>
              <a:rPr b="0" lang="sr-Latn-CS" sz="1500" spc="-1" strike="noStrike">
                <a:solidFill>
                  <a:srgbClr val="000000"/>
                </a:solidFill>
                <a:latin typeface="Times New Roman"/>
                <a:ea typeface="Times New Roman"/>
              </a:rPr>
              <a:t>Prvi zapisi o virusnom hepatitisu počinju od Hipokrata. Odavno je zapaženo povećanje broja obolelih sa žuticom za vreme neredovnih prilika, posebno u vreme ratova, ali je infektivna priroda ovog oboljenja dokazana tek u prvoj polovini XIX veka.</a:t>
            </a:r>
            <a:endParaRPr b="0" lang="en-US" sz="1500" spc="-1" strike="noStrike">
              <a:solidFill>
                <a:srgbClr val="000000"/>
              </a:solidFill>
              <a:latin typeface="Constantia"/>
            </a:endParaRPr>
          </a:p>
          <a:p>
            <a:pPr marL="272880" indent="-272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14300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4617b"/>
                </a:solidFill>
                <a:latin typeface="Times New Roman"/>
                <a:ea typeface="Times New Roman"/>
              </a:rPr>
              <a:t>KARAKTERISTIKE CREVNIH ZARAZNIH BOLESTI</a:t>
            </a:r>
            <a:br>
              <a:rPr sz="4500"/>
            </a:br>
            <a:endParaRPr b="0" lang="en-US" sz="3200" spc="-1" strike="noStrike">
              <a:solidFill>
                <a:srgbClr val="04617b"/>
              </a:solidFill>
              <a:latin typeface="Calibri"/>
            </a:endParaRPr>
          </a:p>
        </p:txBody>
      </p:sp>
      <p:sp>
        <p:nvSpPr>
          <p:cNvPr id="200" name=""/>
          <p:cNvSpPr txBox="1"/>
          <p:nvPr/>
        </p:nvSpPr>
        <p:spPr>
          <a:xfrm>
            <a:off x="0" y="2133360"/>
            <a:ext cx="9144000" cy="472428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snovna karakteristika crevnih zaraznih bolesti je u tome da im se uzročnici privremeno ili kroz čitav tok bolesti ( kliconoštva ) nalaze u crevima obolelog ( kliconoša ), te se zajedno sa crevnim sadržajem izbacuju iz organizma i preko određenih puteva unose u organizam zdrave osob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va grupa bolesti se može podeliti na dve podgrupe:</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troponoze ( trbušni tifus, paratifus A i C, bacilarna dizenterija, dečija paraliza, virusni hepatitis A, helminoze i druge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zoonoze tj. zooantroponoze ( salmoneloze uključujući paratifus B, botulizam, bruceloze, leptospiroze i druge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237960" y="682560"/>
            <a:ext cx="8534520" cy="479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12600" y="701640"/>
            <a:ext cx="8832960" cy="502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Title 1" descr=""/>
          <p:cNvPicPr/>
          <p:nvPr/>
        </p:nvPicPr>
        <p:blipFill>
          <a:blip r:embed="rId2"/>
          <a:stretch/>
        </p:blipFill>
        <p:spPr>
          <a:xfrm>
            <a:off x="237960" y="341280"/>
            <a:ext cx="8686800" cy="606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Title 1" descr=""/>
          <p:cNvPicPr/>
          <p:nvPr/>
        </p:nvPicPr>
        <p:blipFill>
          <a:blip r:embed="rId2"/>
          <a:stretch/>
        </p:blipFill>
        <p:spPr>
          <a:xfrm>
            <a:off x="237960" y="639720"/>
            <a:ext cx="8588520" cy="584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Title 1" descr=""/>
          <p:cNvPicPr/>
          <p:nvPr/>
        </p:nvPicPr>
        <p:blipFill>
          <a:blip r:embed="rId2"/>
          <a:stretch/>
        </p:blipFill>
        <p:spPr>
          <a:xfrm>
            <a:off x="237960" y="950760"/>
            <a:ext cx="8534520" cy="47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Title 1" descr=""/>
          <p:cNvPicPr/>
          <p:nvPr/>
        </p:nvPicPr>
        <p:blipFill>
          <a:blip r:embed="rId2"/>
          <a:stretch/>
        </p:blipFill>
        <p:spPr>
          <a:xfrm>
            <a:off x="237960" y="378000"/>
            <a:ext cx="8534520" cy="610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08:57:27Z</dcterms:created>
  <dc:creator>Registered User</dc:creator>
  <dc:description/>
  <dc:language>en-US</dc:language>
  <cp:lastModifiedBy>parazitologija1n</cp:lastModifiedBy>
  <dcterms:modified xsi:type="dcterms:W3CDTF">2011-11-24T08:54:08Z</dcterms:modified>
  <cp:revision>13</cp:revision>
  <dc:subject/>
  <dc:title>UNIVERZITET U NIŠU MEDICINSKI FAKULTET</dc:title>
</cp:coreProperties>
</file>