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6.png" ContentType="image/png"/>
  <Override PartName="/ppt/media/image15.png" ContentType="image/png"/>
  <Override PartName="/ppt/media/image1.jpeg" ContentType="image/jpe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7.wmf" ContentType="image/x-wmf"/>
  <Override PartName="/ppt/media/image8.png" ContentType="image/png"/>
  <Override PartName="/ppt/media/image12.wmf" ContentType="image/x-wmf"/>
  <Override PartName="/ppt/media/image4.png" ContentType="image/pn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FF845-C0F2-4AB2-A798-DEC35318D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4202B-880A-4159-BF75-10A65B376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2B95A-DBDD-41AA-AD9C-FE216059A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5A6DB-40AD-42CE-9A8A-E94E8ECDE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B550D-432C-48FB-9B89-28F930CC1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E3D11-17E6-41F4-B33C-73156A2C8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90464-4328-46A0-86CE-C1742A8AC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85B67-AF55-4C3E-B83C-231AAC231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1F5E8-C03C-4BB0-93E8-D5012F82E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871C0-F78F-4AC8-9451-9859AB1DD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8F9D3-8288-4185-8A47-330957207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7215E-2C34-4912-A3A4-363ADBBDD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0DBFD-297E-4582-A9CB-1AFC26355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3955F-3C9A-4A1B-9CDA-2E1A21760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7775C-B522-4CFD-BD98-DA41BDEF2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AFBC2-8A5B-47C5-8994-71CA6D98B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BBAE5-B68B-4C2B-9E61-2C1802C37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6BF1C-F09F-416C-B047-75C928BAF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A51BE-52D0-45C9-9C4D-345FEAAFC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D0058-ADAE-458C-9205-AA21B60E6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66D66-0420-4410-96F1-C1A697F4B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7BEA5-6FD2-4A19-9D94-A5CD5D8CB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E107B-8437-44CD-8D4D-830C524A3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8BD59-5C03-43C5-8F25-8C7D2E165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CAE6-BBD9-4FD4-9108-BF1D966D513D}"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E05C-DFB9-40F1-8391-0E073F41400C}"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0" y="0"/>
            <a:ext cx="9144000" cy="6858000"/>
          </a:xfrm>
          <a:prstGeom prst="rect">
            <a:avLst/>
          </a:prstGeom>
          <a:ln w="0">
            <a:noFill/>
          </a:ln>
        </p:spPr>
      </p:pic>
      <p:pic>
        <p:nvPicPr>
          <p:cNvPr id="83" name="Title 1" descr=""/>
          <p:cNvPicPr/>
          <p:nvPr/>
        </p:nvPicPr>
        <p:blipFill>
          <a:blip r:embed="rId3"/>
          <a:stretch/>
        </p:blipFill>
        <p:spPr>
          <a:xfrm>
            <a:off x="262080" y="1042920"/>
            <a:ext cx="8881920" cy="236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Picture 2" descr=""/>
          <p:cNvPicPr/>
          <p:nvPr/>
        </p:nvPicPr>
        <p:blipFill>
          <a:blip r:embed="rId2"/>
          <a:stretch/>
        </p:blipFill>
        <p:spPr>
          <a:xfrm>
            <a:off x="0" y="0"/>
            <a:ext cx="9144000" cy="6858000"/>
          </a:xfrm>
          <a:prstGeom prst="rect">
            <a:avLst/>
          </a:prstGeom>
          <a:ln w="0">
            <a:noFill/>
          </a:ln>
        </p:spPr>
      </p:pic>
      <p:sp>
        <p:nvSpPr>
          <p:cNvPr id="98" name=""/>
          <p:cNvSpPr txBox="1"/>
          <p:nvPr/>
        </p:nvSpPr>
        <p:spPr>
          <a:xfrm>
            <a:off x="324000" y="134100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 </a:t>
            </a:r>
            <a:r>
              <a:rPr b="1" i="1" lang="en-US" sz="2400" spc="-1" strike="noStrike">
                <a:solidFill>
                  <a:srgbClr val="ffffff"/>
                </a:solidFill>
                <a:latin typeface="Book Antiqua"/>
              </a:rPr>
              <a:t>Stope prema polu i uzrastu </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Seosko područje</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 periodu 1995-1999. sa seoskog područja ukupno je hoospitalno lečeno od AIM 48 bolesnika od kojih 21 muškarac (43,75%) i 27 žena (56,25%). Odnos je 1:1,3 u korist žena, tj. kod ove populacije nema značajnih razlika prema polu.</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 odnosu na uzrast, kod oba pola nije bilo bolesnika ispod 50 godina starosti. Prosecna starost hospitalizovanih muškaraca je iznosila 66,9 godina (SD = 7,0 godina), kod žena 69,3 godine (SD = 5,8 godina). Razlika od 2,4 godine u korist starosti žene nije statistički signifikantna (t=l,3&lt;t=2,02 i p&gt;0,05).</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2" descr=""/>
          <p:cNvPicPr/>
          <p:nvPr/>
        </p:nvPicPr>
        <p:blipFill>
          <a:blip r:embed="rId2"/>
          <a:stretch/>
        </p:blipFill>
        <p:spPr>
          <a:xfrm>
            <a:off x="5327640" y="0"/>
            <a:ext cx="3809880" cy="285768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lIns="90000" rIns="90000" tIns="46800" bIns="46800" anchor="t">
            <a:normAutofit fontScale="99000"/>
          </a:bodyPr>
          <a:p>
            <a:pPr marL="541800" indent="-40680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Book Antiqua"/>
              </a:rPr>
              <a:t>Populacija grada Niša</a:t>
            </a:r>
            <a:endParaRPr b="0" lang="en-US" sz="2600" spc="-1" strike="noStrike">
              <a:solidFill>
                <a:srgbClr val="ffffff"/>
              </a:solidFill>
              <a:latin typeface="Book Antiqua"/>
            </a:endParaRPr>
          </a:p>
          <a:p>
            <a:pPr marL="541800" indent="-40680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U periodu 1995-1999 u Klinici za kardiovaskularne bolesti u Nišu hospitalno je lečeno od ATM 1358 bolesnika iz gradske populacije. Prosečno su godišnje lečena 272 bolesnika, tako da je prosečna stopa iznosila 254 obolela na 100.000 stanovnika iznad 30 godina </a:t>
            </a:r>
            <a:endParaRPr b="0" lang="en-US" sz="2600" spc="-1" strike="noStrike">
              <a:solidFill>
                <a:srgbClr val="ffffff"/>
              </a:solidFill>
              <a:latin typeface="Book Antiqua"/>
            </a:endParaRPr>
          </a:p>
          <a:p>
            <a:pPr marL="541800" indent="-40680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d 1358 bolesnika 933 ili 68,7% su bili muškog pola, a 425 žena ili 31,3%. Apsolutni odnos bio je 1:2,2 u korist muškaraca. Prosečna godišnja stopa za muškarce je iznosila 356,9, a kod žena 155,9 obolelih na 100.000 stanovnika istog pola starijih od 30 godina. Odnos stopa je gotovo isti kao i apsolutni odnos (1:2,3 u korist muškaraca) </a:t>
            </a:r>
            <a:endParaRPr b="0" lang="en-US" sz="2600" spc="-1" strike="noStrike">
              <a:solidFill>
                <a:srgbClr val="ffffff"/>
              </a:solidFill>
              <a:latin typeface="Book Antiqua"/>
            </a:endParaRPr>
          </a:p>
          <a:p>
            <a:pPr marL="541800" indent="-40680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2" descr=""/>
          <p:cNvPicPr/>
          <p:nvPr/>
        </p:nvPicPr>
        <p:blipFill>
          <a:blip r:embed="rId2"/>
          <a:stretch/>
        </p:blipFill>
        <p:spPr>
          <a:xfrm>
            <a:off x="1042920" y="404640"/>
            <a:ext cx="7201080" cy="3329280"/>
          </a:xfrm>
          <a:prstGeom prst="rect">
            <a:avLst/>
          </a:prstGeom>
          <a:ln w="0">
            <a:noFill/>
          </a:ln>
        </p:spPr>
      </p:pic>
      <p:pic>
        <p:nvPicPr>
          <p:cNvPr id="102" name="Picture 3" descr=""/>
          <p:cNvPicPr/>
          <p:nvPr/>
        </p:nvPicPr>
        <p:blipFill>
          <a:blip r:embed="rId3"/>
          <a:stretch/>
        </p:blipFill>
        <p:spPr>
          <a:xfrm>
            <a:off x="900000" y="3213000"/>
            <a:ext cx="7344000" cy="344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2" descr=""/>
          <p:cNvPicPr/>
          <p:nvPr/>
        </p:nvPicPr>
        <p:blipFill>
          <a:blip r:embed="rId2"/>
          <a:stretch/>
        </p:blipFill>
        <p:spPr>
          <a:xfrm>
            <a:off x="-79200" y="-19080"/>
            <a:ext cx="9223200" cy="6877080"/>
          </a:xfrm>
          <a:prstGeom prst="rect">
            <a:avLst/>
          </a:prstGeom>
          <a:ln w="0">
            <a:noFill/>
          </a:ln>
        </p:spPr>
      </p:pic>
      <p:sp>
        <p:nvSpPr>
          <p:cNvPr id="104" name=""/>
          <p:cNvSpPr txBox="1"/>
          <p:nvPr/>
        </p:nvSpPr>
        <p:spPr>
          <a:xfrm>
            <a:off x="457200" y="1052640"/>
            <a:ext cx="8229600" cy="5256000"/>
          </a:xfrm>
          <a:prstGeom prst="rect">
            <a:avLst/>
          </a:prstGeom>
          <a:noFill/>
          <a:ln w="0">
            <a:noFill/>
          </a:ln>
        </p:spPr>
        <p:txBody>
          <a:bodyPr lIns="90000" rIns="90000" tIns="46800" bIns="46800" anchor="t">
            <a:normAutofit fontScale="97000"/>
          </a:bodyPr>
          <a:p>
            <a:pPr marL="531000" indent="-3985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Prevencija infarkta miokarda uključuje smanjivanje faktora rizika, a to su regulacija povišenog krvnog pritiska kao jednog od glavnih uzročnika, regulacija holesterola i triglicerida u krvi dovođenjem u optimalne vrijednosti putem antilipemične dijete i preparata statina, regulacija vrijednosti šećera u krvi kod dijabetičara, prestanak pušenja, izbjegavanje stresnih situacija i svakodnevna fizička aktivnost koja uključuje barem pola sata do 45 minuta brzog hoda.Sve to je neophodno ne samo za sprečavanje infarkta miokarda nego da bi život sa svim svojim aktivnostima,u potpunosti ispunjavao čoveka osećajem zdravlja i životne snage.</a:t>
            </a:r>
            <a:r>
              <a:rPr b="0" lang="en-US" sz="2600" spc="-1" strike="noStrike" baseline="30000">
                <a:solidFill>
                  <a:srgbClr val="000000"/>
                </a:solidFill>
                <a:latin typeface="Book Antiqua"/>
              </a:rPr>
              <a:t>4</a:t>
            </a:r>
            <a:endParaRPr b="0" lang="en-US" sz="2600" spc="-1" strike="noStrike">
              <a:solidFill>
                <a:srgbClr val="ffffff"/>
              </a:solidFill>
              <a:latin typeface="Book Antiqua"/>
            </a:endParaRPr>
          </a:p>
          <a:p>
            <a:pPr marL="531000" indent="-3985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2" descr=""/>
          <p:cNvPicPr/>
          <p:nvPr/>
        </p:nvPicPr>
        <p:blipFill>
          <a:blip r:embed="rId2"/>
          <a:stretch/>
        </p:blipFill>
        <p:spPr>
          <a:xfrm>
            <a:off x="5940360" y="3933720"/>
            <a:ext cx="3203640" cy="2924280"/>
          </a:xfrm>
          <a:prstGeom prst="rect">
            <a:avLst/>
          </a:prstGeom>
          <a:ln w="0">
            <a:noFill/>
          </a:ln>
        </p:spPr>
      </p:pic>
      <p:sp>
        <p:nvSpPr>
          <p:cNvPr id="106" name=""/>
          <p:cNvSpPr txBox="1"/>
          <p:nvPr/>
        </p:nvSpPr>
        <p:spPr>
          <a:xfrm>
            <a:off x="468000" y="333000"/>
            <a:ext cx="7343640" cy="6335640"/>
          </a:xfrm>
          <a:prstGeom prst="rect">
            <a:avLst/>
          </a:prstGeom>
          <a:noFill/>
          <a:ln w="0">
            <a:noFill/>
          </a:ln>
        </p:spPr>
        <p:txBody>
          <a:bodyPr lIns="90000" rIns="90000" tIns="46800" bIns="46800"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Celokupan mortalitet u toku prvog meseca posle infarkta iznosi prosečno 30%. Najveći broj smrti se javlja u prvih 12 sati. Manji napadi se klinički odmah stišavaju, tako da je smrtnost u početku manja.Klinički teški infarkti miokarda za puno oporavljanje zahtevaju 6—12 nedelja. Smrtnost raste 60— 9096 sa stanjem produženog šoka, teškom ranom insuficijencijom srca, leukocitozom preko 25.000, sa eozinofilijom, temperaturom preko 40°C (104 F), nekontrolisanim diabetes mellitusom, u starijih osoba, kod već ranije postojećeg infarkta, a naročito ako su pomenuti faktori udruženi.Plućna embolija koja se ne tretira antikoagulantnom terapijom, zatim perzistirajuća aritmija i produženo stanje infarkta održava i za vreme ranog oporavljanja.Dugoročno preživljavanje je u zavisnosti od sposobnosti medicinske nege i od prisustva drugih hroničnih oboljenja. Kompletno kliničko oporavljanje i EKG nalaza omogućuje 10—15 godina života.Bolesnici sa znacima ostatka insuficijencije srca, aritmijom, ili anginom umiru za 3—6 godina</a:t>
            </a:r>
            <a:r>
              <a:rPr b="0" lang="en-US" sz="2200" spc="-1" strike="noStrike" baseline="30000">
                <a:solidFill>
                  <a:srgbClr val="000000"/>
                </a:solidFill>
                <a:latin typeface="Book Antiqua"/>
              </a:rPr>
              <a:t>4</a:t>
            </a:r>
            <a:r>
              <a:rPr b="0" lang="en-US" sz="2200" spc="-1" strike="noStrike">
                <a:solidFill>
                  <a:srgbClr val="000000"/>
                </a:solidFill>
                <a:latin typeface="Book Antiqua"/>
              </a:rPr>
              <a:t>.</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Picture 2" descr=""/>
          <p:cNvPicPr/>
          <p:nvPr/>
        </p:nvPicPr>
        <p:blipFill>
          <a:blip r:embed="rId2"/>
          <a:stretch/>
        </p:blipFill>
        <p:spPr>
          <a:xfrm>
            <a:off x="-108000" y="0"/>
            <a:ext cx="9252000" cy="685800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a:p>
            <a:pPr marL="547560" indent="-411120" algn="ctr">
              <a:spcBef>
                <a:spcPts val="11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Hvala na pažnji !!!</a:t>
            </a:r>
            <a:endParaRPr b="0" lang="en-US" sz="4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6300720" y="3695760"/>
            <a:ext cx="2835360" cy="3162240"/>
          </a:xfrm>
          <a:prstGeom prst="rect">
            <a:avLst/>
          </a:prstGeom>
          <a:ln w="0">
            <a:noFill/>
          </a:ln>
        </p:spPr>
      </p:pic>
      <p:sp>
        <p:nvSpPr>
          <p:cNvPr id="85" name=""/>
          <p:cNvSpPr txBox="1"/>
          <p:nvPr/>
        </p:nvSpPr>
        <p:spPr>
          <a:xfrm>
            <a:off x="456840" y="549360"/>
            <a:ext cx="6923160" cy="5759280"/>
          </a:xfrm>
          <a:prstGeom prst="rect">
            <a:avLst/>
          </a:prstGeom>
          <a:noFill/>
          <a:ln w="0">
            <a:noFill/>
          </a:ln>
        </p:spPr>
        <p:txBody>
          <a:bodyPr lIns="90000" rIns="90000" tIns="46800" bIns="46800"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Kardiovaskularne bolesti u današnjem razvijenom svetu predstavljaju vodeće uzroke umiranja,invalidnosti i ekonomskih gubitaka . Ishemična bolest srca sa infarktom miokarda zauzima primarno mesto i ima epidemiološki karakter , zbog visokog mortaliteta , visokog morbiditeta koji ima karakteristike epidemije i zbog visokih ekonomskih posledica u smislu gubitka radne sposobnosti i lečenja. Infarkt miokarda je akutni koronarni sindrom , jedan od oblika ishemijske bolesti srca , koja nastaje usled naglog ili potpunog prekida cirkulacije u jednoj od koronarnih arterija , što za posledicu ima ireverzibilnu ishemiju i nekrozu miokarda . Dolazi do trajnog oštećenja srčanog mišića , odnosno funkcionalnog i anatomskog gubitka srčanog tkiv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539640" y="404640"/>
            <a:ext cx="8229600" cy="4392720"/>
          </a:xfrm>
          <a:prstGeom prst="rect">
            <a:avLst/>
          </a:prstGeom>
          <a:noFill/>
          <a:ln w="0">
            <a:noFill/>
          </a:ln>
        </p:spPr>
        <p:txBody>
          <a:bodyPr lIns="90000" rIns="90000" tIns="46800" bIns="46800"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Faktori rizika</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U najvećem broju slučajeva uzrok infarkta miokarda je ruptura , fisura ili ulceracija aterosklerotične ploče koronarne arterije sa formiranjem tromba koji uz dodatni vazospazam okludira koronarnu arteriju . Znatno ređi uzroci okluzije koronarne arterije i posledičnog infarkta miokarda mogu biti ventrikularna hipertrofija , embolus i trauma izazvana invazivnim dijagnostičkim procedurama , kongenitalne anomalije koronarnih arterija uključujući i aneurizmu koronarne arterije , koronaritis  i luetički aortitis , hipoksija (kao posledica trovanja ugljen-monoksida ili akutne pulmonalne insuficijencije ) , vazospazam koronarne arterije , kokain, amfetamin i efedrin ( povećavaju afterload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pic>
        <p:nvPicPr>
          <p:cNvPr id="87" name="Picture 2" descr=""/>
          <p:cNvPicPr/>
          <p:nvPr/>
        </p:nvPicPr>
        <p:blipFill>
          <a:blip r:embed="rId2"/>
          <a:stretch/>
        </p:blipFill>
        <p:spPr>
          <a:xfrm>
            <a:off x="2435400" y="4724280"/>
            <a:ext cx="443844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
          <p:cNvPicPr/>
          <p:nvPr/>
        </p:nvPicPr>
        <p:blipFill>
          <a:blip r:embed="rId2"/>
          <a:stretch/>
        </p:blipFill>
        <p:spPr>
          <a:xfrm>
            <a:off x="0" y="0"/>
            <a:ext cx="9144000" cy="6858000"/>
          </a:xfrm>
          <a:prstGeom prst="rect">
            <a:avLst/>
          </a:prstGeom>
          <a:ln w="0">
            <a:noFill/>
          </a:ln>
        </p:spPr>
      </p:pic>
      <p:sp>
        <p:nvSpPr>
          <p:cNvPr id="89" name=""/>
          <p:cNvSpPr txBox="1"/>
          <p:nvPr/>
        </p:nvSpPr>
        <p:spPr>
          <a:xfrm>
            <a:off x="457200" y="549360"/>
            <a:ext cx="8229600" cy="5759280"/>
          </a:xfrm>
          <a:prstGeom prst="rect">
            <a:avLst/>
          </a:prstGeom>
          <a:noFill/>
          <a:ln w="0">
            <a:noFill/>
          </a:ln>
        </p:spPr>
        <p:txBody>
          <a:bodyPr lIns="90000" rIns="90000" tIns="46800" bIns="46800"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 </a:t>
            </a:r>
            <a:r>
              <a:rPr b="0" lang="en-US" sz="2600" spc="-1" strike="noStrike">
                <a:solidFill>
                  <a:srgbClr val="000000"/>
                </a:solidFill>
                <a:latin typeface="Book Antiqua"/>
              </a:rPr>
              <a:t>Poznati faktor rizika , kao što su : hipertenzija , šećerna bolest , hiperholesteremija , hipertrigliceridemija , pušenje cigareta , gojoznost , porodično opterećenje i fizička neaktivnost potenciraju i ubrzavaju proces ateroskleroze i infarkta miokarda. </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    </a:t>
            </a:r>
            <a:r>
              <a:rPr b="0" lang="en-US" sz="2600" spc="-1" strike="noStrike">
                <a:solidFill>
                  <a:srgbClr val="000000"/>
                </a:solidFill>
                <a:latin typeface="Book Antiqua"/>
              </a:rPr>
              <a:t>U osnovi infarkta miokarda leži nastanak nestabilne aterosklerotične ploče i ireverzibilne ishemije miokarda koja progredira u nekrozu srčanog mišića. Aterosklerotska ploča predstavlja odgovor endotela na oštećenje krvnog suda . Dokazano je da je proces ateroskleroze dogotrajan , promene na koronarnim arteijama formiraju se godinama ili decenijama dovodeći do značajne stenoze</a:t>
            </a:r>
            <a:r>
              <a:rPr b="0" lang="en-US" sz="2600" spc="-1" strike="noStrike">
                <a:solidFill>
                  <a:srgbClr val="ffffff"/>
                </a:solidFill>
                <a:latin typeface="Book Antiqua"/>
              </a:rPr>
              <a:t>..</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457200" y="404640"/>
            <a:ext cx="8229600" cy="5904000"/>
          </a:xfrm>
          <a:prstGeom prst="rect">
            <a:avLst/>
          </a:prstGeom>
          <a:noFill/>
          <a:ln w="0">
            <a:noFill/>
          </a:ln>
        </p:spPr>
        <p:txBody>
          <a:bodyPr lIns="90000" rIns="90000" tIns="46800" bIns="46800" anchor="t">
            <a:normAutofit fontScale="96000"/>
          </a:bodyPr>
          <a:p>
            <a:pPr marL="525600" indent="-39456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 Antiqua"/>
              </a:rPr>
              <a:t>Podela</a:t>
            </a:r>
            <a:endParaRPr b="0" lang="en-US" sz="2600" spc="-1" strike="noStrike">
              <a:solidFill>
                <a:srgbClr val="ffffff"/>
              </a:solidFill>
              <a:latin typeface="Book Antiqua"/>
            </a:endParaRPr>
          </a:p>
          <a:p>
            <a:pPr marL="525600" indent="-39456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    </a:t>
            </a:r>
            <a:r>
              <a:rPr b="0" lang="en-US" sz="2600" spc="-1" strike="noStrike">
                <a:solidFill>
                  <a:srgbClr val="000000"/>
                </a:solidFill>
                <a:latin typeface="Book Antiqua"/>
              </a:rPr>
              <a:t>Infarkt miokarda se deli u dve osnovne grupe  : transmuralni infarkt u kojem nekroza obuhvata celu ili gotovo celu debljinu zida miokrda i netransmuralni infarkt u kojem nekroza zahvata subendokardni , intramularni ili oba sloja zida komora, bez zahvatanja subepikarda. </a:t>
            </a:r>
            <a:endParaRPr b="0" lang="en-US" sz="2600" spc="-1" strike="noStrike">
              <a:solidFill>
                <a:srgbClr val="ffffff"/>
              </a:solidFill>
              <a:latin typeface="Book Antiqua"/>
            </a:endParaRPr>
          </a:p>
          <a:p>
            <a:pPr marL="525600" indent="-39456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kluzivna koronarna tromboza je mnogo češći nalaz u slučaju transmuralnog infarkta i lokalizacija odgovara distribuciji pojedinih koronarnih arterija. Netransmuralni infarkt najčešće se javlja usled ozbiljno suženih ali još uvek prohodne koronarne arterije . Mtrve ćelije i nekrotično tkivo miokarda podležu degeneraciji , fagocitozi i infiltraciji. Stvara se granulaciono tkivo, počinje zamena funkcionalnog mišićnog tkiva vezivom i nastaje ožiljak.</a:t>
            </a:r>
            <a:r>
              <a:rPr b="0" lang="en-US" sz="2600" spc="-1" strike="noStrike" baseline="30000">
                <a:solidFill>
                  <a:srgbClr val="000000"/>
                </a:solidFill>
                <a:latin typeface="Book Antiqua"/>
              </a:rPr>
              <a:t>1</a:t>
            </a:r>
            <a:endParaRPr b="0" lang="en-US" sz="2600" spc="-1" strike="noStrike">
              <a:solidFill>
                <a:srgbClr val="ffffff"/>
              </a:solidFill>
              <a:latin typeface="Book Antiqua"/>
            </a:endParaRPr>
          </a:p>
          <a:p>
            <a:pPr marL="525600" indent="-39456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Rasprostranjenost</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Prema podacima koji su dobijeni zahvaljujući studijama sedam zemalja sveta ( Finaska , Italija , SAD ,Grčka , Japan , Holandija i bivša Jugoslavija ) iz 1958. godine prvo mesto zauzima epidemiologija koronarne bolesti ,gde i pored stalnog praćenja  bolesti ,smrt je bila dosta zastupljena .Praćena je kvalitativna i kvantitativna ishrana i evolucija nekih od faktora rizika kod muškaraca uzrasta od 40 do 59 godina Na početku studije prevalenca koronarne bolesti iznosila je : SAD 46/1000 (95% CI 38-54) , Finska 34/1000 (95% CI25-42) , Italija 11/1000(95%CI7-15) ,Grčka 6/1000 ( 95% CI 1-5) , Holandija 6/1000 (95% CI 1-7) , Japan 3/1000 (95% CI 0-5), Srbija13/1000 (95% CI 7-19) I Hrvatska 4/1000 (95% CI 1-4).Prevalenca je značajno veća u SAD i Finskoj.</a:t>
            </a:r>
            <a:r>
              <a:rPr b="0" lang="en-US" sz="2200" spc="-1" strike="noStrike" baseline="30000">
                <a:solidFill>
                  <a:srgbClr val="000000"/>
                </a:solidFill>
                <a:latin typeface="Book Antiqua"/>
              </a:rPr>
              <a:t>3</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Book Antiqua"/>
              </a:rPr>
              <a:t>Incidenca u ukupnoj populaciji</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U periodu 1974-1999 godine u klinici za kardiovaskularne bolesti Kliničkog centra Niš ukupno je lečeno od ATM 4.344 sa godišnjim prosekom od 167 bolesnika. Prosecna godišnja stopa je iznosila 111,37 obolelih na 100.000 stanovnika starijih od 30 godina. Broj hospitalizovanih i stopa incidence u posmatranom periodu pokazuju permanentnu tedenciju porasta sto se može sagledati iz podataka u tabeli. U periodu 1974-1983 godine prosecna godišnjastopa incidence je iznosila 111,05 na 100.000 stanovnika iznad 30 godina, da bi u perodu 1984-1994. Godine iznosila 158,24 I bila za 42% veća (index 142,5%). U periodu 1995-1999. godine stopa nastavlja da raste I iznosi 186,6 i veća je za 68% (index 168,03%) od prosečne stope za period 1974-1983. godine i za 17,9% od stop za period 1984-1994. godine (grafikon 1).</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Picture 2" descr=""/>
          <p:cNvPicPr/>
          <p:nvPr/>
        </p:nvPicPr>
        <p:blipFill>
          <a:blip r:embed="rId2"/>
          <a:stretch/>
        </p:blipFill>
        <p:spPr>
          <a:xfrm>
            <a:off x="1187280" y="404640"/>
            <a:ext cx="7201080" cy="2808360"/>
          </a:xfrm>
          <a:prstGeom prst="rect">
            <a:avLst/>
          </a:prstGeom>
          <a:ln w="0">
            <a:noFill/>
          </a:ln>
        </p:spPr>
      </p:pic>
      <p:pic>
        <p:nvPicPr>
          <p:cNvPr id="94" name="Picture 3" descr=""/>
          <p:cNvPicPr/>
          <p:nvPr/>
        </p:nvPicPr>
        <p:blipFill>
          <a:blip r:embed="rId3"/>
          <a:stretch/>
        </p:blipFill>
        <p:spPr>
          <a:xfrm>
            <a:off x="1827360" y="3213000"/>
            <a:ext cx="5499000" cy="321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456840" y="1197000"/>
            <a:ext cx="7715160" cy="2160720"/>
          </a:xfrm>
          <a:prstGeom prst="rect">
            <a:avLst/>
          </a:prstGeom>
          <a:noFill/>
          <a:ln w="0">
            <a:noFill/>
          </a:ln>
        </p:spPr>
        <p:txBody>
          <a:bodyPr lIns="90000" rIns="90000" tIns="46800" bIns="46800" anchor="t">
            <a:normAutofit fontScale="95000"/>
          </a:bodyPr>
          <a:p>
            <a:pPr marL="519840" indent="-39024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Book Antiqua"/>
              </a:rPr>
              <a:t> </a:t>
            </a:r>
            <a:r>
              <a:rPr b="1" i="1" lang="en-US" sz="2200" spc="-1" strike="noStrike">
                <a:solidFill>
                  <a:srgbClr val="ffffff"/>
                </a:solidFill>
                <a:latin typeface="Book Antiqua"/>
              </a:rPr>
              <a:t>Stope incidence na gradskom i seoskom područja</a:t>
            </a:r>
            <a:r>
              <a:rPr b="0" lang="en-US" sz="2200" spc="-1" strike="noStrike">
                <a:solidFill>
                  <a:srgbClr val="ffffff"/>
                </a:solidFill>
                <a:latin typeface="Book Antiqua"/>
              </a:rPr>
              <a:t> </a:t>
            </a:r>
            <a:endParaRPr b="0" lang="en-US" sz="2200" spc="-1" strike="noStrike">
              <a:solidFill>
                <a:srgbClr val="ffffff"/>
              </a:solidFill>
              <a:latin typeface="Book Antiqua"/>
            </a:endParaRPr>
          </a:p>
          <a:p>
            <a:pPr marL="519840" indent="-39024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rosečna godišnja stopa za period 1995-1999. godine za populaciju grada Niša iznosila je 254 obolela na 100.000 stanovnika starijih od 30 godina i bila je 11,5 puta veća od iste stope za populaciju sa seskog područja, gde je iznosila 22 obolela na 100.000 stanovnika istog uzrasta</a:t>
            </a:r>
            <a:r>
              <a:rPr b="0" lang="en-US" sz="2200" spc="-1" strike="noStrike" baseline="30000">
                <a:solidFill>
                  <a:srgbClr val="ffffff"/>
                </a:solidFill>
                <a:latin typeface="Book Antiqua"/>
              </a:rPr>
              <a:t>3</a:t>
            </a:r>
            <a:r>
              <a:rPr b="0" lang="en-US" sz="2200" spc="-1" strike="noStrike">
                <a:solidFill>
                  <a:srgbClr val="ffffff"/>
                </a:solidFill>
                <a:latin typeface="Book Antiqua"/>
              </a:rPr>
              <a:t>.</a:t>
            </a:r>
            <a:endParaRPr b="0" lang="en-US" sz="2200" spc="-1" strike="noStrike">
              <a:solidFill>
                <a:srgbClr val="ffffff"/>
              </a:solidFill>
              <a:latin typeface="Book Antiqua"/>
            </a:endParaRPr>
          </a:p>
          <a:p>
            <a:pPr marL="519840" indent="-39024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endParaRPr b="0" lang="en-US" sz="2200" spc="-1" strike="noStrike">
              <a:solidFill>
                <a:srgbClr val="ffffff"/>
              </a:solidFill>
              <a:latin typeface="Book Antiqua"/>
            </a:endParaRPr>
          </a:p>
          <a:p>
            <a:pPr marL="519840" indent="-39024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pic>
        <p:nvPicPr>
          <p:cNvPr id="96" name="Picture 2" descr=""/>
          <p:cNvPicPr/>
          <p:nvPr/>
        </p:nvPicPr>
        <p:blipFill>
          <a:blip r:embed="rId2"/>
          <a:stretch/>
        </p:blipFill>
        <p:spPr>
          <a:xfrm>
            <a:off x="395280" y="3213000"/>
            <a:ext cx="7921800" cy="28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6T03:28:58Z</dcterms:created>
  <dc:creator>SannY</dc:creator>
  <dc:description/>
  <dc:language>en-US</dc:language>
  <cp:lastModifiedBy>parazitologija1n</cp:lastModifiedBy>
  <dcterms:modified xsi:type="dcterms:W3CDTF">2014-05-15T11:42:17Z</dcterms:modified>
  <cp:revision>6</cp:revision>
  <dc:subject/>
  <dc:title>Epidemiološke karakteristike infarkta miokarda</dc:title>
</cp:coreProperties>
</file>