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3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577-37DA-47D8-B325-A526BA0C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6C4-D5B7-43E4-89E5-2FFD246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C29-6D99-42C8-AD15-280F35E5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164-4F89-48FA-96E2-E52685E7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4426D-3D76-4A19-9F80-B7146682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D24AD-6066-46EB-B138-03397CB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FF701-0DC2-4A2A-914A-55472ED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577B-3802-4E6D-A8D1-7809370D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B1B8C-5A3C-42C8-817C-38DD753E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E06CB-3D55-4D40-8F34-268B7DD9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2C9BB-E205-4D2D-B68C-04A56FE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71D-502A-4F43-B2E9-D8DC6486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85653-ABF3-428B-A4AF-4FED8662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6C8F0-55D7-4F46-82F9-3491C24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31F47-72F9-47F0-BDF7-5D2F59BE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CD884-9EEF-42DF-BC4A-D303FF54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F5F13-C880-40E8-A3EE-3F27CDBC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1457-F949-42AF-A48D-E197A40B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A152-76B3-4833-9938-F24E3CB0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B62D-B13D-4E3F-A413-03A5580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4C8B-4EA2-4504-974C-8996877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38B8-A69A-4FD5-AEAB-4CA3CEC4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243-B430-4E5E-96C9-E48C249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2E2E-274A-49C4-B9DC-8B7E5AEB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539D-83D3-4E5A-99B0-703E7C09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DEB5-8182-48B8-BB96-8BE15BF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1180-DBF9-4254-8A9C-68CBDE2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8C06-B00F-4001-9DAB-071AF60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8F4A-3C7D-40CA-BBDD-C819EE19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FFAB-54D2-4B3C-B8FA-49639933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771D1-CA1E-4D6B-8C92-9CDD9728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8D7A2-7BF5-4911-B136-2F9E2F4D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F6A90-0874-4F24-8B26-B20B07F6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470-A34E-4FB7-AC4B-2953044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EAF39-5CE7-4F40-AF1A-8849C0EF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19B2D-00C1-4379-8E3F-EBBDFCC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7773B-EBE7-429A-BB7E-8B4ED83C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8CF0D-3544-46FC-B03B-8A614B9A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49717-B31C-4A9C-9911-AD7DD9E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262B19-CCF1-4AEB-AFFC-9364897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5DB86-ABB7-4C8C-B075-6223828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13F93-0896-4CBF-AABF-AEB7E908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C8E5E7-372F-4DFE-8979-02BE66D6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EB127-176E-47B1-8A32-1007DF77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3A5-EA58-4561-9B22-5B693CD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70D2B-783F-494D-B4E6-DF46E05E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C3B70-A97B-4487-8394-2C4AF7F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A2FD0-2D4D-4FFC-947E-E92B98DC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AB2CB-BFE5-4FB2-823B-AA943E2B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4DE35-BEF3-4FCD-B7FE-21BDC7EA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33C6C-667D-45B9-972F-32D8304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72FD9-48A7-4B64-AA2F-9C30EE1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EBB56-A339-4500-8995-646D0851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F510B-BBA3-44CE-90C4-269B2800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54185-0922-47B0-8119-EA9737FB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854-6A30-4CF6-87EF-77B0EA8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2241D-5A32-46D2-86A9-915C6EF1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72014-D336-4E19-AB05-84BBB5FD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02088-E24F-4B70-9324-235ADCE3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BE569-A7AD-428D-AB65-90010D0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E64E9-0C2E-4076-A319-B98A36EF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B78F3-485A-4409-B302-6DC230C8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85749-A524-45B3-8D76-E6A30B5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8B6E0-8DEF-46C2-A901-DE0BE76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D89D5-5AE3-4154-BD6F-C54DDBC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EB8662-9F6A-4317-868B-8843BF4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183-67CB-4410-9610-6513C18E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0CFB8-8D43-4852-830D-7927631F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DDA27-670C-4853-902C-601955F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58AD6-F70F-45EE-A1E0-7EF41750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C1D-7AA2-4787-81D4-0C6F2E7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5EC-4CE1-4F0E-90C9-2B351514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EDC-4868-4F9D-8A41-E2EB3AA2C0E7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3F4B-10FE-42CF-B2C0-9B2183B71459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C89A-24B0-48D5-9C4A-3F4B57A89AF1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F33-67CA-4075-B926-8278008AB32E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264A-F905-466B-9002-68DBFEF3425E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CBF5-9EC0-42C7-ACD0-A67BED0D746A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3" descr="blue_mal.gif"/>
          <p:cNvPicPr/>
          <p:nvPr/>
        </p:nvPicPr>
        <p:blipFill>
          <a:blip r:embed="rId2"/>
          <a:stretch/>
        </p:blipFill>
        <p:spPr>
          <a:xfrm>
            <a:off x="3019320" y="1527120"/>
            <a:ext cx="2962440" cy="4797360"/>
          </a:xfrm>
          <a:prstGeom prst="rect">
            <a:avLst/>
          </a:prstGeom>
          <a:ln w="0">
            <a:noFill/>
          </a:ln>
        </p:spPr>
      </p:pic>
      <p:pic>
        <p:nvPicPr>
          <p:cNvPr id="253" name="Tit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ontent Placeholder 3" descr="C:\Users\Ana\Desktop\malarija\povoljna-klima-crnu-goru-moze-donijeti-tropske-komarce-a-oni-dengu-malariju-slika-37056.jpg"/>
          <p:cNvPicPr/>
          <p:nvPr/>
        </p:nvPicPr>
        <p:blipFill>
          <a:blip r:embed="rId2"/>
          <a:stretch/>
        </p:blipFill>
        <p:spPr>
          <a:xfrm>
            <a:off x="83808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aćeno je sledećim kliničkim simptomi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padi jeze i drhtanja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nojenje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avobolja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soka temperatura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pšta slabos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Title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le pada temperature simptomi se ponovo javljaju na svakih 1-3 dana, zavisno od vrste malarije. Infekcija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Pl. vivax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ova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malaria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je benigna po toku i prognoz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kše oblike bolesti može pratiti pojava anemije i žut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ži oblici bolesti, koje najčešće izaziva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P. falciparu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mogu se komplikovati pojavom epileptičnih napada, mentalne konfuzije, respiratornim distresom, otkazivanjem rada bubrega i jetre, edemom pluća i u najtežim slučajevima komom i smrtnim ishodo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gući su recidivi infekcije čak i kod lečenih osob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linička slika je teža i praćena komplikacijama kod dece mlađe od 5 godinai i kod trudnic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žina inkubacije zavisi od vrste parazita, tipa plazmodijuma, količine dospelih parazita, načina dospevanja uzročnika kao i od imuniteta. Period inkubacije se kreće od oko 8-10 dana a može biti i od  8-14 meseci. Na kraju inkubacionog perioda dolazi do pojave  simptoma: povišene temperature do 3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, ne-raspoloženje, glavobolja, bolovi u mišićima, krstima i dr. Nakon toga sledi malarični napad koji se sastoji od tri faze: osećaj hladnoće-drhtavice, osećaj toplote i znojenj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a bolest može da ošteti nervni sistem, bubrege i jet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Title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Users\Korisnik\Desktop\malarija\malaria_lifecycle.jpg"/>
          <p:cNvPicPr/>
          <p:nvPr/>
        </p:nvPicPr>
        <p:blipFill>
          <a:blip r:embed="rId2"/>
          <a:stretch/>
        </p:blipFill>
        <p:spPr>
          <a:xfrm>
            <a:off x="1066680" y="76212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0880" y="3049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MALARIJA U SVETU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ja je jos uvek najrasprostranjenije infektivno oboljenje u svetu, od koga svake godine  oboli preko 300 miliona ljudi, a preko milion ljudi umre od malarij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ada u najozbiljnije tropske bolesti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sprostranjena je na 3 kontinenta – Afrika, Azija i Latinska Amerik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stinacije na kojima turisti moraju posebno da vode računa pre svega su zemlje Afrike, južne Amerike, Azije i na Karipskim ostrvim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eba imati potpunu informaciju o zemlji u koju se ide, kao i o eventualnim opasnim bolestima kojima se može izložiti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 svemu tome poželjno je konsultovati se s lekarom, bar  tri nedelje pre putovanja, kako bi se saznalo da li treba preduzeti dodatne mere oprez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ja se endemski javlja u više od 100 zemalja koje godišnje poseti preko 125 miliona turista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 poslednje tri godine obezbedjene su mreže protiv komaraca tretirane insekticidima za zaštitu 578 miliona ljudi u Posaharskoj Africi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Još 75 miliona ljudi je bilo zaštićeno prskanjem unutrašnjosti objekata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ko 42 % afričkih domaćinstava raspolaže bar jednom zaštitnom mrežom protiv komaraca, tretiranom insekticidima. Njihov broj je još uvek nedovoljan u nekim od većih afričkih zemalja, kao što su Nigerija i Demokratska Republika Kong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ova vakcina obećava, rezultati su izuzetni koju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iprema kompanija "Glakso Smit Klajn"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ma SZO malarija je bila zastupljena u Jermeniji tokom 1950-ih, ali se verovalo da je do 1963. bolest iskorenjena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 Keniji malarija je bila zastupljena izmedju 1972 i 1979 god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dine 1980. je bila zastupljena u Aziji, Burmi, Maleziji, Demokratskoj Republici, Kampuciji, Vijetnamu, Tajlandu I na Filipinima. Kasnije u Indoneziji, Kini, Bangladesu I Indij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lest se pojavila 1990-ih, ali je tada kroz kontrolu i bolju dijagnostiku iskorenje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Content Placeholder 3" descr="Prisustvo malarije na istočnoj hemisferi"/>
          <p:cNvPicPr/>
          <p:nvPr/>
        </p:nvPicPr>
        <p:blipFill>
          <a:blip r:embed="rId2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Šta je malarija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Malarija (lat. loš vazduh) je zarazna bolest čiji su uzročnici 4 vrste parazita iz roda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Plasmodium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falciparum, vivax, malariae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ovale)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Pl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falciparum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zaziva najtežu formu bolesti (tropska malarija), koja ozbiljno ugrožava život ukoliko se blagovremeno ne prepozna i ne leči. Uzročnik tropske malarije otporan je na lek hlorokin. Ostali oblici malarije imaju blažu kliničku sliku i bolju prognozu. Najozbiljnija, falciparum malarija može da se javi u različitim kliničkim oblicima praćenim febrilnošću, groznicom, znojenjem, kašljem, prolivom, respiratornim distresom, glavoboljom, a mogu da progrediraju u žuticu, poremećaje koagulacije, šok, insuficijenciju bubrega i jetre, akutnu encefalopatiju, edem pluća, mozga, komu i smrt. 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2"/>
          <a:stretch/>
        </p:blipFill>
        <p:spPr>
          <a:xfrm>
            <a:off x="450720" y="512640"/>
            <a:ext cx="8242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noge države prijavljuju kako su od 2000. prepolovile broj i obolelih i umrlih od malarije 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d 2007. Maroko, Turkmenistan i Ujedinjeni arapski emirati dobili su sertifikate "zemalja bez malarije"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Content Placeholder 3" descr="C:\Users\Ana\Desktop\malaria u svetuuu.png"/>
          <p:cNvPicPr/>
          <p:nvPr/>
        </p:nvPicPr>
        <p:blipFill>
          <a:blip r:embed="rId2"/>
          <a:stretch/>
        </p:blipFill>
        <p:spPr>
          <a:xfrm>
            <a:off x="53352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U 2009, prvi put nije zabeležen ni jedan slučaj malarije u evropskoj regiji iako se procenjuje da je u svetu 2009. od te bolesti umrlo 781.000 ljudi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Eksperti za javno zdravlje objavili su dva velika proboja na polju istraživanja i iskorenjivanja malarije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Title 2" descr=""/>
          <p:cNvPicPr/>
          <p:nvPr/>
        </p:nvPicPr>
        <p:blipFill>
          <a:blip r:embed="rId2"/>
          <a:stretch/>
        </p:blipFill>
        <p:spPr>
          <a:xfrm>
            <a:off x="530280" y="328680"/>
            <a:ext cx="8315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vetska zdravstvena organizacija SZO proglasila je Jermeniju za „zemlju bez malarije“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rmenija zemlja bez malarije" rekla je Margaret Čan, direktorka Svetske zdravstvene organizacij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se dešava kad zemlja ima odličan sistem kontrole i kapacitete da reaguje, sposobna je i da prepozna svaki uvezeni slučaj i osigura da ne dođe do prenošenja i zaraz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cedure SZO za proglašavanje neke države za "zemlju bez malarije", napuštene još 1980-ih, a uvedene su 2004. ponovo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ZO je saopštila da je broj zaraženih malarijom u prošloj dekadi opao za 20 %, dodajući da je zabeleženo 225 miliona slučajeva malarije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6" name="Content Placeholder 3" descr="Malariju prenose komarci"/>
          <p:cNvPicPr/>
          <p:nvPr/>
        </p:nvPicPr>
        <p:blipFill>
          <a:blip r:embed="rId3"/>
          <a:stretch/>
        </p:blipFill>
        <p:spPr>
          <a:xfrm>
            <a:off x="1828800" y="1676520"/>
            <a:ext cx="5334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2" descr=""/>
          <p:cNvPicPr/>
          <p:nvPr/>
        </p:nvPicPr>
        <p:blipFill>
          <a:blip r:embed="rId2"/>
          <a:stretch/>
        </p:blipFill>
        <p:spPr>
          <a:xfrm>
            <a:off x="426960" y="255600"/>
            <a:ext cx="8369280" cy="1731960"/>
          </a:xfrm>
          <a:prstGeom prst="rect">
            <a:avLst/>
          </a:prstGeom>
          <a:ln w="0">
            <a:noFill/>
          </a:ln>
        </p:spPr>
      </p:pic>
      <p:pic>
        <p:nvPicPr>
          <p:cNvPr id="288" name="Content Placeholder 3" descr="malarija"/>
          <p:cNvPicPr/>
          <p:nvPr/>
        </p:nvPicPr>
        <p:blipFill>
          <a:blip r:embed="rId3"/>
          <a:stretch/>
        </p:blipFill>
        <p:spPr>
          <a:xfrm>
            <a:off x="838080" y="1905120"/>
            <a:ext cx="762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Users\Korisnik\Desktop\malarija\MalariaMap.gif"/>
          <p:cNvPicPr/>
          <p:nvPr/>
        </p:nvPicPr>
        <p:blipFill>
          <a:blip r:embed="rId2"/>
          <a:stretch/>
        </p:blipFill>
        <p:spPr>
          <a:xfrm>
            <a:off x="1066680" y="838080"/>
            <a:ext cx="693432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Zarazne bolesti su oduvek bili neizbežni pratilac ratova, a ljudski gubici od zaraznih bolesti u ratovima bili su veci od borbenih gubitaka visestruko. Mnoge zarazne bolesti postaju masovne I opake u ratu ( malarija, pegavac, dizinterija, virusni hepatitis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Title 2" descr=""/>
          <p:cNvPicPr/>
          <p:nvPr/>
        </p:nvPicPr>
        <p:blipFill>
          <a:blip r:embed="rId2"/>
          <a:stretch/>
        </p:blipFill>
        <p:spPr>
          <a:xfrm>
            <a:off x="347760" y="225360"/>
            <a:ext cx="84247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Content Placeholder 3" descr="http://www.kurir-info.rs/static/imgs/article_thumbs/632x474/uploads/2010-07/11612.jpg"/>
          <p:cNvPicPr/>
          <p:nvPr/>
        </p:nvPicPr>
        <p:blipFill>
          <a:blip r:embed="rId2"/>
          <a:stretch/>
        </p:blipFill>
        <p:spPr>
          <a:xfrm>
            <a:off x="60948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C:\Users\Ana\Desktop\malarija\tropski-komarac-498.jpg"/>
          <p:cNvPicPr/>
          <p:nvPr/>
        </p:nvPicPr>
        <p:blipFill>
          <a:blip r:embed="rId2"/>
          <a:stretch/>
        </p:blipFill>
        <p:spPr>
          <a:xfrm>
            <a:off x="685800" y="609480"/>
            <a:ext cx="7848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OGRAD - Srbija je na udaru malaričnih komaraca!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bični, “domaći” komarci, koji nam u letnjim danaima zagorčavaju život, jesu prave male krvopije i napasti, ali njihovi bliski rođaci iz roda anopheles, poznati i kao malarični komarci, mnogo su opasniji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i insekti koji ubiju tri miliona ljudi godišnje u svetu, namnožili su se i u Srbiji, pogotovo na severu zemlje, u okolini Subotice i Palić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ako do sada u Crnoj Gori nisu registrovane          denga-groznica Zapadnog Nila i malarija – zarazne bolesti koje prenose komarci, s obzirom na epidemiološku situaciju u zemljama iz okruženja i u Evropi, one bi se mogle očekivati i kod nas, upozoravaju iz Instituta za javno zdravlj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 obzirom na to da je denga groznica prošle godine registrovana u susednoj Hrvatskoj, a groznica Zapadnog Nila u velikom broju evropskih država, postoji rizik od pojave i širenja tih bolesti kod nas, a tome pogoduju i ovdašnji klimatski uslovi, visoke temperature i izražena vlažno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Title 2" descr=""/>
          <p:cNvPicPr/>
          <p:nvPr/>
        </p:nvPicPr>
        <p:blipFill>
          <a:blip r:embed="rId2"/>
          <a:stretch/>
        </p:blipFill>
        <p:spPr>
          <a:xfrm>
            <a:off x="487440" y="401760"/>
            <a:ext cx="81867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tičući da su u Crnoj Gori u proteklih deset godina registrovane bolesti - lajšmanioza koju prenose komarci, u narodu poznatiji kao nevidi i lajmska bolest koja se može zaraditi od ujeda krpelja, dr Beatović smatra da postoji rizik i od ponovne pojave malarije, koja je kod nas iskorijenjena 1964. god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z to je na našem području registrovano intenzivno širenje azijskog, tigrastog komaraca, koji prenosi ta oboljenj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je od prošle godine postala preteća zarazna bolest u Evropi u Grčkoj, Turskoj, Izraelu, Rumuniji, Italiji. zemljama u kojima naši građani često turistički borav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"Denga groznicu koja je prvi put registrovana prije četiri godine u Hrvatskoj prenosi tigrasti azijski komarac, koji se nastanio duž cijele Jadranske obale", objasnio je doktor Instituta Nebojša Sekuli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grasti se komarac od običnog razlikuje po tome što napada i danju, a ne samo noć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bog nestručnog zaprašivanja preti najezda azijskih tigrastih komaraca, prenosilaca brojnih zaraznih bolesti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grasti komarac nastanjen na primorju, okolini Skadarskog jezera, Podgorici i u Bjelopavlićima, u blizini reke Ze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učnjaci upozoravaju građane da se protiv komaraca i opasnosti koje nose može izboriti i rešavanjem problema kanala, bara, bazena za kupanje, septičkih jama, šahtova, podnožja liftova, poplavljenih podruma, posebno starih i odbačenih automobilskih guma, te posuda sa ustalom vodo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C:\Users\Korisnik\Desktop\malarija\files.php.gif"/>
          <p:cNvPicPr/>
          <p:nvPr/>
        </p:nvPicPr>
        <p:blipFill>
          <a:blip r:embed="rId2"/>
          <a:stretch/>
        </p:blipFill>
        <p:spPr>
          <a:xfrm>
            <a:off x="1143000" y="8380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Zaprašivanje komaraca ove godine počeće 1. i trajaće do 10. juna, dok je u toku larvicini proces, odnosno direktno uništavanje larvi komaraca - saopštili su iz Službe za dezinfekciju, dezinsekciju i deratizaciju Instituta za javno zdravlj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Title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C:\Users\Korisnik\Desktop\malarija\oth_trend-conf-malaria-bang-70-09.gif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C:\Users\Korisnik\Desktop\malarija\malaria_lifecycle.jpg"/>
          <p:cNvPicPr/>
          <p:nvPr/>
        </p:nvPicPr>
        <p:blipFill>
          <a:blip r:embed="rId2"/>
          <a:stretch/>
        </p:blipFill>
        <p:spPr>
          <a:xfrm>
            <a:off x="838080" y="525600"/>
            <a:ext cx="754380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vet bi mogao da iskoreni umiranje od malarije do 2015. godine, ukoliko bi se znatna sredstva uložila u mere kontrole, uključujući širu primenu mreža protiv komaraca tretiranih insekticidima, poručila je Svetska zdravstvena organizacija (SZO) u izveštaju o ovoj bolesti za 2010. godin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8380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Malarija je najrasprostranjenija vektorska bolest (60° severne i 32° južne geografske širine, ispod 900 m nadmorske visine). Javlja se endemski u više od 100 zemalja. Procenjuje se da godišnje u svetu od malarije umre više od milion ljudi od kojih većinu čine deca u Africi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odručja visoke transmisije malarije su tropska Afrika, jugozapadni Pacifik, obrubi šuma u Južnoj Americi (npr. Brazil), Jugoistočna Azija, Supsaharska Afrika i delovi Indijskog podkontinenta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Korisnik\Desktop\malarija\gething_malaria.JPG"/>
          <p:cNvPicPr/>
          <p:nvPr/>
        </p:nvPicPr>
        <p:blipFill>
          <a:blip r:embed="rId2"/>
          <a:stretch/>
        </p:blipFill>
        <p:spPr>
          <a:xfrm>
            <a:off x="1295280" y="457200"/>
            <a:ext cx="65534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ja se prenosi ubodom zaražene ženke komarca iz roda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nophel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Ženka komarca biva inficirana sisanjem krvi zaražene osobe i uzročnike malarije prenosi na drugu osetljivu osobu tokom hranjenja, koje se odvija uglavnom noću. Bolest se može preneti i putem krvi parazitonoše prilikom transfuzije, transplantacije tkiva i organa, razmenom zagađenih igala i špriceva I, veoma retko, vertikalno, s majke na det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zervoar infekcije je čovek, kao bolesnik i kao parazitonoš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Title 2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Korisnik\Desktop\malarija\MAL_homeMissionStatement1.jpg"/>
          <p:cNvPicPr/>
          <p:nvPr/>
        </p:nvPicPr>
        <p:blipFill>
          <a:blip r:embed="rId2"/>
          <a:stretch/>
        </p:blipFill>
        <p:spPr>
          <a:xfrm>
            <a:off x="533520" y="7621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Content Placeholder 3" descr="beba i moskito.jpg"/>
          <p:cNvPicPr/>
          <p:nvPr/>
        </p:nvPicPr>
        <p:blipFill>
          <a:blip r:embed="rId2"/>
          <a:stretch/>
        </p:blipFill>
        <p:spPr>
          <a:xfrm>
            <a:off x="762120" y="380880"/>
            <a:ext cx="7696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Oni koji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maju simptome malarije treba da se obrate lekaru u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najkraćem mogućem roku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ikroskopijom se mogu odrediti vrsta i broj parazita malarije, što je neophodno za izbor odgovarajuće terapije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toje i razni imunološki testovi za otkrivanje antigena uzročnika malarije (brzi testovi koji daju rezultate za 2-15 minuta), kao i PCR tehnika za detekciju nukleinske kiseline (DNK) parazi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 podsaharskoj Africi, stopa lažno pozitivnih testova na malariju može biti veoma visoka. Putnike koji odlaze u ovo područe treba upozoriti da im dijagnoza malarije može biti pogrešno postavljena, iako su primenjivali antimalarijski prevetivni režim. U takvim slučajevima, akutno oboleli putnici treba da potraže najbolji dostupan medicinski tretman, ali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ne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reba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da prekidaju započetu profilaksu lekovim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5708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21:57:59Z</dcterms:created>
  <dc:creator>Korisnik</dc:creator>
  <dc:description/>
  <dc:language>en-US</dc:language>
  <cp:lastModifiedBy>Dr Milan Visnjic</cp:lastModifiedBy>
  <dcterms:modified xsi:type="dcterms:W3CDTF">2011-12-01T13:22:59Z</dcterms:modified>
  <cp:revision>54</cp:revision>
  <dc:subject/>
  <dc:title>MALARIJA STARA BOLEST - NOVI IZAZOVI</dc:title>
</cp:coreProperties>
</file>