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media/image10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24BB-F484-4E8D-8D0B-BA8738A0F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61AF-D791-446A-BAB8-AF3E6D0FB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FAE947-3D03-4B2F-978B-8B95B08D2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211A96-E02B-4952-AA7A-E4531FA28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73BBF4-66C2-4DAC-ACB3-45E85F365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464FC6-43AB-4E17-86E7-340AB342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455CB9-E5AA-4104-A731-751885865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C46C2A-7437-4D56-B02E-B1AEB6052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30E014-739D-48BD-A828-125D52CB3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AA88A5-B290-405E-881A-40D999662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2E4495-28CC-4B33-8E45-07FF08AB0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0486-DD49-479D-8734-E988B46E9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28FF-7571-4D31-9075-D066AF9F0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F64A3-A5EC-417E-9EDA-A3440B667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A4772-C32A-431F-8ABF-696AD29D0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19DC5-A471-4A09-8AE2-B180A0F07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EF790-54EF-4BC7-8EA1-082EC0E9D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BA830-28DB-4DFD-ADD4-D21B13EA9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8773F-1162-4CBA-8EF3-D8461D029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A9E39-2DE1-43D3-B618-F925C51B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F798-5199-4F52-89AD-520BA13B8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27AC2-D71D-419C-BB06-9E5435D1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7802B-2B32-4232-B769-4DC97F6C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07756-B740-41DC-9505-02649E25D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DACFF-1ABC-4B2D-8089-BC98515F9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DAD69-F2AD-45A9-9588-A79B626A3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EA3CD-64E0-4AFD-BAF2-2E539C7A9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949F0-3457-4D5E-9B42-0C34E5328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528EC-B715-4C11-8125-95349E3C7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B2098-69F6-46F1-94F5-FB1938EF4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A0BCD-87D5-4B67-BFFB-D7C5CC82A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9B49-D80A-49E2-874C-D6F3731B8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ED347-2024-4FB0-BFC0-7FDAF902E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92777-54C9-4172-994D-D66B774D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8A20C-EECC-46DF-9AB0-29D89F821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E1334-E32C-4A13-8045-43B293BC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557E7-99C1-4984-9AF4-49520C675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FBAB4-6230-43BA-B5A4-93ABD78B9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92514-3E2A-4645-90E2-8A039E45E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8806F-94A7-496A-B467-0BE861A45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6CB54-9C43-4443-BFE6-1A65E756B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3FF6D-D725-4498-B461-47E86A0F1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EA80-7C28-4A54-8CA8-ED151C200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CB6D5-9DC7-4C18-A9FF-EB0C23912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B4A85-1470-4435-B802-F64FB3987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77C3B-0F18-4ADE-A6F7-37BAF316F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4E3A6-F791-461F-A067-D742841F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4D825-B1FA-420E-A88F-064AC8AF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E8A08-68DC-4E59-A1C9-8B3EF93A0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2498E-598D-448C-A9B8-107CBD4FB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BBF48-6B1E-4096-A319-8A601121E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E4DA3-67F4-4897-9B30-C8E0B40C9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220936-63CA-4504-BD70-EE48536A9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5CE4-E055-4BAC-8E8B-954780DBC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CE1804-A5B7-42D4-B34B-855A95A81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65624-BA10-49E4-9D21-1FFCF2613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E326CF-0758-404D-AA97-7B40EC764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C4A793-C91A-490B-BA6E-DA41C7BA9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0852E-D678-45AE-8560-F55ED2617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E98F7-8066-4055-9BF7-18D4BC87C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3A9E6-4453-4D52-9FAC-AC62DD099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7D5B6-D8FE-4D4A-B3F2-5BA9815B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9FA27-F1F1-44C6-8FC4-DB764994A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DA0FF-DA99-4B7B-B07D-E32E55E38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CC44-79DB-4400-82E3-C5C2B92B9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44CDEA-3D91-4911-805B-131DA0DB2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CDF709-DF82-4FE1-9CCB-469140DA3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478B93-95A3-40E7-930C-03086EA5A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A1995D-7F0A-47BB-BFC1-827C217F2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AC0C00-3E8B-4D21-A139-DBC73F8FC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8BF41F-E401-4F27-91EF-0923E3CE2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28AF65-1DE6-409A-B0DA-97ABB02C3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CBF066-D8AE-4E0B-8940-EBC0B5D3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0CF1D7-0DC9-4EB7-B4E9-98D1C2D4C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2874DA-4189-428D-87E9-3913C5D4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7A56-2DA1-4DD8-B844-F0B04494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50A916-0022-46AE-8E50-6D10D3406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B192C4-1C8A-4FB6-AD97-FF806AFC8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3DAF10-0AD1-4FCC-ABBB-B84D4DB39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643015-9AFF-49AC-A367-4FDA178C8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0C0B11-8C66-4EFF-8A9A-9136CBAE6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9DD9F8-53F2-4064-B228-E429C26FC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9FD2BE-4261-406D-A6E5-3921FDB35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DE760B-6C4C-4247-9ECA-A4C83F298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EECF1A-8FEC-4A29-B205-A203A8EDE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362E9B-B21F-494F-ABFE-0A57484E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1680-EC3B-4C47-B56F-0F53AE28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E31924-7F5C-463F-A8E1-536077A2F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58F12A-68F4-4FEA-91F2-A22E20623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06E5BC-1CF6-409E-A451-F385AC6AA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9D41D3-5759-4CD6-9133-4ECE07763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D3430C-CC42-41F7-8ACB-27C228251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350591-C6B6-40CA-B139-2BE0BF354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7875AF-5EBE-4BEC-A389-B8DBA8443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611993-1BB6-4FE1-835A-51F591419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6F4DE2-996D-4703-BC49-F3B0E3DBD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B43D46-1920-4893-92A4-9BB39C792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D348-3CC3-4F7D-97E4-348E37895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8D3923-586F-4A9C-A24E-E376ACD1A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54F4AD-7319-46FE-8F46-2C5AB52E3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2BAD5F-C861-4469-BE3C-02B430DB1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DACAE3-927D-4824-8FE5-A6B95C8B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B7308E-4206-4FB7-81FB-D9851AF38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42C5E9-2CD4-415F-9612-BA7556A51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59C1B7-6546-4F60-B052-5305B26E2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2B4916-E58F-4EF8-8966-8AC1BC6E2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9B5CA7-DBD4-4978-89DC-04B0983EB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DD45C4-9F7C-4726-AAC5-BC9F26D83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CD3C7-7A67-4C7E-85DF-8B3D97A91D0B}" type="slidenum"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4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B99F9-9B0B-46D7-9CD4-3193E7631A8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C8B36-41D9-44B7-B57B-3004BCA8BCA4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3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138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F5417-6B23-40B2-B3DB-69F904E8908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85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B7BC3-EF4F-499D-BEDE-235FD36327E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39660-C893-4D27-A0AD-7A8EDE8C9AB7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50756-F366-40DE-B034-87CD509FE34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5A32F-6481-4528-837C-6CC194E572D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355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75689-CC8C-4A55-AFEB-098BF75E510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300" spc="-1" strike="noStrike">
                <a:solidFill>
                  <a:srgbClr val="4f271c"/>
                </a:solidFill>
                <a:latin typeface="Gill Sans MT"/>
              </a:rPr>
              <a:t>Epidemiološke karakteristike hepatitisa C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01" name="Picture 1" descr="C:\Users\Korisnik\Desktop\hepatitis-c.jpg"/>
          <p:cNvPicPr/>
          <p:nvPr/>
        </p:nvPicPr>
        <p:blipFill>
          <a:blip r:embed="rId2"/>
          <a:stretch/>
        </p:blipFill>
        <p:spPr>
          <a:xfrm>
            <a:off x="1295280" y="1771560"/>
            <a:ext cx="3372120" cy="50864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271c"/>
                </a:solidFill>
                <a:latin typeface="Gill Sans MT"/>
              </a:rPr>
              <a:t>Tabela 3, Broj obolelih i incidencija hepatitisa C u Srbiji 2007-2011. godine</a:t>
            </a:r>
            <a:br>
              <a:rPr sz="2000"/>
            </a:br>
            <a:endParaRPr b="0" lang="en-US" sz="20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422" name=""/>
          <p:cNvGraphicFramePr/>
          <p:nvPr/>
        </p:nvGraphicFramePr>
        <p:xfrm>
          <a:off x="457200" y="1371600"/>
          <a:ext cx="8229600" cy="4572000"/>
        </p:xfrm>
        <a:graphic>
          <a:graphicData uri="http://schemas.openxmlformats.org/drawingml/2006/table">
            <a:tbl>
              <a:tblPr/>
              <a:tblGrid>
                <a:gridCol w="1166760"/>
                <a:gridCol w="1282680"/>
                <a:gridCol w="1157400"/>
                <a:gridCol w="1155600"/>
                <a:gridCol w="1155600"/>
                <a:gridCol w="1155960"/>
                <a:gridCol w="1155600"/>
              </a:tblGrid>
              <a:tr h="439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l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7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patitis acuta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ole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idencija/1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6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patitis viralis chronica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ole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idencija/1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7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kup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ole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idencija/1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271c"/>
                </a:solidFill>
                <a:latin typeface="Gill Sans MT"/>
              </a:rPr>
              <a:t>Tabela 4, Broj obolelih od hepatitisa C u Srbiji u 2011. godini po starosnim grupama</a:t>
            </a:r>
            <a:br>
              <a:rPr sz="2000"/>
            </a:br>
            <a:endParaRPr b="0" lang="en-US" sz="20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914400" y="1219320"/>
          <a:ext cx="8229600" cy="5333760"/>
        </p:xfrm>
        <a:graphic>
          <a:graphicData uri="http://schemas.openxmlformats.org/drawingml/2006/table">
            <a:tbl>
              <a:tblPr/>
              <a:tblGrid>
                <a:gridCol w="1546200"/>
                <a:gridCol w="1376280"/>
                <a:gridCol w="1817640"/>
                <a:gridCol w="1671840"/>
                <a:gridCol w="1817640"/>
              </a:tblGrid>
              <a:tr h="1047600"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NewRoman"/>
                          <a:ea typeface="Times New Roman"/>
                        </a:rPr>
                        <a:t>Uzrasne gru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NewRoman"/>
                          <a:ea typeface="Times New Roman"/>
                        </a:rPr>
                        <a:t>Hepatitis virosa acuta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NewRoman"/>
                          <a:ea typeface="Times New Roman"/>
                        </a:rPr>
                        <a:t>Hepatitis virosa chronica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2560"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NewRoman"/>
                          <a:ea typeface="Times New Roman"/>
                        </a:rPr>
                        <a:t>Obole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NewRoman"/>
                          <a:ea typeface="Times New Roman"/>
                        </a:rPr>
                        <a:t>Incidencija/1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NewRoman"/>
                          <a:ea typeface="Times New Roman"/>
                        </a:rPr>
                        <a:t>Obole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NewRoman"/>
                          <a:ea typeface="Times New Roman"/>
                        </a:rPr>
                        <a:t>Incidencija/1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NewRoman"/>
                          <a:ea typeface="Times New Roman"/>
                        </a:rPr>
                        <a:t>0-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New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NewRoman"/>
                          <a:ea typeface="Times New Roman"/>
                        </a:rPr>
                        <a:t>0,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New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NewRoman"/>
                          <a:ea typeface="Times New Roman"/>
                        </a:rPr>
                        <a:t>0,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NewRoman"/>
                          <a:ea typeface="Times New Roman"/>
                        </a:rPr>
                        <a:t>15-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New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NewRoman"/>
                          <a:ea typeface="Times New Roman"/>
                        </a:rPr>
                        <a:t>0,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New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NewRoman"/>
                          <a:ea typeface="Times New Roman"/>
                        </a:rPr>
                        <a:t>0,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NewRoman"/>
                          <a:ea typeface="Times New Roman"/>
                        </a:rPr>
                        <a:t>20-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NewRoman"/>
                          <a:ea typeface="Times New Roman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NewRoman"/>
                          <a:ea typeface="Times New Roman"/>
                        </a:rPr>
                        <a:t>3,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NewRoman"/>
                          <a:ea typeface="Times New Roman"/>
                        </a:rPr>
                        <a:t>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NewRoman"/>
                          <a:ea typeface="Times New Roman"/>
                        </a:rPr>
                        <a:t>11,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NewRoman"/>
                          <a:ea typeface="Times New Roman"/>
                        </a:rPr>
                        <a:t>30-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NewRoman"/>
                          <a:ea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NewRoman"/>
                          <a:ea typeface="Times New Roman"/>
                        </a:rPr>
                        <a:t>2,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NewRoman"/>
                          <a:ea typeface="Times New Roman"/>
                        </a:rPr>
                        <a:t>1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NewRoman"/>
                          <a:ea typeface="Times New Roman"/>
                        </a:rPr>
                        <a:t>15,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NewRoman"/>
                          <a:ea typeface="Times New Roman"/>
                        </a:rPr>
                        <a:t>40-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New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NewRoman"/>
                          <a:ea typeface="Times New Roman"/>
                        </a:rPr>
                        <a:t>0,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NewRoman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NewRoman"/>
                          <a:ea typeface="Times New Roman"/>
                        </a:rPr>
                        <a:t>4,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920"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NewRoman"/>
                          <a:ea typeface="Times New Roman"/>
                        </a:rPr>
                        <a:t>50 i viš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NewRoman"/>
                          <a:ea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NewRoman"/>
                          <a:ea typeface="Times New Roman"/>
                        </a:rPr>
                        <a:t>1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NewRoman"/>
                          <a:ea typeface="Times New Roman"/>
                        </a:rPr>
                        <a:t>1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NewRoman"/>
                          <a:ea typeface="Times New Roman"/>
                        </a:rPr>
                        <a:t>4,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NewRoman"/>
                          <a:ea typeface="Times New Roman"/>
                        </a:rPr>
                        <a:t>Ukup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NewRoman"/>
                          <a:ea typeface="Times New Roman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NewRoman"/>
                          <a:ea typeface="Times New Roman"/>
                        </a:rPr>
                        <a:t>1,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NewRoman"/>
                          <a:ea typeface="Times New Roman"/>
                        </a:rPr>
                        <a:t>4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NewRoman"/>
                          <a:ea typeface="Times New Roman"/>
                        </a:rPr>
                        <a:t>5,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271c"/>
                </a:solidFill>
                <a:latin typeface="Gill Sans MT"/>
              </a:rPr>
              <a:t>Tabela 5, Broj umrlih i mortalitet kod obolelih od hepatitisa C u Srbiji, 2011. </a:t>
            </a:r>
            <a:br>
              <a:rPr sz="2000"/>
            </a:br>
            <a:endParaRPr b="0" lang="en-US" sz="20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426" name=""/>
          <p:cNvGraphicFramePr/>
          <p:nvPr/>
        </p:nvGraphicFramePr>
        <p:xfrm>
          <a:off x="0" y="1600200"/>
          <a:ext cx="9144000" cy="3855960"/>
        </p:xfrm>
        <a:graphic>
          <a:graphicData uri="http://schemas.openxmlformats.org/drawingml/2006/table">
            <a:tbl>
              <a:tblPr/>
              <a:tblGrid>
                <a:gridCol w="1184400"/>
                <a:gridCol w="1195200"/>
                <a:gridCol w="1184400"/>
                <a:gridCol w="1182600"/>
                <a:gridCol w="1184400"/>
                <a:gridCol w="1292040"/>
                <a:gridCol w="1920960"/>
              </a:tblGrid>
              <a:tr h="351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l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2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patitis acuta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mr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rtalitet/10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2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patitis viralis chronica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mr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rtalitet/10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2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kup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mr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rtalitet/10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271c"/>
                </a:solidFill>
                <a:latin typeface="Gill Sans MT"/>
              </a:rPr>
              <a:t>Tabela 6, Broj prijavljenih slučajeva nosilaštva HCV u Srbiji, 2011.</a:t>
            </a:r>
            <a:br>
              <a:rPr sz="2000"/>
            </a:br>
            <a:endParaRPr b="0" lang="en-US" sz="20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152280" y="1219320"/>
          <a:ext cx="8763120" cy="2117520"/>
        </p:xfrm>
        <a:graphic>
          <a:graphicData uri="http://schemas.openxmlformats.org/drawingml/2006/table">
            <a:tbl>
              <a:tblPr/>
              <a:tblGrid>
                <a:gridCol w="1295640"/>
                <a:gridCol w="1752480"/>
                <a:gridCol w="915840"/>
                <a:gridCol w="1200240"/>
                <a:gridCol w="1200240"/>
                <a:gridCol w="1198440"/>
                <a:gridCol w="1200240"/>
              </a:tblGrid>
              <a:tr h="1415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silašt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ti-HCV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oj nosila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opa/10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29" name="Picture 2" descr="C:\Users\Korisnik\Desktop\hepatitis_c_awareness_ribbon_pin_button-p145869074351093399en88u_400.jpg"/>
          <p:cNvPicPr/>
          <p:nvPr/>
        </p:nvPicPr>
        <p:blipFill>
          <a:blip r:embed="rId2"/>
          <a:stretch/>
        </p:blipFill>
        <p:spPr>
          <a:xfrm>
            <a:off x="2819520" y="3522600"/>
            <a:ext cx="3335040" cy="33354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300" spc="-1" strike="noStrike">
                <a:solidFill>
                  <a:srgbClr val="572314"/>
                </a:solidFill>
                <a:latin typeface="Gill Sans MT"/>
              </a:rPr>
              <a:t>Suzbijanje HCV-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914040" y="15235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rijavljivanje oboljenja- smrti od hepatitisa C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pidemiološko ispitivanj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ezinfekcija prostora u kome je boravilo obolelo lice, izlučevina bolesnika, kao i predmeta kontaminisanih krvlju, salivom ili semenom tečnošću bolesnik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zolacija obolelog u stanu, preporučuje se izolacija, ali ne iz epidemioloških razlog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7524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300" spc="-1" strike="noStrike">
                <a:solidFill>
                  <a:srgbClr val="572314"/>
                </a:solidFill>
                <a:latin typeface="Gill Sans MT"/>
              </a:rPr>
              <a:t>Hvala na pažnji!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33" name="Picture 2" descr="C:\Users\Korisnik\Desktop\Hepatitis C.jpg"/>
          <p:cNvPicPr/>
          <p:nvPr/>
        </p:nvPicPr>
        <p:blipFill>
          <a:blip r:embed="rId2"/>
          <a:stretch/>
        </p:blipFill>
        <p:spPr>
          <a:xfrm>
            <a:off x="2209680" y="2057400"/>
            <a:ext cx="4724640" cy="45543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300" spc="-1" strike="noStrike">
                <a:solidFill>
                  <a:srgbClr val="572314"/>
                </a:solidFill>
                <a:latin typeface="Gill Sans MT"/>
              </a:rPr>
              <a:t>Etiologi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Hepatits virus C (HCV) je hepatotropni virus koji pripada familiji Flaviviridae, rodu Hepaciviru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Klasifikovani su na osnovu razlika u nukleotidnim sekvencama na 6 genotipova koji obuhvataju 12 subtipa i različito su rasprostranjeni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Međutim, prema nekim podacima moguće je postojanje više od jednog tipa uzročnika ovog oboljenj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9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Izvor zaraze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Gill Sans MT"/>
              </a:rPr>
              <a:t>Dosadašnja saznanja pokazuju da je jedini izvor zaraze čovek, bilo u sklopu akutnih ili hroničnih infekcija HCV virusima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Gill Sans MT"/>
              </a:rPr>
              <a:t>Virus se može naći u krvi, salivi, spermi, vaginalnom sekretu, mleku i drugim telesnim tečnostima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Gill Sans MT"/>
              </a:rPr>
              <a:t>Vreme zaraznosti je dosta dugo – od više nedelja pre pojave prvih simptoma pa sve dok traje bolest (u slučaju hroničnih infekcija i doživotno)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3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Putevi prenošenja HCV-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enteralno (preko krvi i krvnih derivata, transplantovanih organa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ksualno i vertikalno (ovakva transmisija je manje prisutna, verovatno zbog niske koncentracije virusa u telesnim tečnostima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kutanom ekspozicijom kontaminiranoj krvi (kontaktno,što je ujedno i osnovni put prenošenja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8" name=""/>
          <p:cNvGraphicFramePr/>
          <p:nvPr/>
        </p:nvGraphicFramePr>
        <p:xfrm>
          <a:off x="2590920" y="-71280"/>
          <a:ext cx="6553080" cy="7008480"/>
        </p:xfrm>
        <a:graphic>
          <a:graphicData uri="http://schemas.openxmlformats.org/drawingml/2006/table">
            <a:tbl>
              <a:tblPr/>
              <a:tblGrid>
                <a:gridCol w="2184120"/>
                <a:gridCol w="2184480"/>
                <a:gridCol w="2184480"/>
              </a:tblGrid>
              <a:tr h="799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upacija stanovništ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oj testiranih oso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oj anti-HCV pozitivnih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brovoljni davaoci krv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.0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5 (0,1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udn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5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 (0,3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dravstveni radni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(0,1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ravenski korisnici dro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8 (18,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mo/biseksual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(0,7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teroseksual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3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 (2,1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ksualni partneri anti-HCV + oso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(5,6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cijenti na hemodijaliz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2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 (6,2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mbulantni ili bolnički pacijen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.5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180 (3,1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stali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1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4 (2,2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kup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0.8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133 (0,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TextBox 4"/>
          <p:cNvSpPr/>
          <p:nvPr/>
        </p:nvSpPr>
        <p:spPr>
          <a:xfrm>
            <a:off x="6705720" y="1066680"/>
            <a:ext cx="20574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"/>
          <p:cNvSpPr/>
          <p:nvPr/>
        </p:nvSpPr>
        <p:spPr>
          <a:xfrm>
            <a:off x="304920" y="1764360"/>
            <a:ext cx="21333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bela 1. Rezultati serol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š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g testiranja na anti-HCV antitela pojedinih grupa stanovni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š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va u Republici Srbiji u 2010. god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572314"/>
                </a:solidFill>
                <a:latin typeface="Gill Sans MT"/>
              </a:rPr>
              <a:t>Algoritam mogućeg toka HCV infekcije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2"/>
          <a:stretch/>
        </p:blipFill>
        <p:spPr>
          <a:xfrm>
            <a:off x="1434960" y="1447560"/>
            <a:ext cx="7499520" cy="48006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2" descr="C:\Users\Korisnik\Desktop\fg.gif"/>
          <p:cNvPicPr/>
          <p:nvPr/>
        </p:nvPicPr>
        <p:blipFill>
          <a:blip r:embed="rId3"/>
          <a:stretch/>
        </p:blipFill>
        <p:spPr>
          <a:xfrm>
            <a:off x="1143000" y="1039680"/>
            <a:ext cx="7010280" cy="58183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Laboratorijska dijagnostik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000" spc="-1" strike="noStrike">
                <a:solidFill>
                  <a:srgbClr val="000000"/>
                </a:solidFill>
                <a:latin typeface="Gill Sans MT"/>
              </a:rPr>
              <a:t>P</a:t>
            </a:r>
            <a:r>
              <a:rPr b="0" lang="vi-VN" sz="3000" spc="-1" strike="noStrike">
                <a:solidFill>
                  <a:srgbClr val="000000"/>
                </a:solidFill>
                <a:latin typeface="Tahoma"/>
              </a:rPr>
              <a:t>orast vrednosti dva enzim</a:t>
            </a:r>
            <a:r>
              <a:rPr b="0" lang="sr-Latn-RS" sz="3000" spc="-1" strike="noStrike">
                <a:solidFill>
                  <a:srgbClr val="000000"/>
                </a:solidFill>
                <a:latin typeface="Gill Sans MT"/>
              </a:rPr>
              <a:t>a</a:t>
            </a:r>
            <a:r>
              <a:rPr b="0" lang="vi-VN" sz="3000" spc="-1" strike="noStrike">
                <a:solidFill>
                  <a:srgbClr val="000000"/>
                </a:solidFill>
                <a:latin typeface="Tahoma"/>
              </a:rPr>
              <a:t> u krvi, AST i ALT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000" spc="-1" strike="noStrike">
                <a:solidFill>
                  <a:srgbClr val="000000"/>
                </a:solidFill>
                <a:latin typeface="Tahoma"/>
              </a:rPr>
              <a:t>Dokazivanje</a:t>
            </a:r>
            <a:r>
              <a:rPr b="0" lang="sr-Latn-R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vi-VN" sz="3000" spc="-1" strike="noStrike">
                <a:solidFill>
                  <a:srgbClr val="000000"/>
                </a:solidFill>
                <a:latin typeface="Tahoma"/>
              </a:rPr>
              <a:t>antitela na HCV </a:t>
            </a:r>
            <a:r>
              <a:rPr b="0" lang="sr-Latn-RS" sz="3000" spc="-1" strike="noStrike">
                <a:solidFill>
                  <a:srgbClr val="000000"/>
                </a:solidFill>
                <a:latin typeface="Gill Sans MT"/>
              </a:rPr>
              <a:t>(p</a:t>
            </a:r>
            <a:r>
              <a:rPr b="0" lang="vi-VN" sz="3000" spc="-1" strike="noStrike">
                <a:solidFill>
                  <a:srgbClr val="000000"/>
                </a:solidFill>
                <a:latin typeface="Tahoma"/>
              </a:rPr>
              <a:t>ozitivan nalaz znači da je čovjek nekada bio u kontaktu s ovim virusom</a:t>
            </a:r>
            <a:r>
              <a:rPr b="0" lang="sr-Latn-RS" sz="30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000" spc="-1" strike="noStrike">
                <a:solidFill>
                  <a:srgbClr val="000000"/>
                </a:solidFill>
                <a:latin typeface="Tahoma"/>
              </a:rPr>
              <a:t>PCR</a:t>
            </a:r>
            <a:r>
              <a:rPr b="0" lang="sr-Latn-RS" sz="3000" spc="-1" strike="noStrike">
                <a:solidFill>
                  <a:srgbClr val="000000"/>
                </a:solidFill>
                <a:latin typeface="Gill Sans MT"/>
              </a:rPr>
              <a:t> HCV RNK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000" spc="-1" strike="noStrike">
                <a:solidFill>
                  <a:srgbClr val="000000"/>
                </a:solidFill>
                <a:latin typeface="Tahoma"/>
              </a:rPr>
              <a:t>genotipizacija kojom se utvrđuje genotip HCV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000" spc="-1" strike="noStrike">
                <a:solidFill>
                  <a:srgbClr val="000000"/>
                </a:solidFill>
                <a:latin typeface="Tahoma"/>
              </a:rPr>
              <a:t>Ultrazvuk</a:t>
            </a:r>
            <a:r>
              <a:rPr b="0" lang="sr-Latn-RS" sz="3000" spc="-1" strike="noStrike">
                <a:solidFill>
                  <a:srgbClr val="000000"/>
                </a:solidFill>
                <a:latin typeface="Gill Sans MT"/>
              </a:rPr>
              <a:t> i b</a:t>
            </a:r>
            <a:r>
              <a:rPr b="0" lang="vi-VN" sz="3000" spc="-1" strike="noStrike">
                <a:solidFill>
                  <a:srgbClr val="000000"/>
                </a:solidFill>
                <a:latin typeface="Tahoma"/>
              </a:rPr>
              <a:t>iopsija jetre pokazaće nam st</a:t>
            </a:r>
            <a:r>
              <a:rPr b="0" lang="sr-Latn-RS" sz="3000" spc="-1" strike="noStrike">
                <a:solidFill>
                  <a:srgbClr val="000000"/>
                </a:solidFill>
                <a:latin typeface="Gill Sans MT"/>
              </a:rPr>
              <a:t>epen</a:t>
            </a:r>
            <a:r>
              <a:rPr b="0" lang="vi-VN" sz="3000" spc="-1" strike="noStrike">
                <a:solidFill>
                  <a:srgbClr val="000000"/>
                </a:solidFill>
                <a:latin typeface="Tahoma"/>
              </a:rPr>
              <a:t> oštećenja jetr</a:t>
            </a:r>
            <a:r>
              <a:rPr b="0" lang="sr-Latn-RS" sz="30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vi-VN" sz="3000" spc="-1" strike="noStrike">
                <a:solidFill>
                  <a:srgbClr val="000000"/>
                </a:solidFill>
                <a:latin typeface="Tahoma"/>
              </a:rPr>
              <a:t>nog tkiva uzrokovanog</a:t>
            </a:r>
            <a:r>
              <a:rPr b="0" lang="sr-Latn-RS" sz="3000" spc="-1" strike="noStrike">
                <a:solidFill>
                  <a:srgbClr val="000000"/>
                </a:solidFill>
                <a:latin typeface="Gill Sans MT"/>
              </a:rPr>
              <a:t> HCV-om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300" spc="-1" strike="noStrike">
                <a:solidFill>
                  <a:srgbClr val="572314"/>
                </a:solidFill>
                <a:latin typeface="Gill Sans MT"/>
              </a:rPr>
              <a:t>Rasprostranjenos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2"/>
          <a:stretch/>
        </p:blipFill>
        <p:spPr>
          <a:xfrm>
            <a:off x="1434960" y="1447560"/>
            <a:ext cx="7499520" cy="480060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2" descr="C:\Users\Korisnik\Desktop\HCV_rasprostranjenost_1999.png"/>
          <p:cNvPicPr/>
          <p:nvPr/>
        </p:nvPicPr>
        <p:blipFill>
          <a:blip r:embed="rId3"/>
          <a:stretch/>
        </p:blipFill>
        <p:spPr>
          <a:xfrm>
            <a:off x="0" y="1562040"/>
            <a:ext cx="9144000" cy="46101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9" name=""/>
          <p:cNvGraphicFramePr/>
          <p:nvPr/>
        </p:nvGraphicFramePr>
        <p:xfrm>
          <a:off x="2514600" y="108000"/>
          <a:ext cx="6629400" cy="6810480"/>
        </p:xfrm>
        <a:graphic>
          <a:graphicData uri="http://schemas.openxmlformats.org/drawingml/2006/table">
            <a:tbl>
              <a:tblPr/>
              <a:tblGrid>
                <a:gridCol w="1090440"/>
                <a:gridCol w="893880"/>
                <a:gridCol w="1089000"/>
                <a:gridCol w="1312920"/>
                <a:gridCol w="2243160"/>
              </a:tblGrid>
              <a:tr h="163512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HO Reg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4f4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kupno stanovnika (Milio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4f4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patitis C prevalencija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4f4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oj inficiranih osoba(Milio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4f4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oj zemalja WHO regionau kojima nisu dostupni poda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4f4f4"/>
                    </a:solidFill>
                  </a:tcPr>
                </a:tc>
              </a:tr>
              <a:tr h="52848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fri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4f4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904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 i J Ameri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4f4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608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točni Medite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4f4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028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vro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4f4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332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ugo-istočna Az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4f4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88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apadni Pacifi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4f4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028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kup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4f4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20" name="Rectangle 1"/>
          <p:cNvSpPr/>
          <p:nvPr/>
        </p:nvSpPr>
        <p:spPr>
          <a:xfrm>
            <a:off x="228600" y="2823120"/>
            <a:ext cx="2209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Tabela 2, Prevalenca HCV infekcije u sve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7T10:47:09Z</dcterms:created>
  <dc:creator>Savovic</dc:creator>
  <dc:description/>
  <dc:language>en-US</dc:language>
  <cp:lastModifiedBy>parazitologija1n</cp:lastModifiedBy>
  <dcterms:modified xsi:type="dcterms:W3CDTF">2014-05-15T11:44:05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