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4FA-D274-413C-B267-BC2D9114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E98-0895-4407-8313-9F3263E4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21B-8F6C-42CF-8C84-3A5D315D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A40-CB33-48BE-8BA7-B195AD82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112D-E513-4369-91D9-1FFF59BB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D173-6A7B-436D-A4F4-CCBB1173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3A61-9571-4FE2-A9BC-1D8904CE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44C3-FC3F-4CFD-869A-2316BE96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6C92-7110-48E2-9D73-A0EE23CA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BDF1-06BE-4EF9-8206-5234B9DD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C79-DD88-4313-8E31-21E608DB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D33-619B-4808-9F25-3ED33C5D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6124-6996-48BB-9D25-BD8AAF1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385E-037C-4AA8-9ABC-FFDF6056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B3DB-428C-43DA-9883-0EE926F4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FB5C-37AA-4F41-9FE4-DEA51C12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945F-AEE3-4A94-8CE5-2B29E33C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2BD-5717-4797-AA4E-071026FF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861-6A8E-46BF-8862-DED51702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C74-BACA-4D3E-984E-D6EFF22F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1A4-FCB9-49C6-B355-6B073595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B45-E87D-4939-8A76-CFDDD9F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0C9-3672-4C61-A3C9-9753933C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823-2009-4824-9118-6F876AD9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C2DA-3074-4489-A4AF-FAB543B8B5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1156-18C8-41C3-8810-57F36F0D2E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ecff"/>
                </a:solidFill>
                <a:latin typeface="Times New Roman"/>
              </a:rPr>
              <a:t>Osnovne epidemiološke karakteristike crevnih zaraznih bolest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steljivost (dispozicija)-opšt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ajveća osetljivost kod osoba sa poremećajima koselosti želudačnog sadržaja, sa bolestima želuc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Sklonost ka obolevanju je u vezi i sa uzrast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Imunitet nastaje posle prebolevanja neke bolesti, ali je različit po trajanj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d trbušnog tifusa-solidan, dugotraja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d dečije paralize tip specifiča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d većineprivremen, kratkotraja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kubacija različita: krakotrajna –par sati kod trovanja hranom, srednje duga (dečija paraliza), duga (hepatitis virosa A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linička slika rezličita. Karakteristični su: mučnina, gađenje, povraćanje, proli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ijagno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gled stolica, nekad i povraćanih masa, mokraće, likovora, krvi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rološke reak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avljaju se sporadično, epidemijski, endemijski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Sve vanredne situacije doprinose epidemisjkom javljanju crevnih zaraznih bolesti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Mere za sprečavan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Lična i opšta higije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ezbeđivanje higijenski ispravne vode za piće (profilaktička  dezifekcija), higijenska dispozicija otpadnih materija, uređenje deponija, otkrivanje kliconoša (sanitani pregledi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oprofilaksa (trbušni tifus, TETY vakcina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Mere za suzbijan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o otkrivanje izvora zaraze (bolesnika ili kliconošu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ljivan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Laboratorijsko ispitiva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olacija i lečenje oboleli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zinfekcija (tekuća i završ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dravstveno vaspitni r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Glavne karakteristike </a:t>
            </a:r>
            <a:br>
              <a:rPr sz="4000"/>
            </a:b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hidričnih epidemi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mena organoleptičkih karakteristika vode za pić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sustvo indikatora fekalnog zagađenja (E.colli, Enterococcus, Cl. Perfrigens, proteus, bakteriofagi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laz patogenih uzročnika u vodi za pić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java vodene bolesti (masovna pojava proliva posle upotrebe zagađene vode za piće; saprofiti ili uslovno patogene bakterij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odužena inkubacija (približava se maksimalnoj za tu bolest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Eksplozivnos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ntrolne grupe (kontrolna grupa zdravih-negativna kontrola: osobe iz iste sredine u koj se javila epidemija, koje nisu pile vodu  i nisu obolele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zitivna kontrolna grupa-osobe iz drugih sredina, koje su boravile u sredini gde je došlo do epidemij, pile su vodu i obolele su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olevaju samo osobe koje su pile vod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janje epidemije poklapa se sa maksimalnom inkubaciju za određenu bol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takti rep- u nehigijenskoj sredini nadovezuje se epidemija koja se širi kontaktom na osetljive osob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emaju sezonski karakt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litipnost-zbog prisustva većeg broja mikroorganizama javljaju se u toku epidemije oboleli od više crevnih bolesti (dizinterija, HAV, trbušni tifus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ko se pojavi monotipna hidrična epidemija treba sumnjati na diverzij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jedničko za ovu grupu bolesti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imaju fekalno-oralni mehanizam infekcije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lazna vrata infekcije je sluznica digestivnog trakta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utevi prenošenja: kontakt, hrana voda, zemljište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ecff"/>
                </a:solidFill>
                <a:latin typeface="Times New Roman"/>
              </a:rPr>
              <a:t>Glavne karakteristike epidemija alimentarnog porekl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ksploziv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ramatičnost (veliki broj obolelih i burna simptomatologij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ratka inkubacija (30 minuta do 72 sat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ratko trajanje  (krivulja liči na plamen sveć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trolne grupe (zdravi-oni koji nisu jeli hranu za koju se sumnja da je dovela do epidemij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trolna grupa obolelih-osobe iz druge sredine koje su boravile na teritoriji gde je došlo do pojave epidemije, jeli određenu hranu i oboleli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notip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laz istog uzročni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ma kontaktnog rep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udsko-medicinski znača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dna od najmasovniji obolenja stanovništva u nerazvijenim i siromašnim zemljam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avljaju se u svim sredinama koje nemaju rešeno pitanje vodosnabdevanja i uklanjanja otpadnih materija (loše sanitarno-higijenske prilike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novna karakteristika: uzročnici se privremeno ili za vreme trajanja bolesti zadržavaju u crevima čovek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 organizma se izbacuju najviše  stolicom (mogu i mokraćom, povraćanim masama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troponoze(bacilarna dizinterija, kolera, dečija paraliza, virusni hepatitis A..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ooantroponoze (salmoneloze, botulizam, bruceloza..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Etiologija: bakterije, virusi, paraziti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atološki proces može da bude lokalizovan ali može i da zahvati druge orgae i sisteme (dečija paraliaza-nervni sistem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Izvor zaraze: oboleli čovek ili kliconoš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Kliconoštvo </a:t>
            </a:r>
            <a:br>
              <a:rPr sz="4000"/>
            </a:b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kod crevnih zaraznih bole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stoje svi obli nosilaštva: za vreme bolset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d inkubacije do rekonvalescentnog perioda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kutno (posle bolesti ) kliconoštv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Hronično kliconoštv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bušni tifus-doživotno kliconoštvo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dravo kliconoštvo (kolera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d zooantroponoza izvor zaraze je bolesna životinja ili kliconoš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zročnici se izlučuju uglsvnom stolicom, mokraćom i plodovom vodom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snovni putevi prenošenja: voda i hran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izrazito nehigijenskoj sredini veliki značaj ima kontakt (indirektan kontak, ruke; bolesti prljavih ruk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vanrednim prilikama zemljište ima značaj kao put prenošenja crevnih zaraznih boles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lazna vrata (mesto): sluznica digestivnog trak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bušni tifus-sluznica jejunu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acilarna dizenerija-sluznica distalnog dela debelog crev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mebijaza-sluznica ileocekalnog dela debelog creva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27:35Z</dcterms:created>
  <dc:creator>Intel</dc:creator>
  <dc:description/>
  <dc:language>en-US</dc:language>
  <cp:lastModifiedBy>parazitologija1n</cp:lastModifiedBy>
  <dcterms:modified xsi:type="dcterms:W3CDTF">2014-05-15T09:21:12Z</dcterms:modified>
  <cp:revision>19</cp:revision>
  <dc:subject/>
  <dc:title>Osnovne epidemiološke karakteristike crevnih zaraznih bole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