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24.jpeg" ContentType="image/jpeg"/>
  <Override PartName="/ppt/media/image4.jpeg" ContentType="image/jpeg"/>
  <Override PartName="/ppt/media/image22.jpeg" ContentType="image/jpeg"/>
  <Override PartName="/ppt/media/image7.png" ContentType="image/png"/>
  <Override PartName="/ppt/media/image12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25.png" ContentType="image/pn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EBC-04AD-4D9A-B967-1455544F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10F-4960-437E-AF1E-2D6D5B15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9A9-8C09-4352-B3A6-E579ABE4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275-3063-4188-A743-205414CD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CFA0-C5DF-4AE1-8E7E-05C72690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F256-633E-47D9-A52A-B9E35283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017E-6CA4-480D-87DC-9B3BC27D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425F-9C1C-4B7F-BB97-EAC8961E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096A-50CC-4220-9899-39497ADD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25D-567B-4C45-8DAA-A0A67835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27AE-54C9-478C-B558-2979BCF6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9F3-DBA7-4C43-AF28-EB50203E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13F6-C67D-4F7F-86DA-C7B3C864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5355-3DF9-4E88-ABF0-BE6A038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B350-DAD6-4E7D-B493-14D3B7C0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E80D-2752-4E22-A663-16861110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0EFF-54A6-48DD-B49B-AA376493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614E-A0A2-4C75-B01C-0EA46605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C849-0043-4ACA-84F2-A4EFD4DC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6A185-8901-46AA-9830-3AB5629D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3BA8-944B-4675-876D-C6A27FAC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8E57-7A60-4ABB-A35D-4C372FA3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308-ADDD-4656-954F-CE4B7E02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3E17-AC39-4B1E-9A63-4D229889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9385-EF9E-434B-87A4-7E634670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B665-0781-4389-8CC4-69FB9BA2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A66F-DFF8-465F-B5A8-F18E5D2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6905-3890-407A-B7AD-20F39DF4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1C00-25CC-4F51-B9B0-29727CB5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4586-CCFD-4D08-A86A-C839C2A2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AE70-E472-4F2F-B172-AC93D58B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6A71-E83F-44E2-B9B2-02DEB004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85D9-1D9F-4364-91F3-70844CB7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CA7-375F-4AD9-B2DC-BC7C3B7F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9C1E9-FDA7-495D-9BD7-52FF9A42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8061-75A7-4CE1-8091-069A4E66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2B9A-9973-43FF-A361-032F97C5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64D7-6B5F-416F-90CC-7E2B5DC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4D8A-1DBE-41E7-AAAA-C9102073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E350-C2B1-4E99-9253-B77F0BD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6055-E5C5-441F-BDBB-E7EAB626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2D2A5-ACD6-4098-A075-75580EE5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A49CB-A3EB-4D9E-A543-EB6DCA27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75C01-26B6-4A0F-985E-18D01DBB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F08-8FEE-4385-BCE5-DE431ADF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345C-D90E-4ACF-B2F9-93648F8A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D73F-F526-4DFC-AC26-69C12767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FE14-4855-43C7-890E-9C74E102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EFB88-E796-417A-88A1-8331DE3F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E83C-2CB7-4446-8659-70AEF49A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97B91-C58D-4707-8B49-81174084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D53F8-1852-4DEB-9CAD-4EF60A0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CD81-C831-42E5-9BE6-B9B6E7A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9322-A527-49F1-8F05-7C10E6E2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351E-FDB9-449D-98AF-018CF2E1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D6B-2EB8-4AB9-80DC-2C11937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DEB83-FAB0-4BAB-9DC3-A56CBF1D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00A34-4D7A-47E6-B1A6-42534AD8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2AD86-A3B5-46D5-A959-A79CE6B4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94C6-4A35-4C37-A3D1-CCFFE6C9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E5119-C284-48F4-930A-A6D37155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3F58-2594-4EB8-BD56-F429C751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91AF-1CE6-42FD-9B56-04CBC866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3C43B-56C1-4BB0-99C2-FE79F74D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8060C-4DDE-4BFC-BF17-CAA97B5B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F0208-A91D-467A-97E3-4607309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3D9-E583-41E7-818B-CF9492A9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CAED8-5061-43D8-9684-E4490107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D1919-7735-43B5-8A81-D251CC67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C399C-D114-4DB7-8FD2-4254DF50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2906-8682-4AAB-9B97-03516702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0C4BE-A3FF-48D6-9AB8-2C8B6877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A181D-3160-42C7-86FA-394292D5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179A2-CF37-4AE0-8BFA-41A2F76B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FFB39-46EC-42D3-A8B4-0B49D011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3908D-2FF2-4FE9-8012-2D075545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7F9D1-B9A3-4A78-9F73-1AC5FA57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34F-E94C-420D-8F00-56963A2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E222B-8651-44D5-8D6A-73F6E7D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666DA-A48F-4FA2-B222-0FBDE71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0CB6-2AB9-4F79-B66A-BF9EC71D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3FAF-8258-4F14-AFA2-DAC45411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26703-C53F-487D-B81E-7C00FF73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D5584-57D8-4506-A9AF-A1650714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AC08A-BD9C-45BE-8767-4ADC59D1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CD5A1-6225-46EC-9131-9BDEB1B1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41058-0973-41D0-9D88-76DC6193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51867-3822-41BD-95A1-6629711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425-2EE2-4643-A78C-475EFB72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293F2-0C9E-4F25-AE24-D2E29939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7F82F-DDDB-4647-A8F3-47D5DCF2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5B8E1-24E9-4891-A507-E577A636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4D09-A0E6-4700-8EAD-3C9A12E1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B6FE-4D5C-4774-A63D-9BD0A2FC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AD5CE-5E22-44AB-9964-CE53745C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B2F39-D4A0-452B-BDAD-EE5D20ED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winkliges Dreiec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Gerade Verbindung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Gerade Verbindung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A7ED-0C33-4AA8-B797-4335C689CE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winkliges Dreiec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Gerade Verbindung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Gerade Verbindung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Gleichschenkliges Dreiec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7CA0-BEEA-468E-B590-F2067202557A}" type="slidenum">
              <a:rPr b="0" lang="de-DE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winkliges Dreiec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Gerade Verbindung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Gerade Verbindung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BDDC-DD81-404A-A3BC-DED5A59745C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winkliges Dreiec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Gleichschenkliges Dreiec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Gerade Verbindung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Gerade Verbindung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DDF3-168C-4B81-8B53-4DEDBC30A7F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winkliges Dreiec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Gerade Verbindung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Gerade Verbindung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E3C7-C725-47F3-A5A8-B5A809B462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714F-BEA4-41FA-86A2-2CCC3EAC14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A9E-D6BB-488D-90EA-9434C3931823}" type="slidenum"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9C9C-26CD-4C22-95A3-BA43AEB67DDC}" type="slidenum"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hr.wikipedia.org/wiki/Pacijent" TargetMode="External"/><Relationship Id="rId3" Type="http://schemas.openxmlformats.org/officeDocument/2006/relationships/hyperlink" Target="http://hr.wikipedia.org/wiki/Ko&#382;a" TargetMode="External"/><Relationship Id="rId4" Type="http://schemas.openxmlformats.org/officeDocument/2006/relationships/hyperlink" Target="http://hr.wikipedia.org/w/index.php?title=Bradavica&amp;action=edit&amp;redlink=1" TargetMode="External"/><Relationship Id="rId5" Type="http://schemas.openxmlformats.org/officeDocument/2006/relationships/hyperlink" Target="http://hr.wikipedia.org/w/index.php?title=Ekcem&amp;action=edit&amp;redlink=1" TargetMode="External"/><Relationship Id="rId6" Type="http://schemas.openxmlformats.org/officeDocument/2006/relationships/hyperlink" Target="http://hr.wikipedia.org/w/index.php?title=Malaksalost&amp;action=edit&amp;redlink=1" TargetMode="External"/><Relationship Id="rId7" Type="http://schemas.openxmlformats.org/officeDocument/2006/relationships/hyperlink" Target="http://hr.wikipedia.org/wiki/Kost" TargetMode="External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r.wikipedia.org/wiki/Lije&#269;nik" TargetMode="External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hr.wikipedia.org/wiki/Mamografija" TargetMode="External"/><Relationship Id="rId3" Type="http://schemas.openxmlformats.org/officeDocument/2006/relationships/hyperlink" Target="http://hr.wikipedia.org/wiki/Mamografija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sr.wikipedia.org/wiki/Tumor" TargetMode="External"/><Relationship Id="rId3" Type="http://schemas.openxmlformats.org/officeDocument/2006/relationships/hyperlink" Target="http://sr.wikipedia.org/wiki/&#1041;&#1086;&#1083;&#1077;&#1089;&#1090;" TargetMode="External"/><Relationship Id="rId4" Type="http://schemas.openxmlformats.org/officeDocument/2006/relationships/hyperlink" Target="http://sr.wikipedia.org/wiki/&#1046;&#1077;&#1085;&#1072;" TargetMode="External"/><Relationship Id="rId5" Type="http://schemas.openxmlformats.org/officeDocument/2006/relationships/hyperlink" Target="http://sr.wikipedia.org/wiki/&#1052;&#1091;&#1096;&#1082;&#1072;&#1088;&#1094;&#1080;" TargetMode="External"/><Relationship Id="rId6" Type="http://schemas.openxmlformats.org/officeDocument/2006/relationships/hyperlink" Target="http://sr.wikipedia.org/wiki/&#1044;&#1086;&#1112;&#1082;&#1072;" TargetMode="External"/><Relationship Id="rId7" Type="http://schemas.openxmlformats.org/officeDocument/2006/relationships/hyperlink" Target="http://sr.wikipedia.org/wiki/&#1058;&#1082;&#1080;&#1074;&#1086;_(&#1073;&#1080;&#1086;&#1083;&#1086;&#1075;&#1080;&#1112;&#1072;)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r.wikipedia.org/wiki/&#1052;&#1077;&#1085;&#1089;&#1090;&#1088;&#1091;&#1072;&#1094;&#1080;&#1112;&#1072;" TargetMode="External"/><Relationship Id="rId3" Type="http://schemas.openxmlformats.org/officeDocument/2006/relationships/hyperlink" Target="http://sr.wikipedia.org/w/index.php?title=Menopauza&amp;action=edit&amp;redlink=1" TargetMode="External"/><Relationship Id="rId4" Type="http://schemas.openxmlformats.org/officeDocument/2006/relationships/hyperlink" Target="http://sr.wikipedia.org/wiki/&#1041;&#1080;&#1086;&#1087;&#1089;&#1080;&#1112;&#1072;" TargetMode="External"/><Relationship Id="rId5" Type="http://schemas.openxmlformats.org/officeDocument/2006/relationships/hyperlink" Target="http://sr.wikipedia.org/wiki/&#1035;&#1077;&#1083;&#1080;&#1112;&#1072;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hr.wikipedia.org/w/index.php?title=Neinvanzivan&amp;action=edit&amp;redlink=1" TargetMode="External"/><Relationship Id="rId3" Type="http://schemas.openxmlformats.org/officeDocument/2006/relationships/hyperlink" Target="http://hr.wikipedia.org/w/index.php?title=Invazivan&amp;action=edit&amp;redlink=1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el 1" descr=""/>
          <p:cNvPicPr/>
          <p:nvPr/>
        </p:nvPicPr>
        <p:blipFill>
          <a:blip r:embed="rId1"/>
          <a:stretch/>
        </p:blipFill>
        <p:spPr>
          <a:xfrm>
            <a:off x="476280" y="963720"/>
            <a:ext cx="8064360" cy="33336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826560" y="6727680"/>
            <a:ext cx="3886200" cy="1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Grafik 3" descr="vijesti_324_v.jpg"/>
          <p:cNvPicPr/>
          <p:nvPr/>
        </p:nvPicPr>
        <p:blipFill>
          <a:blip r:embed="rId2"/>
          <a:stretch/>
        </p:blipFill>
        <p:spPr>
          <a:xfrm>
            <a:off x="0" y="5472000"/>
            <a:ext cx="1387440" cy="13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el 1" descr=""/>
          <p:cNvPicPr/>
          <p:nvPr/>
        </p:nvPicPr>
        <p:blipFill>
          <a:blip r:embed="rId1"/>
          <a:stretch/>
        </p:blipFill>
        <p:spPr>
          <a:xfrm>
            <a:off x="822240" y="-6480"/>
            <a:ext cx="7248600" cy="9511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380520" y="836280"/>
            <a:ext cx="85122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Rak dojke je u početnom stadijumu obično bezbolan i asimptomatičan. Posebnu pažnju treba obratiti na: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ojavu kvržice (čvora), a koja ne boli, čvrsta je do tvrda, nije pomična i ima nepravilne rubove (koju više od 80% </a:t>
            </a:r>
            <a:r>
              <a:rPr b="0" lang="en-US" sz="17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pacijentkinja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 otkrije samopregledom)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otvrdnuća ili tvrda mesta na dojci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novonastale promene u veličini i obliku dojke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novonastalo raznoliko ponašanje dojki prilikom podizanja ruke ili bolovi (koji nisu povezani s početkom menstruacije)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zadebljanje ili izbočenje jedne dojke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7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znenada nastalo crvenilo jedne dojke koje ne nestaje, ili </a:t>
            </a:r>
            <a:r>
              <a:rPr b="0" lang="en-US" sz="17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koža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 plavičaste boje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uvlačenje kože ili izgled narandžine kore (zadebljana koža s uvučenim mestima)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romene na koži </a:t>
            </a:r>
            <a:r>
              <a:rPr b="0" lang="en-US" sz="17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bradavice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iscedak iz bradavice i to vodenasti, gnojni ili krvavi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jarko žuti, svetlocrveni i smeđecrveni (u 3-5% slučajeva radi se o raku u izvodnim kanalima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svrab i pečenje uz </a:t>
            </a:r>
            <a:r>
              <a:rPr b="0" lang="en-US" sz="17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ekcematozne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 promene na koži u okolini bradavic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malaksalost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 nepoznatog uzroka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neobjašnjive bolove u </a:t>
            </a:r>
            <a:r>
              <a:rPr b="0" lang="en-US" sz="17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kostima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el 1" descr=""/>
          <p:cNvPicPr/>
          <p:nvPr/>
        </p:nvPicPr>
        <p:blipFill>
          <a:blip r:embed="rId1"/>
          <a:stretch/>
        </p:blipFill>
        <p:spPr>
          <a:xfrm>
            <a:off x="828720" y="901800"/>
            <a:ext cx="7632720" cy="49813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899640" y="6582960"/>
            <a:ext cx="38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Grafik 3" descr="vijesti_324_v.jpg"/>
          <p:cNvPicPr/>
          <p:nvPr/>
        </p:nvPicPr>
        <p:blipFill>
          <a:blip r:embed="rId2"/>
          <a:stretch/>
        </p:blipFill>
        <p:spPr>
          <a:xfrm>
            <a:off x="0" y="5445000"/>
            <a:ext cx="1415880" cy="1413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el 1" descr=""/>
          <p:cNvPicPr/>
          <p:nvPr/>
        </p:nvPicPr>
        <p:blipFill>
          <a:blip r:embed="rId1"/>
          <a:stretch/>
        </p:blipFill>
        <p:spPr>
          <a:xfrm>
            <a:off x="822240" y="285840"/>
            <a:ext cx="7248600" cy="1122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80520" y="1268280"/>
            <a:ext cx="851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Samopregled dojki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1" name="Grafik 3" descr="dfghjkcnh.jpg"/>
          <p:cNvPicPr/>
          <p:nvPr/>
        </p:nvPicPr>
        <p:blipFill>
          <a:blip r:embed="rId2"/>
          <a:stretch/>
        </p:blipFill>
        <p:spPr>
          <a:xfrm>
            <a:off x="2987640" y="2492280"/>
            <a:ext cx="3598920" cy="2884680"/>
          </a:xfrm>
          <a:prstGeom prst="rect">
            <a:avLst/>
          </a:prstGeom>
          <a:ln w="0">
            <a:noFill/>
          </a:ln>
        </p:spPr>
      </p:pic>
      <p:pic>
        <p:nvPicPr>
          <p:cNvPr id="382" name="Grafik 4" descr="vijesti_324_v.jpg"/>
          <p:cNvPicPr/>
          <p:nvPr/>
        </p:nvPicPr>
        <p:blipFill>
          <a:blip r:embed="rId3"/>
          <a:stretch/>
        </p:blipFill>
        <p:spPr>
          <a:xfrm>
            <a:off x="0" y="5241960"/>
            <a:ext cx="1619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-188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520" y="476280"/>
            <a:ext cx="8223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9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akon 25. godine života sve bi žene jednom mesečno trebale pregledati dojke i to neposredno posle menstruacije, odnosno od petog do desetog dana ciklusa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reba stati ispred ogledala, ruke ispružiti niz telo, a zatim ih podignuti. Proveriti da li su dojke simetrične i bez udubljenja ili promena na koži bradavica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ežno pritisnuti bradavice i proveriti da li izlazi kakav iscedak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eći na leđa, ispod levog ramena staviti jastuk, a levu ruku ispod glave. Ispruženim prstima desne ruke kružnim pokretima opipati unutrašnju polovinu leve dojke, pokretima odozgo prema dole i od spoljne strane prema sredini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evu ruku zatim ispružiti uz bok, pa pregledati spoljnu polovinu dojke, pokretima odozdo prema sredini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de-DE" sz="1900" spc="-1" strike="noStrike">
                <a:solidFill>
                  <a:srgbClr val="ffffff"/>
                </a:solidFill>
                <a:latin typeface="Century Gothic"/>
              </a:rPr>
              <a:t>Na isti način pregledati desnu dojku. Samopregled dojki je dobra navika, ali treba i redovno obavljati stručne preglede, čiju će učestalost odrediti </a:t>
            </a:r>
            <a:r>
              <a:rPr b="0" lang="de-DE" sz="19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lekar</a:t>
            </a:r>
            <a:r>
              <a:rPr b="0" lang="de-DE" sz="1900" spc="-1" strike="noStrike">
                <a:solidFill>
                  <a:srgbClr val="ffffff"/>
                </a:solidFill>
                <a:latin typeface="Century Gothic"/>
              </a:rPr>
              <a:t> specijalista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el 1" descr=""/>
          <p:cNvPicPr/>
          <p:nvPr/>
        </p:nvPicPr>
        <p:blipFill>
          <a:blip r:embed="rId1"/>
          <a:stretch/>
        </p:blipFill>
        <p:spPr>
          <a:xfrm>
            <a:off x="963720" y="255600"/>
            <a:ext cx="7253280" cy="9446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367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	</a:t>
            </a:r>
            <a:r>
              <a:rPr b="0" lang="de-DE" sz="20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Mamografija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 je tačna i sigurna 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Century Gothic"/>
              </a:rPr>
              <a:t>rendgenološka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 metoda pregleda (danas se koristi samo pedeseti deo doze zračenja potrebne u početku) kojom se otkrivaju tumori i druge promene, premalene da bi se mogle napipati. Mamografski pregled u većini slučajeva nije bolan. Kod mladih žena žlezdano tkivo zauzima gotovo cijelu dojku i mamografska slika je prilično nejasna, stoga je uobičajeno da nema razloga snimati dojke žena mlađih od 35 godina. Prvu mamografiju tzv. bazični (inicijalni) 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Century Gothic"/>
              </a:rPr>
              <a:t>mamogram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 savetuje se ženama između 38. i 40. godine, a zatim ženama starijim od 40 godina jednom godišnje. Kod žena u dobi od 50-69 godina preporuka je mamografiju uraditi minimalno jednom u dve godin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Grafik 3" descr="vijesti_324_v.jpg"/>
          <p:cNvPicPr/>
          <p:nvPr/>
        </p:nvPicPr>
        <p:blipFill>
          <a:blip r:embed="rId4"/>
          <a:stretch/>
        </p:blipFill>
        <p:spPr>
          <a:xfrm>
            <a:off x="0" y="5516640"/>
            <a:ext cx="1343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el 1" descr=""/>
          <p:cNvPicPr/>
          <p:nvPr/>
        </p:nvPicPr>
        <p:blipFill>
          <a:blip r:embed="rId1"/>
          <a:stretch/>
        </p:blipFill>
        <p:spPr>
          <a:xfrm>
            <a:off x="749160" y="-6480"/>
            <a:ext cx="7248600" cy="12258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80880" y="1268280"/>
            <a:ext cx="83678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Prema najnovijim podacima, relativan stepen preživljavanja nakon dijagnoze iznosi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88% u petoj godini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80% posle 10 godina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71% posle 15 godina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algn="just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63% posle 20 god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 poslednjoj deceniji, došlo je do smanjenja smrtnog ishoda – zbog poboljšanja u lečenju i ranoj detekcij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o 30% pacijentkinja u metastatskoj bolesti imaju prekomernu ekspresiju ErbB2 (HER2) receptora5, koji predstavlja nezavisni marker loše prognoz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0" name="Grafik 3" descr="vijesti_324_v.jpg"/>
          <p:cNvPicPr/>
          <p:nvPr/>
        </p:nvPicPr>
        <p:blipFill>
          <a:blip r:embed="rId2"/>
          <a:stretch/>
        </p:blipFill>
        <p:spPr>
          <a:xfrm>
            <a:off x="0" y="6175440"/>
            <a:ext cx="6843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el 1" descr=""/>
          <p:cNvPicPr/>
          <p:nvPr/>
        </p:nvPicPr>
        <p:blipFill>
          <a:blip r:embed="rId1"/>
          <a:stretch/>
        </p:blipFill>
        <p:spPr>
          <a:xfrm>
            <a:off x="1036800" y="182520"/>
            <a:ext cx="7253280" cy="8049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80520" y="1052640"/>
            <a:ext cx="85122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koliko je rak otkriven na samom početku kada je kvržica manja od 1 cm, ako je moguće odstraniti svo tumorsko tkivo, ako tumor nije fiksiran na koži ili duboke strukture, ako nije metastazirao izvan 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limfnih čvorova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aksile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zavisno od pokretljivosti tumora prema prsnim mišićima ili ako je dojka tako velika da nakon što se tumor odstrani ostane tri četvrtine dojke, radi se poštedna operacija, modifikovana radikalna 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mastektomija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. Uklanja se samo bolesno tkivo (tumor), okolni 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parenhim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i najbliži limfni čvor, koji se šalje na analiz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konstrukcija dojke nakon mastektomije i poštedne operacije ima vrlo veliki uticaj na psihičko stanje i oporavak bolesnice. Najčešće komplikacije nakon hirurške terapije jesu popuštanje šava i edem ruke nakon disekcije aksile, koji može prerasti i u tromboflebiti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3" name="Grafik 3" descr="vijesti_324_v.jpg"/>
          <p:cNvPicPr/>
          <p:nvPr/>
        </p:nvPicPr>
        <p:blipFill>
          <a:blip r:embed="rId2"/>
          <a:stretch/>
        </p:blipFill>
        <p:spPr>
          <a:xfrm>
            <a:off x="0" y="5877000"/>
            <a:ext cx="982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963720" y="219240"/>
            <a:ext cx="7253280" cy="7682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4391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z radioterapiju je često omogućeno poštedno hirurško lečenje s boljim kozmetičkim rezultatom i istom lokalnom kontrolom bolesti kao nakon mastektomije. Radioterapiju bi trebalo započeti 6 nedelja, a najkasnije do 12 nedelja nakon operativnog zahvata. Dojka se zrači telekobaltom ili 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X-zracima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linearnog akceleratora, čija je energija prilagođena debljini tkiva koje se zrači, a zbog blizine pluća i srca, zračenje se mora svesti na najmanju moguću meru i stoga je radioterapija vrlo složen postupak. Uobičajena preporučena tumorska doza koja se aplicira na celu dojku, tangencijalnim poljima iznosi 45 do 50 Gy, a raspodijeljena je u 22 do 25 frakcija zračenja tokom 4,5 do 5 nedelja sa ili bez boosta (dodatne doze zračenja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6" name="Grafik 3" descr="vijesti_324_v.jpg"/>
          <p:cNvPicPr/>
          <p:nvPr/>
        </p:nvPicPr>
        <p:blipFill>
          <a:blip r:embed="rId2"/>
          <a:stretch/>
        </p:blipFill>
        <p:spPr>
          <a:xfrm>
            <a:off x="0" y="5330880"/>
            <a:ext cx="153036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el 1" descr=""/>
          <p:cNvPicPr/>
          <p:nvPr/>
        </p:nvPicPr>
        <p:blipFill>
          <a:blip r:embed="rId1"/>
          <a:stretch/>
        </p:blipFill>
        <p:spPr>
          <a:xfrm>
            <a:off x="895320" y="1500120"/>
            <a:ext cx="7358040" cy="3363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979280" y="6727680"/>
            <a:ext cx="3886200" cy="1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Grafik 3" descr="vijesti_324_v.jpg"/>
          <p:cNvPicPr/>
          <p:nvPr/>
        </p:nvPicPr>
        <p:blipFill>
          <a:blip r:embed="rId2"/>
          <a:stretch/>
        </p:blipFill>
        <p:spPr>
          <a:xfrm>
            <a:off x="0" y="4724280"/>
            <a:ext cx="213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el 1" descr=""/>
          <p:cNvPicPr/>
          <p:nvPr/>
        </p:nvPicPr>
        <p:blipFill>
          <a:blip r:embed="rId1"/>
          <a:stretch/>
        </p:blipFill>
        <p:spPr>
          <a:xfrm>
            <a:off x="1036800" y="176040"/>
            <a:ext cx="7253280" cy="7383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0520" y="981000"/>
            <a:ext cx="85122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Dojke su pomo</a:t>
            </a: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ć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ni organi razmno</a:t>
            </a: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ž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avanja koje se nalaze na prednjem zidu grudnog ko</a:t>
            </a: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š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a i le</a:t>
            </a: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ž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e na velikim grudnim mi</a:t>
            </a: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š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icima</a:t>
            </a: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  Dojka se sastoji o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vezivnog tkiva, koje povezuje ćelije i daje im oblik i čvrstinu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masnog tkiva, koje u reproduktivnom periodu žene (dok ima menstrualne cikluse) čini 80 - 85 % dojke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žlezdanog tkiva, tačnije od režnjića sačinjenih od žlezdanog tkiva, iz kojih polaze kanalići koji sprovode mleko. Više povezanih režnjića, obično oko 15, čine režnjev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Grafik 3" descr="vijesti_324_v.jpg"/>
          <p:cNvPicPr/>
          <p:nvPr/>
        </p:nvPicPr>
        <p:blipFill>
          <a:blip r:embed="rId2"/>
          <a:stretch/>
        </p:blipFill>
        <p:spPr>
          <a:xfrm>
            <a:off x="0" y="5475240"/>
            <a:ext cx="13860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el 1" descr=""/>
          <p:cNvPicPr/>
          <p:nvPr/>
        </p:nvPicPr>
        <p:blipFill>
          <a:blip r:embed="rId1"/>
          <a:stretch/>
        </p:blipFill>
        <p:spPr>
          <a:xfrm>
            <a:off x="1036800" y="324000"/>
            <a:ext cx="7253280" cy="809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0880" y="1197000"/>
            <a:ext cx="84391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ak dojke je najčešći zloćudni </a:t>
            </a:r>
            <a:r>
              <a:rPr b="0" lang="en-US" sz="20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tumor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kod žena. Retko se javlja pre 20. godine života, a najčešći je između 55. i 70. godine života. Ova </a:t>
            </a:r>
            <a:r>
              <a:rPr b="0" lang="en-US" sz="20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bolest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preti sve većem broju </a:t>
            </a:r>
            <a:r>
              <a:rPr b="0" lang="en-US" sz="20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žena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a najveći uzrok je mala informisanost i neredovni pregledi. Od raka dojke mogu oboleti i </a:t>
            </a:r>
            <a:r>
              <a:rPr b="0" lang="en-US" sz="20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muškarci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ali je rak dojke stotinu puta češći kod žena, nego kod muškaraca. </a:t>
            </a:r>
            <a:r>
              <a:rPr b="0" lang="de-DE" sz="20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Dojka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 se sastoji od žlezdanog i potpornog </a:t>
            </a:r>
            <a:r>
              <a:rPr b="0" lang="de-DE" sz="20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tkiva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. Žlezdano tkivo čine mlečne žlezde i mlečni kanali, a potporno čine masno i vezivno tkivo. Najveći broj karcinoma dojke javlja se u gornjem spoljnjem kvadrantu i izdancima žlezdanog</a:t>
            </a: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tkiva usmerenim prema aksili (pazušnoj jami).</a:t>
            </a: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Zloćudni tumori dojke najčešće su epitelnog porekla. Mogu nastati iz epitela kanalića </a:t>
            </a:r>
            <a:r>
              <a:rPr b="1" i="1" lang="de-DE" sz="2000" spc="-1" strike="noStrike">
                <a:solidFill>
                  <a:srgbClr val="ffffff"/>
                </a:solidFill>
                <a:latin typeface="Century Gothic"/>
              </a:rPr>
              <a:t>(90%)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 ili epitela režnjića </a:t>
            </a:r>
            <a:r>
              <a:rPr b="1" i="1" lang="de-DE" sz="2000" spc="-1" strike="noStrike">
                <a:solidFill>
                  <a:srgbClr val="ffffff"/>
                </a:solidFill>
                <a:latin typeface="Century Gothic"/>
              </a:rPr>
              <a:t>(10%)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, a oba se dele na one koji nisu probili bazalnu membranu </a:t>
            </a:r>
            <a:r>
              <a:rPr b="1" i="1" lang="de-DE" sz="2000" spc="-1" strike="noStrike">
                <a:solidFill>
                  <a:srgbClr val="ffffff"/>
                </a:solidFill>
                <a:latin typeface="Century Gothic"/>
              </a:rPr>
              <a:t>(neinfiltrirajući in situ)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 i na one koji su se probili </a:t>
            </a:r>
            <a:r>
              <a:rPr b="1" i="1" lang="de-DE" sz="2000" spc="-1" strike="noStrike">
                <a:solidFill>
                  <a:srgbClr val="ffffff"/>
                </a:solidFill>
                <a:latin typeface="Century Gothic"/>
              </a:rPr>
              <a:t>(infiltrirajući)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Grafik 3" descr="vijesti_324_v.jpg"/>
          <p:cNvPicPr/>
          <p:nvPr/>
        </p:nvPicPr>
        <p:blipFill>
          <a:blip r:embed="rId8"/>
          <a:stretch/>
        </p:blipFill>
        <p:spPr>
          <a:xfrm>
            <a:off x="0" y="5600880"/>
            <a:ext cx="12589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el 1" descr=""/>
          <p:cNvPicPr/>
          <p:nvPr/>
        </p:nvPicPr>
        <p:blipFill>
          <a:blip r:embed="rId1"/>
          <a:stretch/>
        </p:blipFill>
        <p:spPr>
          <a:xfrm>
            <a:off x="963720" y="328680"/>
            <a:ext cx="7253280" cy="8776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80520" y="1268280"/>
            <a:ext cx="851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Prema podacima iz 1990. god. u Sjedinjenim Američkim Državama svakih 15 minuta registriraju 4,28 novih slučajeva raka dojke tj. u istom intervalu od raka dojke umire jedna že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Žene crne rase imaju značajno nižu incidenciju raka dojke (možda zbog ranijih i brojnijih poroda), međutim nešto veći mortalitet (verovatno zbog kasnijeg dijagnosticiranja, ređe pozitivnih hormonskih receptora i lošijeg socijalnoekonomskog statusa, premda molekularni činioci nisu značajno različiti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Grafik 3" descr="slika16.jpg"/>
          <p:cNvPicPr/>
          <p:nvPr/>
        </p:nvPicPr>
        <p:blipFill>
          <a:blip r:embed="rId2"/>
          <a:stretch/>
        </p:blipFill>
        <p:spPr>
          <a:xfrm>
            <a:off x="1692360" y="4005360"/>
            <a:ext cx="6073560" cy="2474640"/>
          </a:xfrm>
          <a:prstGeom prst="rect">
            <a:avLst/>
          </a:prstGeom>
          <a:ln w="0">
            <a:noFill/>
          </a:ln>
        </p:spPr>
      </p:pic>
      <p:pic>
        <p:nvPicPr>
          <p:cNvPr id="357" name="Grafik 4" descr="vijesti_324_v.jpg"/>
          <p:cNvPicPr/>
          <p:nvPr/>
        </p:nvPicPr>
        <p:blipFill>
          <a:blip r:embed="rId3"/>
          <a:stretch/>
        </p:blipFill>
        <p:spPr>
          <a:xfrm>
            <a:off x="0" y="5384880"/>
            <a:ext cx="147636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-188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69228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S obzirom na lokaciju u dojci, rak se najčešće javlja u spoljnom gornjem kvadrantu (38,5%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Grafik 3" descr="slika17.jpg"/>
          <p:cNvPicPr/>
          <p:nvPr/>
        </p:nvPicPr>
        <p:blipFill>
          <a:blip r:embed="rId1"/>
          <a:stretch/>
        </p:blipFill>
        <p:spPr>
          <a:xfrm>
            <a:off x="2749680" y="2054160"/>
            <a:ext cx="3724200" cy="7559640"/>
          </a:xfrm>
          <a:prstGeom prst="rect">
            <a:avLst/>
          </a:prstGeom>
          <a:ln w="0">
            <a:noFill/>
          </a:ln>
        </p:spPr>
      </p:pic>
      <p:pic>
        <p:nvPicPr>
          <p:cNvPr id="361" name="Grafik 4" descr="vijesti_324_v.jpg"/>
          <p:cNvPicPr/>
          <p:nvPr/>
        </p:nvPicPr>
        <p:blipFill>
          <a:blip r:embed="rId2"/>
          <a:stretch/>
        </p:blipFill>
        <p:spPr>
          <a:xfrm>
            <a:off x="0" y="5402160"/>
            <a:ext cx="14590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el 1" descr=""/>
          <p:cNvPicPr/>
          <p:nvPr/>
        </p:nvPicPr>
        <p:blipFill>
          <a:blip r:embed="rId1"/>
          <a:stretch/>
        </p:blipFill>
        <p:spPr>
          <a:xfrm>
            <a:off x="1036800" y="-6480"/>
            <a:ext cx="7253280" cy="13716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880" y="1484280"/>
            <a:ext cx="8367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koje su imale prvu </a:t>
            </a:r>
            <a:r>
              <a:rPr b="0" lang="de-DE" sz="20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menstruaciju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 pre 12. god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koje su imale </a:t>
            </a:r>
            <a:r>
              <a:rPr b="0" lang="de-DE" sz="20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menopauzu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 pre 50. god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koje nisu rodile ili su rodile posle 30. god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kod kojih je kod </a:t>
            </a:r>
            <a:r>
              <a:rPr b="0" lang="de-DE" sz="20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biopsije</a:t>
            </a: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 dojke nađen poremećaj normalnih struktura </a:t>
            </a:r>
            <a:r>
              <a:rPr b="0" lang="de-DE" sz="20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ćelij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koje su operisane zbog raka jedne dojke (verovatna učestalost raka u drugoj dojci je oko 6%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entury Gothic"/>
              </a:rPr>
              <a:t>ako je u porodici neko od bliskih srodnika imao rak dojk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osle 50. godine života opasnost se povećava s gojaznosti i odnosom telesne težine prema visin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Žene s vlažnim cerumenom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(cerumen = </a:t>
            </a:r>
            <a:r>
              <a:rPr b="0" i="1" lang="sr-Latn-BA" sz="2000" spc="-1" strike="noStrike">
                <a:solidFill>
                  <a:srgbClr val="ffffff"/>
                </a:solidFill>
                <a:latin typeface="Century Gothic"/>
              </a:rPr>
              <a:t>uš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na mast)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sklonije su raku dojk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Grafik 3" descr="vijesti_324_v.jpg"/>
          <p:cNvPicPr/>
          <p:nvPr/>
        </p:nvPicPr>
        <p:blipFill>
          <a:blip r:embed="rId6"/>
          <a:stretch/>
        </p:blipFill>
        <p:spPr>
          <a:xfrm>
            <a:off x="0" y="5616720"/>
            <a:ext cx="12445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el 1" descr=""/>
          <p:cNvPicPr/>
          <p:nvPr/>
        </p:nvPicPr>
        <p:blipFill>
          <a:blip r:embed="rId1"/>
          <a:stretch/>
        </p:blipFill>
        <p:spPr>
          <a:xfrm>
            <a:off x="719280" y="36360"/>
            <a:ext cx="7443720" cy="8780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80880" y="691920"/>
            <a:ext cx="84391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280"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Neinvanzivni</a:t>
            </a:r>
            <a:r>
              <a:rPr b="1" i="1" lang="en-US" sz="1900" spc="-1" strike="noStrike">
                <a:solidFill>
                  <a:srgbClr val="ff88ba"/>
                </a:solidFill>
                <a:latin typeface="Century Gothic"/>
              </a:rPr>
              <a:t> oblici raka dojk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einfiltrirajući duktalni - </a:t>
            </a:r>
            <a:r>
              <a:rPr b="0" i="1" lang="en-US" sz="1900" spc="-1" strike="noStrike">
                <a:solidFill>
                  <a:srgbClr val="ffffff"/>
                </a:solidFill>
                <a:latin typeface="Century Gothic"/>
              </a:rPr>
              <a:t>Carcinoma in situ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einfiltrirajući lobularni - </a:t>
            </a:r>
            <a:r>
              <a:rPr b="0" i="1" lang="en-US" sz="1900" spc="-1" strike="noStrike">
                <a:solidFill>
                  <a:srgbClr val="ffffff"/>
                </a:solidFill>
                <a:latin typeface="Century Gothic"/>
              </a:rPr>
              <a:t>Carcinoma in situ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einfiltrirajući papilarni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Invazivni</a:t>
            </a:r>
            <a:r>
              <a:rPr b="1" i="1" lang="en-US" sz="1900" spc="-1" strike="noStrike">
                <a:solidFill>
                  <a:srgbClr val="ff88ba"/>
                </a:solidFill>
                <a:latin typeface="Century Gothic"/>
              </a:rPr>
              <a:t> oblici raka dojk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nfiltrirajući duktalni karcino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nfiltrirajući lobularni karcino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edularni karcino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ucinozni karcino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agetova boles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ubularni karcino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denoidno - cistični karcino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apilarni karcino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kretorni karcino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pokrini karcino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algn="r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ešani oblici karcinoma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32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Grafik 3" descr="vijesti_324_v.jpg"/>
          <p:cNvPicPr/>
          <p:nvPr/>
        </p:nvPicPr>
        <p:blipFill>
          <a:blip r:embed="rId4"/>
          <a:stretch/>
        </p:blipFill>
        <p:spPr>
          <a:xfrm>
            <a:off x="0" y="5186520"/>
            <a:ext cx="16747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el 1" descr=""/>
          <p:cNvPicPr/>
          <p:nvPr/>
        </p:nvPicPr>
        <p:blipFill>
          <a:blip r:embed="rId1"/>
          <a:stretch/>
        </p:blipFill>
        <p:spPr>
          <a:xfrm>
            <a:off x="895320" y="231840"/>
            <a:ext cx="7248600" cy="9018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5834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ko 90 % raka dojke nastaje u mlečnim kanalićima (duktusima)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. Duktalni karcinom in situ (lokalizovan na mestu nastanka) započinje rastom u mlečnim kanalićima. Zavisno od mesta u dojci, veličini i konzistenciji cele dojke on se može napipati, a ponekad se samo može videti na mamografiji kao sitne tačkice odlaganja kalcijuma (mikrokalcifikacije) ili UZV pregledu s kolor doplerom s programom za elastografiju. 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vaj tip karcinoma je najčešće lokalizovan na određeni deo dojke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i ukoliko se rano otkrije u fazi Ca in situ (karcinoma na mestu nastanka) bez daljeg širenja na okolne strukture može se hirurški u potpunosti odstraniti. Ako je uklonjen samo Ca in situ intraduktalnog karcinoma dojke, u oko 25-35 % žena se razvija invazivni rak, obično unutar iste dojk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Grafik 3" descr="vijesti_324_v.jpg"/>
          <p:cNvPicPr/>
          <p:nvPr/>
        </p:nvPicPr>
        <p:blipFill>
          <a:blip r:embed="rId2"/>
          <a:stretch/>
        </p:blipFill>
        <p:spPr>
          <a:xfrm>
            <a:off x="0" y="5589720"/>
            <a:ext cx="1271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el 1" descr=""/>
          <p:cNvPicPr/>
          <p:nvPr/>
        </p:nvPicPr>
        <p:blipFill>
          <a:blip r:embed="rId1"/>
          <a:stretch/>
        </p:blipFill>
        <p:spPr>
          <a:xfrm>
            <a:off x="895320" y="469800"/>
            <a:ext cx="7248600" cy="9511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2312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n započinje unutar mlečnih žlezda i obično se razvija pre menopauze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. Kod žena pre menopauze (generativna dob kada žena ima menstruaciju i može roditi) dojke su pune žlezdanog tkiva. Na mamografiji to su „guste dojke“ - bogate žlezdanim tkivom, u kojima nije lako razabrati prisutnost čvora ili neke druge žarišne promene u dojci. 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toga u dobi do menopauze apsolutno na prvom mestu dijagnostike je ultrazvučni pregled dojki s kolor doplerom i programom za elastografiju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. Između 25-30% žena koje ga imaju mogu razviti invazivni rak dojke, ponekad čak i 40 godina nakon pojavljivanja raka dojke i to u istoj ili suprotnoj dojc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3" name="Grafik 3" descr="vijesti_324_v.jpg"/>
          <p:cNvPicPr/>
          <p:nvPr/>
        </p:nvPicPr>
        <p:blipFill>
          <a:blip r:embed="rId2"/>
          <a:stretch/>
        </p:blipFill>
        <p:spPr>
          <a:xfrm>
            <a:off x="0" y="5241960"/>
            <a:ext cx="1619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6:10:26Z</dcterms:created>
  <dc:creator>Emir</dc:creator>
  <dc:description/>
  <dc:language>en-US</dc:language>
  <cp:lastModifiedBy>Emir</cp:lastModifiedBy>
  <dcterms:modified xsi:type="dcterms:W3CDTF">2011-12-22T17:00:45Z</dcterms:modified>
  <cp:revision>11</cp:revision>
  <dc:subject/>
  <dc:title>Epidemiološki prikaz karcinoma dojke</dc:title>
</cp:coreProperties>
</file>