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5F5-2AE3-4230-BA7A-1BF1DD9D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3AC-E10A-4277-8771-529C74AC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DDC-D404-4AAA-A21A-2A3A36E7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FEE-15E5-4AA0-90B3-56143C9A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8AD6B-8E1D-4392-9F80-ABAE43B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B873-84CF-4E90-BDDA-8D03B94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DE827-4A3D-47DF-8575-E28B191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CD1ED-206F-40E4-AE5A-2DC4EFE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DF3F-C9B9-4CCB-A84B-415F2B0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D23B5-9BB5-424B-8F62-08362E1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9B70-305D-4A5E-A6C8-8B70C9C5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1CC-2417-4BBE-90AE-43D109D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BC0D3-75B9-4624-88B5-C2656538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F8C00-1D8A-4CF8-879A-FA44787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6EA9-6844-4FEF-AA13-A741E4C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C324F-9C16-4560-B1B9-F5ACDF2A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19AF3-5E1E-444E-919F-107FDC7D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881-48A5-4870-AF1C-2579E786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CCE-FADF-4704-A8A7-4A6096D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E89-3E53-472E-8F9A-9F84F5A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648-18FA-44F6-8D59-461D3DF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5A9-AEB8-43B4-B3C3-3E3951B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140-5110-436D-9478-FD3BBD0B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1DC-7610-4702-8092-8EAAB89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BDA-5CD6-4451-B984-BD71625CAD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928-F496-4821-8C8B-4969F1C7E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Epidemiologija </a:t>
            </a:r>
            <a:br>
              <a:rPr sz="4400"/>
            </a:b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respirator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Ass dr Zorana Deljan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šte i specifične mere profilak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šte mere imaju poseban značaj u dečijim kolektivima, u svim ustanova za kolektivan smeštaj dece i odrasli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opšte profilaktičke mere spadaju: provetravanje, vlažno čišćenje, dezinfekcija, opšta i lična higijena, smanjivanje gustine smeštaja, izbegavanje velikih skupova i s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Specifična profilak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r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emi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o otkrivanje izvora zara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filaktička dez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stveno vas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ra izbora: delovanje na dispozic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Karakteristike epidemija 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kapljičnog porekl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zina prenoš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ksplozi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gli porast i brzi pad obolel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liki broj zdravih kliconoš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ezonski karak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eriodičnost ili cikl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avljaju se uglavnom u dečijim kolekti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centrično šir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Osnovne epidemiološke karakteristik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a respiratorna obolenja spadaju u najrasprostranjenija i najmasovnija obolenja u humanoj pop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ut prenošenja vazdu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novne zapaljenske promene lokalizovane su na sluznici respiratornog trak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tiologija: virusi i bakterije. Dominantni uzročnici su virusi; adenovirusi (41), influenca 1-3), parainfluenca (1-4), rinovirusi (89),  hemolitički streptokok grupe A, meningokok, haemofulus influence tip B it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vor (rezveroar) zaraze je čovek; inficiran, bolestan-u svim fazama bolesti, zdrav kliconoš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ovek je najzarazniji pred kraj inkub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akutno kliconoštvo, a hronično kliconoštvo ne posto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esto je postojanje zdravog kliconošt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ooantropozonoze: Q-groznica, bruceloza. Kod ovih bolesti izvor je životi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lavni put prenošenja je vazdušno-kapljični, manje kontakt (poljubac, pribor za jelo, maramice) i hrana (mleko, mladi s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Fenomen bačenog kam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koncentričan način širenja, po tipu geometrijske progres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lazno mesto: sluznica disajnih puteva, intaktna konjuktiva, ređe povre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etljivost: op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znate pod nazivom 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«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čije zarazne boles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»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Kontagioznost, nema specifičnog imuniteta, put prenoš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Posle bolesti ostaje specifičan imunitet različitog traj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jednog broja respiratornih zaraznih bolesti ostaje kratkotrajan imunitet, ili kratkotrajan tip specifičan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drugih se stvara doživotan (male bogin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kubacija: kratka (1-2) i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rednje duga (14 dan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jveći broj bolesti nema tipičnu kliničku sliku (blagi simptomi, atipične kliničke form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ali broj bolesti iz ove grupe ima tipične kliničke simtome:male boginje, veliki kašalj, zauške, varičela, rubeo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tačnu dijagnozu je osim kliničke slike i lokalizacije potrebna i laboratorijska dijagno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kazuju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zonsko kretanje, veći broj obolelih u hladnijim mese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alasasto kretanje-porast broja obolelih posle određenog broja godina (posle 2, 5, 7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avljaju se kao sporadični slučajevi, endemo-epidemijski, pandemijs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8:19:29Z</dcterms:created>
  <dc:creator>Intel</dc:creator>
  <dc:description/>
  <dc:language>en-US</dc:language>
  <cp:lastModifiedBy>ZORANA</cp:lastModifiedBy>
  <dcterms:modified xsi:type="dcterms:W3CDTF">2011-03-08T08:16:40Z</dcterms:modified>
  <cp:revision>21</cp:revision>
  <dc:subject/>
  <dc:title>Epidemiologija  respirator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